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E135-5C8E-458A-BB7D-F07316B93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FC76-9A9F-4E97-8B8D-B1EDF4CE2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79FD-4895-42DB-A7C2-6D2795E9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E26-69E1-45AB-A3E3-258BFE2D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1738-D5A6-4331-8C4A-1952CD44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9D1C-0724-470B-BAB0-FB949449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A5ED-D8CE-41CE-8DF9-FBD3174A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BA1E-4CE2-4026-A632-6199541A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5126-7A49-4E0A-B890-405856B4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0302-599C-4103-9DF3-C062FD1E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2381-5C0A-46E5-B7DD-EEE9240B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9033-9427-4AF0-B79B-D120F114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707E-B18B-41E4-A686-DD641DB1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3F72-3B00-46CB-8BFD-571639E9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94E0-0AD4-42F3-B47E-C5BB4DCB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4E90-B4C7-4A85-9800-09E63BD7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0193-718D-476A-B356-1FAB581A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63F1-9EE7-4BEE-9B46-353D9CF3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2A66-1937-49DF-B02E-C378184A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DF1C1-3C57-48B2-AB4A-60AB6E3A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B65D0-7881-4A07-8ECD-966CBF5D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856B0-47EC-446B-B4F6-8B1C1492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0E125-2D99-4741-9FFE-CB40B67B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5CB23-27BE-4B50-9C39-8EE4B1B9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373-F7CA-45F5-9DB1-1635CADC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A5B1F-8ABF-4A97-A65D-A31B661C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A2148-F3B9-4C5F-90D4-4C9395B4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16115-8E2C-4C19-8FBC-EC26FE82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89010-2D92-452C-896B-862EC1BE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78B28-5645-4B05-8905-9276313A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1C7D2-6662-4129-BD24-17929079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0E088-2EF5-48F3-A70B-85EA1A9D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55971-AE46-4D99-8FA7-465F9D27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CA41C-F8C6-41B5-9A4C-47B54DF5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07D3A-8A25-49C5-B8A8-9563666D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896-0431-47AB-A40E-F72ECF75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B4797-7C87-406F-8007-661C3E9C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B5724-2826-42D2-BAF5-2D5A8A15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971AB-D32E-418B-9E3F-7517FCD4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89E0D-842E-427C-A4BC-7FF82CF6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708AD-4229-43D7-8D61-16E69075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A7517-C9CC-44A9-97D7-42C7661E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4B8C6-C3F6-4F76-AB72-7EDB8C0E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9FADE-8736-4491-99A4-7FDAFF47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B023F-6B4B-442B-85DE-36A6CE9D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140F5-E7F4-4642-96C7-A7B092B2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F87-84B5-4303-B71A-5BB29D63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05C6C-9F5A-4D08-B4D6-BAB3FD91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D6123-7F1E-4096-ACE4-C73F7EE0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2AC79-C23E-48B5-AA70-74E6BE82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77623-2A8D-4692-AAB4-EE8C5665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E69E9-01EA-4836-B80C-68D41BD0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88B0C-724E-44D1-BF94-ADED8382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85D2C-6A61-43E3-B199-6B95E76E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33E17-74D8-48A7-85D6-1AF0B7C3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1469E-2BF5-4EFC-BB56-1D368D88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A7CE9-DABE-491F-BA89-FC1F6970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7DD1-504F-4D82-9B82-BC902375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CDC4A-3636-4539-BCDF-1408D6C3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78E0A-D259-4D81-99AF-675F0415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71439-6D8B-4A6D-AEB2-4DE15FDE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D7E73-D661-4188-98D6-65E1A900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861C3-8D0C-4EE6-B02D-BAE4BA63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E8907-1467-4974-B31E-F9765006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5BBDE-35E5-4EC5-A14D-0AF09098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468D9-3EEC-4755-A3F8-B945DE0B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2E028-2AEA-49A0-AC29-E6B73BDB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BA825-678D-400A-BA1E-EEA2492C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A9D6-D521-481C-854D-D9E8DF8E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E3A13-BCB7-4388-9CED-79E98CC3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75930-E474-4CF7-AF48-E3824FD7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3B558-B69C-4875-914A-FEC2AFA5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A4C7-016D-454D-AE55-134FCAB5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4929-ECFF-4B74-8989-F94FFEB0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D393-06C5-41F7-89EA-2C9B07D6F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4B82-F2FB-47C9-8DD9-9A83D23C8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C5BB-D3AB-48B2-BEB9-7822DA204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9C7E-52F3-43A4-B593-76752CCB3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9FEA-9937-4AC3-8A6E-8B32DCE05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1DAE-5D5D-425D-A83A-FDCCA58DD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6560" y="44956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ервая помощ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Sign_first_aid"/>
          <p:cNvPicPr/>
          <p:nvPr/>
        </p:nvPicPr>
        <p:blipFill>
          <a:blip r:embed="rId1"/>
          <a:stretch/>
        </p:blipFill>
        <p:spPr>
          <a:xfrm>
            <a:off x="2585880" y="797040"/>
            <a:ext cx="37036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160" y="448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Приказ </a:t>
            </a:r>
            <a:br>
              <a:rPr sz="4000"/>
            </a:b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Минздравсоцразвития России </a:t>
            </a:r>
            <a:br>
              <a:rPr sz="4000"/>
            </a:b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т 04.05.2012 N477н</a:t>
            </a:r>
            <a:r>
              <a:rPr b="1" lang="ru-RU" sz="3200" spc="-1" strike="noStrike">
                <a:solidFill>
                  <a:srgbClr val="828282"/>
                </a:solidFill>
                <a:latin typeface="Arial"/>
              </a:rPr>
              <a:t>  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Об утверждении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еречня состоян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и которых оказывается первая помощь и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еречня мероприят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 оказанию первой помощ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ложение №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риказу Министерства здравоохра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оциальн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04 мая 2012 г. №  477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чень состояний, при которых оказывается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ановка дыхания и кровообра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ружные кровот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ородные тела верхних дыхательных пу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вмы различных областей т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жоги, эффекты воздействия высоких температур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плового изл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морожение и другие эффекты воздействия низки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ерат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11200" y="1436400"/>
            <a:ext cx="7313760" cy="92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ожение № 2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приказу Министерства здравоохране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оциального развит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сийской Федераци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04 мая 2012 г. №  477н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363600" y="1990800"/>
            <a:ext cx="8632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чень мероприятий по оказанию перв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Мероприятия по оценке обстановки и обеспечению безопасных условий для оказания первой помощ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Вызов скорой медицинской помощи, других специальных служб, сотрудники котор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Определение наличия сознания у пострадавш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Мероприятия по восстановлению проходимости дыхательных путей и определению признаков жизни у пострадавш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Мероприятия по проведению сердечно-легочной реанимации до появления признаков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Мероприятия по поддержанию проходимости дыхательных пу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Мероприятия по обзорному осмотру пострадавшего и временной остановке наружного кровоте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Мероприятия по подробному осмотру пострадавшего в целях выявления признаков травм, отравлений и других состояний, угрожающих его жизни и здоровью, и по оказанию первой помощи в случае выявления указанных состоя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 Придание пострадавшему оптимального положения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 Контроль состояния пострадавшего (сознание, дыхание, кровообращение) и оказание психологической поддерж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 Передача пострадавшего бригаде скорой медицинской помощи, другим специальным службам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уни схема"/>
          <p:cNvPicPr/>
          <p:nvPr/>
        </p:nvPicPr>
        <p:blipFill>
          <a:blip r:embed="rId1"/>
          <a:stretch/>
        </p:blipFill>
        <p:spPr>
          <a:xfrm>
            <a:off x="1436760" y="0"/>
            <a:ext cx="527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2640" y="5265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татья 31. «Первая помощь»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еречень состояний, при которых оказывается первая помощь, и перечень мероприятий по оказанию первой помощи утверждаются уполномоченным федеральным органом исполнительной вла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имерные программы учебного курса, предмета и дисциплины по оказанию первой помощи разрабатываются уполномоченным федеральным органом исполнительной власти и утверждаются в порядке, установленном законодательством Российской Федераци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217080" y="0"/>
            <a:ext cx="86425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«Все о первой помощ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www.allfirstaid.r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7280" y="48700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данным St. John Ambulance  ежегодно оказание первой помощи в Великобритании способно спасти около </a:t>
            </a:r>
            <a:br>
              <a:rPr sz="4000"/>
            </a:b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140 000 жизней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но столько же людей там ежегодно умирает от ра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3280" y="1460160"/>
            <a:ext cx="839484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ПЕРВАЯ ПОМОЩЬ В РОССИИ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459080" y="3444840"/>
            <a:ext cx="693576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журный Леонид Игореви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.м.н., ведущий научный сотру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БУ «ЦНИИОИЗ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лен межведомственной рабочей группы по совершенствованию оказания первой помощи в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311040"/>
            <a:ext cx="9144000" cy="654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Трудовой кодекс Российской Федерации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</a:rPr>
              <a:t>Ст. 216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 органы исполнительной власти субъектов Российской Федерации в области охраны труда …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а также проведение обучения оказанию первой помощи пострадавшим на производств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…»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6600"/>
                </a:solidFill>
                <a:latin typeface="Arial"/>
              </a:rPr>
              <a:t>Ст. 212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Работодатель обязан обеспечить … обучение безопасным методам и приемам выполнения работ и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оказанию первой помощи пострадавшим на производств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…»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6600"/>
                </a:solidFill>
                <a:latin typeface="Arial"/>
              </a:rPr>
              <a:t>Ст. 225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… работодатель или уполномоченное им лицо обязаны … организовывать обучение безопасным методам и приемам выполнения работ и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оказания первой помощи пострадавши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. 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</a:rPr>
              <a:t>Ст. 228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Работодатель при несчастном случае на производстве обязан…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немедленно организовать первую помощь пострадавшему …».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</a:rPr>
              <a:t>Ст. 214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Работник обязан…проходить обучение безопасным методам и приемам выполнения работ и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оказанию первой помощи пострадавшим на производстве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»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06280" y="741240"/>
            <a:ext cx="7313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Статья 31. «Первая помощ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100160" y="2735280"/>
            <a:ext cx="7313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З «Об основах охраны здоровья граждан  Российской Федерации» от 21 ноября 2011 г. N 323-Ф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743040" y="11160"/>
            <a:ext cx="5992560" cy="82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Статья 31. «Первая помощь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одители транспортных средств и другие лица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прав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казывать первую помощь при наличии соответствующей подготовки и (или) навык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свобождение от ответств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оловное и административное законодательство не признают правонарушением причинение вреда охраняемым законом интересам в состояни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райней необходимост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ч. 1 ст. 39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Крайняя необходимость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головного кодекса РФ; ст. 2.7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Крайняя необходимость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декса РФ об административных правонарушениях»)</a:t>
            </a:r>
            <a:br>
              <a:rPr sz="28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ощрение за оказание первой пом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азание первой помощи пострадавшему учитывается как обстоятельство, смягчающее наказание (п. 2 ч. 1 ст. 4.2 Кодекса РФ об административных правонарушениях; п. «к» ч. 1 ст. 61 Уголовного Кодекса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6:23:51Z</dcterms:created>
  <dc:creator>G</dc:creator>
  <dc:description/>
  <dc:language>en-US</dc:language>
  <cp:lastModifiedBy>Наталья</cp:lastModifiedBy>
  <dcterms:modified xsi:type="dcterms:W3CDTF">2016-02-12T11:32:50Z</dcterms:modified>
  <cp:revision>47</cp:revision>
  <dc:subject/>
  <dc:title>Первая помощь в России.  История и перспективы</dc:title>
</cp:coreProperties>
</file>