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64CB7-C1BD-415F-8CCA-B13E8466C8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AED18-9B8E-4C2C-87C2-03F6191F35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A6101-92F7-4D1D-9F8D-B63A9ED39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8A58C-69AB-4C15-A936-8392E13EC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638DA-0E46-44E0-9ED7-4D67D61C8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34DE9-CD34-4D3D-84E1-9D66BDED4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72355-78E9-42A6-9ECF-7CECF723C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C8F83-B790-4D25-BF7A-E7B104657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D2A4C-488F-4636-B499-A866EEA99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BE9AA-6270-4006-8EA4-3471A3D9A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1622D-4781-4637-A2C9-4152947C5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9C7D6-35AE-45F3-903A-8A654BF9D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C9F34-48B9-441A-8948-DEF0EEC21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D3F67-A194-480E-9494-43C8E3024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9CA5A-7C8A-4E61-BDD8-1563286F1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4A525-FCCA-4AB7-BB6F-F7C2AFD28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B47DB-ABAE-4801-92D2-C808411E5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55731-8ADC-4E4F-9C87-AAFCC4A88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8094B-7C21-4B1F-A054-18439A03E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8EE11F-284B-4981-9F5E-6C6E482E9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EAE019-2A33-40DF-A0B0-8FA42AD66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314DF3-C2EF-492D-9816-2A2C16A84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7A8558-A884-408C-8934-564E723AE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B1398C-D5E4-4979-84A5-320BAF37A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79451-A341-48D7-93F4-03D34B14D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7511B0-D266-4F97-9A42-45F47AD8B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C8BC91-2CFC-4916-BE9E-171668D6D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C8B5C8-BDF6-4F3E-8B27-E4249DB53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836728-F3F0-414D-8BDF-91BDE8827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CA9A5E-5345-4F6D-A60A-C08C09D03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311CC1-3C73-4499-8649-B1F9B7945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829963-1BAB-4CAC-B13E-5B2B8AFB5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92E1E3-A653-47DE-9490-5E55DC831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8F93CC-72A7-4F7E-A908-C4F5A205B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A925D2-1433-48AC-B416-AE32EE6A7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5C093-2965-43B2-BCC1-441896251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AFC079-30F9-4640-8F4D-9BE19E941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CF09A1-6DE3-4490-B5E4-2AC754026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7867E0-5E17-418F-A645-7AB171137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F446B3-A864-4005-AB10-3F54CBCE8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2C62FA-BBD3-4567-A6EF-6B8072CCE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5E6489-3516-4EF3-947C-B4CAE30FB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CDF35B-205A-431D-974F-3481EF6A7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698B51-8D37-4F7E-9F6F-31D663FD8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595517-74AC-4850-8E46-F9894DDED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75F3D1-9759-4C18-AEFD-C77658D55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606FA-6EAA-4616-A9C8-FBEB84EB8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0D5ED5-4125-4039-8D5E-262904939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668CD0-1319-469D-89AA-673C6367E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DF323C-9DAE-43A1-8AD0-5EEA62290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38B035-3E88-43A3-96D1-5FFE64AD0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DB2BA7-9B86-4802-BDDC-178288F95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25EDC5-88E9-4DC6-9141-128CF6D36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24E4B6-ED21-4AAB-9300-C629E7F0B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6C8958-D261-4E30-8DAC-75C298B59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5FDAFF-CDDC-413B-BAB0-0C442454C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AD8C9D-F3C5-4476-884B-9D1640373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51FE4-CA78-4A5F-A205-E580D366A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08E8D7-5257-4E42-8069-D24052326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BF75E6-86B6-4E53-93B8-7C1FB70D8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D4F697-DFE2-4844-8118-68E9F31F1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0C26F9-5D98-4CA1-9374-4B1532F57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D1EC1C-36A6-4855-BEE2-254AD96C1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D2D387-F04C-4EB4-9715-3975104C4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E0638C-BEFD-480C-B5C6-71125E0E9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35CE67-A805-4E73-AD40-C74AAD840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9D9A9C-C71E-4D23-A505-B9EC623C8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94771C-0FF2-4D83-83AA-3DE1743CF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5C97A-632C-4650-802C-CE6F04BFF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B4DD64-2A37-462B-922A-517F23877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19871E-4D95-4896-BDD8-A882AB5CB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2678E7-FCDD-4A49-81E0-3CBD8BBA6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C9218-6FD8-43F8-98D9-93A2A01D2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7005A-C9C1-4E17-99F7-6C1AFF48E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3FC42-4B64-4E87-A446-4197345B2D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2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5D3E9-B125-4B0C-8C6B-585F1A1DF6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C4A61-ADC0-4384-BE8D-DCEE358DAD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559A1-2B26-4ADA-8E85-FD9E5A0E46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2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2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77484-2B4E-43BC-8DA2-11307CB1BE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2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2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67FE8-8BE8-450B-9673-E1F7B62D87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66560" y="449568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Первая помощ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3" descr="Sign_first_aid"/>
          <p:cNvPicPr/>
          <p:nvPr/>
        </p:nvPicPr>
        <p:blipFill>
          <a:blip r:embed="rId1"/>
          <a:stretch/>
        </p:blipFill>
        <p:spPr>
          <a:xfrm>
            <a:off x="2585880" y="797040"/>
            <a:ext cx="3703680" cy="370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33160" y="448128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00"/>
                </a:solidFill>
                <a:latin typeface="Arial"/>
              </a:rPr>
              <a:t>Приказ </a:t>
            </a:r>
            <a:br>
              <a:rPr sz="4000"/>
            </a:br>
            <a:r>
              <a:rPr b="1" lang="ru-RU" sz="4000" spc="-1" strike="noStrike">
                <a:solidFill>
                  <a:srgbClr val="006600"/>
                </a:solidFill>
                <a:latin typeface="Arial"/>
              </a:rPr>
              <a:t>Минздравсоцразвития России </a:t>
            </a:r>
            <a:br>
              <a:rPr sz="4000"/>
            </a:br>
            <a:r>
              <a:rPr b="1" lang="ru-RU" sz="4000" spc="-1" strike="noStrike">
                <a:solidFill>
                  <a:srgbClr val="006600"/>
                </a:solidFill>
                <a:latin typeface="Arial"/>
              </a:rPr>
              <a:t>от 04.05.2012 N477н</a:t>
            </a:r>
            <a:r>
              <a:rPr b="1" lang="ru-RU" sz="3200" spc="-1" strike="noStrike">
                <a:solidFill>
                  <a:srgbClr val="828282"/>
                </a:solidFill>
                <a:latin typeface="Arial"/>
              </a:rPr>
              <a:t>   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«Об утверждении </a:t>
            </a: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перечня состояний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при которых оказывается первая помощь и </a:t>
            </a: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перечня мероприятий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по оказанию первой помощи»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ложение №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 приказу Министерства здравоохран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 социального развит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оссийской Федер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т 04 мая 2012 г. №  477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ечень состояний, при которых оказывается </a:t>
            </a: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первая помощь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тсутствие созн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становка дыхания и кровообращ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ружные кровотеч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нородные тела верхних дыхательных пут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равмы различных областей те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жоги, эффекты воздействия высоких температур,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еплового излуч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тморожение и другие эффекты воздействия низких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емперату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8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травл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411200" y="1436400"/>
            <a:ext cx="7313760" cy="927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ложение № 2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 приказу Министерства здравоохранения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 социального развития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оссийской Федерации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т 04 мая 2012 г. №  477н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363600" y="1990800"/>
            <a:ext cx="8632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еречень мероприятий по оказанию первой помощ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. Мероприятия по оценке обстановки и обеспечению безопасных условий для оказания первой помощ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. Вызов скорой медицинской помощи, других специальных служб, сотрудники которых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. Определение наличия сознания у пострадавшег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4. Мероприятия по восстановлению проходимости дыхательных путей и определению признаков жизни у пострадавшег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5. Мероприятия по проведению сердечно-легочной реанимации до появления признаков жизн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6. Мероприятия по поддержанию проходимости дыхательных путе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7. Мероприятия по обзорному осмотру пострадавшего и временной остановке наружного кровотече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8. Мероприятия по подробному осмотру пострадавшего в целях выявления признаков травм, отравлений и других состояний, угрожающих его жизни и здоровью, и по оказанию первой помощи в случае выявления указанных состояни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9. Придание пострадавшему оптимального положения тел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0. Контроль состояния пострадавшего (сознание, дыхание, кровообращение) и оказание психологической поддержк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1. Передача пострадавшего бригаде скорой медицинской помощи, другим специальным службам, сотрудники которых обязаны оказывать первую помощь в соответствии с федеральным законом или со специальным правило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Picture 2" descr="уни схема"/>
          <p:cNvPicPr/>
          <p:nvPr/>
        </p:nvPicPr>
        <p:blipFill>
          <a:blip r:embed="rId1"/>
          <a:stretch/>
        </p:blipFill>
        <p:spPr>
          <a:xfrm>
            <a:off x="1436760" y="0"/>
            <a:ext cx="5276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242640" y="526536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Статья 31. «Первая помощь»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6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 Перечень состояний, при которых оказывается первая помощь, и перечень мероприятий по оказанию первой помощи утверждаются уполномоченным федеральным органом исполнительной власти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 Примерные программы учебного курса, предмета и дисциплины по оказанию первой помощи разрабатываются уполномоченным федеральным органом исполнительной власти и утверждаются в порядке, установленном законодательством Российской Федерации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 txBox="1"/>
          <p:nvPr/>
        </p:nvSpPr>
        <p:spPr>
          <a:xfrm>
            <a:off x="217080" y="0"/>
            <a:ext cx="8642520" cy="56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6600"/>
                </a:solidFill>
                <a:latin typeface="Arial"/>
              </a:rPr>
              <a:t>«Все о первой помощи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6600"/>
                </a:solidFill>
                <a:latin typeface="Arial"/>
              </a:rPr>
              <a:t>www.allfirstaid.ru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17280" y="487008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о данным St. John Ambulance  ежегодно оказание первой помощи в Великобритании способно спасти около </a:t>
            </a:r>
            <a:br>
              <a:rPr sz="4000"/>
            </a:br>
            <a:r>
              <a:rPr b="1" lang="ru-RU" sz="4000" spc="-1" strike="noStrike">
                <a:solidFill>
                  <a:srgbClr val="006600"/>
                </a:solidFill>
                <a:latin typeface="Arial"/>
              </a:rPr>
              <a:t>140 000 жизней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имерно столько же людей там ежегодно умирает от рак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93280" y="1460160"/>
            <a:ext cx="839484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00"/>
                </a:solidFill>
                <a:latin typeface="Arial"/>
              </a:rPr>
              <a:t>ПЕРВАЯ ПОМОЩЬ В РОССИИ.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1459080" y="3444840"/>
            <a:ext cx="6935760" cy="28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ежурный Леонид Игоревич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.м.н., ведущий научный сотрудн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ГБУ «ЦНИИОИЗ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лен межведомственной рабочей группы по совершенствованию оказания первой помощи в Российской Федер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0" y="311040"/>
            <a:ext cx="9144000" cy="6546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Трудовой кодекс Российской Федерации</a:t>
            </a: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 </a:t>
            </a:r>
            <a:br>
              <a:rPr sz="2400"/>
            </a:br>
            <a:r>
              <a:rPr b="1" lang="ru-RU" sz="2200" spc="-1" strike="noStrike">
                <a:solidFill>
                  <a:srgbClr val="006600"/>
                </a:solidFill>
                <a:latin typeface="Arial"/>
              </a:rPr>
              <a:t>Ст. 216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« органы исполнительной власти субъектов Российской Федерации в области охраны труда …</a:t>
            </a:r>
            <a:r>
              <a:rPr b="1" lang="ru-RU" sz="2200" spc="-1" strike="noStrike">
                <a:solidFill>
                  <a:srgbClr val="ff0000"/>
                </a:solidFill>
                <a:latin typeface="Arial"/>
              </a:rPr>
              <a:t>а также проведение обучения оказанию первой помощи пострадавшим на производстве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…».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006600"/>
                </a:solidFill>
                <a:latin typeface="Arial"/>
              </a:rPr>
              <a:t>Ст. 212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«Работодатель обязан обеспечить … обучение безопасным методам и приемам выполнения работ и </a:t>
            </a:r>
            <a:r>
              <a:rPr b="1" lang="ru-RU" sz="2200" spc="-1" strike="noStrike">
                <a:solidFill>
                  <a:srgbClr val="ff0000"/>
                </a:solidFill>
                <a:latin typeface="Arial"/>
              </a:rPr>
              <a:t>оказанию первой помощи пострадавшим на производстве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…».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006600"/>
                </a:solidFill>
                <a:latin typeface="Arial"/>
              </a:rPr>
              <a:t>Ст. 225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«… работодатель или уполномоченное им лицо обязаны … организовывать обучение безопасным методам и приемам выполнения работ и </a:t>
            </a:r>
            <a:r>
              <a:rPr b="1" lang="ru-RU" sz="2200" spc="-1" strike="noStrike">
                <a:solidFill>
                  <a:srgbClr val="ff0000"/>
                </a:solidFill>
                <a:latin typeface="Arial"/>
              </a:rPr>
              <a:t>оказания первой помощи пострадавшим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». </a:t>
            </a:r>
            <a:br>
              <a:rPr sz="2200"/>
            </a:br>
            <a:r>
              <a:rPr b="1" lang="ru-RU" sz="2200" spc="-1" strike="noStrike">
                <a:solidFill>
                  <a:srgbClr val="006600"/>
                </a:solidFill>
                <a:latin typeface="Arial"/>
              </a:rPr>
              <a:t>Ст. 228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«Работодатель при несчастном случае на производстве обязан… </a:t>
            </a:r>
            <a:r>
              <a:rPr b="1" lang="ru-RU" sz="2200" spc="-1" strike="noStrike">
                <a:solidFill>
                  <a:srgbClr val="ff0000"/>
                </a:solidFill>
                <a:latin typeface="Arial"/>
              </a:rPr>
              <a:t>немедленно организовать первую помощь пострадавшему …».</a:t>
            </a:r>
            <a:br>
              <a:rPr sz="2200"/>
            </a:br>
            <a:r>
              <a:rPr b="1" lang="ru-RU" sz="2200" spc="-1" strike="noStrike">
                <a:solidFill>
                  <a:srgbClr val="006600"/>
                </a:solidFill>
                <a:latin typeface="Arial"/>
              </a:rPr>
              <a:t>Ст. 214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«Работник обязан…проходить обучение безопасным методам и приемам выполнения работ и </a:t>
            </a:r>
            <a:r>
              <a:rPr b="1" lang="ru-RU" sz="2200" spc="-1" strike="noStrike">
                <a:solidFill>
                  <a:srgbClr val="ff0000"/>
                </a:solidFill>
                <a:latin typeface="Arial"/>
              </a:rPr>
              <a:t>оказанию первой помощи пострадавшим на производстве</a:t>
            </a:r>
            <a:r>
              <a:rPr b="0" lang="ru-RU" sz="2200" spc="-1" strike="noStrike">
                <a:solidFill>
                  <a:srgbClr val="ff0000"/>
                </a:solidFill>
                <a:latin typeface="Arial"/>
              </a:rPr>
              <a:t>».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06280" y="741240"/>
            <a:ext cx="7313400" cy="147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6600"/>
                </a:solidFill>
                <a:latin typeface="Arial"/>
              </a:rPr>
              <a:t>Статья 31. «Первая помощь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1100160" y="2735280"/>
            <a:ext cx="7313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ФЗ «Об основах охраны здоровья граждан  Российской Федерации» от 21 ноября 2011 г. N 323-Ф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Picture 3" descr=""/>
          <p:cNvPicPr/>
          <p:nvPr/>
        </p:nvPicPr>
        <p:blipFill>
          <a:blip r:embed="rId1"/>
          <a:stretch/>
        </p:blipFill>
        <p:spPr>
          <a:xfrm>
            <a:off x="743040" y="11160"/>
            <a:ext cx="5992560" cy="82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/>
          </p:nvPr>
        </p:nvSpPr>
        <p:spPr>
          <a:xfrm>
            <a:off x="468360" y="69192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00"/>
                </a:solidFill>
                <a:latin typeface="Arial"/>
              </a:rPr>
              <a:t>Статья 31. «Первая помощь»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. Водители транспортных средств и другие лица </a:t>
            </a:r>
            <a:r>
              <a:rPr b="1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вправ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оказывать первую помощь при наличии соответствующей подготовки и (или) навыков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/>
          </p:nvPr>
        </p:nvSpPr>
        <p:spPr>
          <a:xfrm>
            <a:off x="250920" y="692280"/>
            <a:ext cx="8642160" cy="56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Освобождение от ответствен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головное и административное законодательство не признают правонарушением причинение вреда охраняемым законом интересам в состоянии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крайней необходимости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ч. 1 ст. 39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«Крайняя необходимость»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Уголовного кодекса РФ; ст. 2.7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«Крайняя необходимость»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Кодекса РФ об административных правонарушениях»)</a:t>
            </a:r>
            <a:br>
              <a:rPr sz="28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/>
          </p:nvPr>
        </p:nvSpPr>
        <p:spPr>
          <a:xfrm>
            <a:off x="250920" y="692280"/>
            <a:ext cx="8642160" cy="56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Поощрение за оказание первой помощ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казание первой помощи пострадавшему учитывается как обстоятельство, смягчающее наказание (п. 2 ч. 1 ст. 4.2 Кодекса РФ об административных правонарушениях; п. «к» ч. 1 ст. 61 Уголовного Кодекса РФ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5T06:23:51Z</dcterms:created>
  <dc:creator>G</dc:creator>
  <dc:description/>
  <dc:language>en-US</dc:language>
  <cp:lastModifiedBy>Наталья</cp:lastModifiedBy>
  <dcterms:modified xsi:type="dcterms:W3CDTF">2016-02-12T11:32:50Z</dcterms:modified>
  <cp:revision>47</cp:revision>
  <dc:subject/>
  <dc:title>Первая помощь в России.  История и перспективы</dc:title>
</cp:coreProperties>
</file>