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811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3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4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BD00F-7333-4391-AB00-FBCC912FFE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AA436-0235-4CB2-9354-02D49A05EE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962C5-725A-40D7-9A0A-F159AE6197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70C02-BF0C-4A89-A51C-A9ACDF020D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57527-E8E7-458D-AAFD-610AE0EEF3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EBE62-8615-44C3-A155-26799759FE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572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3340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804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572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3340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E9F23-DD06-4868-A53F-1437CBE68D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98320" y="134640"/>
            <a:ext cx="623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9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A1CD5-11A4-47D7-A9EC-0D4298241F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572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3340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9804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572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3340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F8350-CF67-43CE-9444-A8C4F05EAD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488A2-6CF9-46E1-AF09-60844933EA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04D11-7217-4A86-991F-EDC19CC37A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98320" y="134640"/>
            <a:ext cx="623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9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D64E5-C31E-4F13-8439-49E9283A98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60367-2CC0-4FA9-A919-AFC9CCCDAC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6C032-2468-4AC5-AADA-43A6EF4A5A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71770-02EB-43EB-9221-68E31F7844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6120" indent="-276120">
              <a:spcAft>
                <a:spcPts val="975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1" marL="530280" indent="-252360">
              <a:spcAft>
                <a:spcPts val="975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2" marL="808200" indent="-276480">
              <a:spcAft>
                <a:spcPts val="975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3" marL="1062000" indent="-252360">
              <a:spcAft>
                <a:spcPts val="975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4" marL="1347840" indent="-284040">
              <a:spcAft>
                <a:spcPts val="975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5" marL="1347840" indent="-284040">
              <a:spcAft>
                <a:spcPts val="975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6" marL="1347840" indent="-284040">
              <a:spcAft>
                <a:spcPts val="975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143560" y="6330600"/>
            <a:ext cx="576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3B2FD-023B-4DD0-A6E5-D8920E89A5E9}" type="slidenum">
              <a:rPr b="1" lang="ru-RU" sz="2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811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6120" indent="-276120">
              <a:spcAft>
                <a:spcPts val="975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1" marL="530280" indent="-252360">
              <a:spcAft>
                <a:spcPts val="975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2" marL="808200" indent="-276480">
              <a:spcAft>
                <a:spcPts val="975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3" marL="1062000" indent="-252360">
              <a:spcAft>
                <a:spcPts val="975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4" marL="1347840" indent="-284040">
              <a:spcAft>
                <a:spcPts val="975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5" marL="1347840" indent="-284040">
              <a:spcAft>
                <a:spcPts val="975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6" marL="1347840" indent="-284040">
              <a:spcAft>
                <a:spcPts val="975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811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98320" y="434880"/>
            <a:ext cx="6235920" cy="139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3811f"/>
                </a:solidFill>
                <a:latin typeface="Arial"/>
              </a:rPr>
              <a:t>Процесс предоставления услуги</a:t>
            </a:r>
            <a:br>
              <a:rPr sz="2800"/>
            </a:br>
            <a:br>
              <a:rPr sz="2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о 1.10.2011 г.</a:t>
            </a:r>
            <a:endParaRPr b="1" lang="en-US" sz="1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8143920" y="633096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5D863-6F05-4931-8809-F1684977693C}" type="slidenum">
              <a:rPr b="1" lang="ru-RU" sz="2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Номер слайда 3"/>
          <p:cNvSpPr/>
          <p:nvPr/>
        </p:nvSpPr>
        <p:spPr>
          <a:xfrm>
            <a:off x="8143920" y="633096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3D67B-245F-4BB1-AE1B-092C8C9D56BA}" type="slidenum">
              <a:rPr b="1" lang="ru-RU" sz="2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1"/>
          <a:stretch/>
        </p:blipFill>
        <p:spPr>
          <a:xfrm>
            <a:off x="5052960" y="2701800"/>
            <a:ext cx="3467160" cy="2400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"/>
          <p:cNvPicPr/>
          <p:nvPr/>
        </p:nvPicPr>
        <p:blipFill>
          <a:blip r:embed="rId2"/>
          <a:stretch/>
        </p:blipFill>
        <p:spPr>
          <a:xfrm>
            <a:off x="243000" y="5072040"/>
            <a:ext cx="5829120" cy="1295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"/>
          <p:cNvPicPr/>
          <p:nvPr/>
        </p:nvPicPr>
        <p:blipFill>
          <a:blip r:embed="rId3"/>
          <a:stretch/>
        </p:blipFill>
        <p:spPr>
          <a:xfrm>
            <a:off x="503280" y="1738440"/>
            <a:ext cx="4591080" cy="1133280"/>
          </a:xfrm>
          <a:prstGeom prst="rect">
            <a:avLst/>
          </a:prstGeom>
          <a:ln w="0">
            <a:noFill/>
          </a:ln>
        </p:spPr>
      </p:pic>
      <p:sp>
        <p:nvSpPr>
          <p:cNvPr id="90" name="Выгнутая влево стрелка 7"/>
          <p:cNvSpPr/>
          <p:nvPr/>
        </p:nvSpPr>
        <p:spPr>
          <a:xfrm rot="19927200">
            <a:off x="4186080" y="2720880"/>
            <a:ext cx="600120" cy="1470240"/>
          </a:xfrm>
          <a:custGeom>
            <a:avLst/>
            <a:gdLst>
              <a:gd name="textAreaLeft" fmla="*/ 80280 w 600120"/>
              <a:gd name="textAreaRight" fmla="*/ 519840 w 600120"/>
              <a:gd name="textAreaTop" fmla="*/ 309960 h 1470240"/>
              <a:gd name="textAreaBottom" fmla="*/ 1067760 h 147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108" stAng="-5400000" swAng="-5400000"/>
                <a:lnTo>
                  <a:pt x="0" y="11134"/>
                </a:lnTo>
                <a:arcTo wR="21600" hR="9108" stAng="10800000" swAng="-3062821"/>
                <a:lnTo>
                  <a:pt x="14631" y="21113"/>
                </a:lnTo>
                <a:lnTo>
                  <a:pt x="21600" y="19228"/>
                </a:lnTo>
                <a:lnTo>
                  <a:pt x="14631" y="16369"/>
                </a:lnTo>
                <a:lnTo>
                  <a:pt x="14631" y="17728"/>
                </a:lnTo>
                <a:arcTo wR="21600" hR="9108" stAng="7737179" swAng="2900710"/>
                <a:lnTo>
                  <a:pt x="134" y="10120"/>
                </a:lnTo>
                <a:arcTo wR="21600" hR="9108" stAng="-10637890" swAng="5237890"/>
                <a:close/>
              </a:path>
              <a:path fill="darkenLess" w="21600" h="21600">
                <a:moveTo>
                  <a:pt x="21600" y="0"/>
                </a:moveTo>
                <a:arcTo wR="21600" hR="9108" stAng="-5400000" swAng="-5400000"/>
                <a:lnTo>
                  <a:pt x="0" y="9108"/>
                </a:lnTo>
                <a:arcTo wR="21600" hR="9108" stAng="10800000" swAng="-162110"/>
                <a:lnTo>
                  <a:pt x="134" y="10120"/>
                </a:lnTo>
                <a:arcTo wR="21600" hR="9108" stAng="-10637890" swAng="5237890"/>
                <a:close/>
              </a:path>
            </a:pathLst>
          </a:custGeom>
          <a:noFill/>
          <a:ln w="28440">
            <a:solidFill>
              <a:srgbClr val="f381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Выгнутая влево стрелка 8"/>
          <p:cNvSpPr/>
          <p:nvPr/>
        </p:nvSpPr>
        <p:spPr>
          <a:xfrm rot="20290800">
            <a:off x="4881240" y="4377960"/>
            <a:ext cx="563400" cy="1057320"/>
          </a:xfrm>
          <a:custGeom>
            <a:avLst/>
            <a:gdLst>
              <a:gd name="textAreaLeft" fmla="*/ 75240 w 563400"/>
              <a:gd name="textAreaRight" fmla="*/ 488160 w 563400"/>
              <a:gd name="textAreaTop" fmla="*/ 211320 h 1057320"/>
              <a:gd name="textAreaBottom" fmla="*/ 775440 h 1057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42" stAng="-5400000" swAng="-5400000"/>
                <a:lnTo>
                  <a:pt x="0" y="11520"/>
                </a:lnTo>
                <a:arcTo wR="21600" hR="8642" stAng="10800000" swAng="-3429835"/>
                <a:lnTo>
                  <a:pt x="16200" y="21326"/>
                </a:lnTo>
                <a:lnTo>
                  <a:pt x="21600" y="18723"/>
                </a:lnTo>
                <a:lnTo>
                  <a:pt x="16200" y="15572"/>
                </a:lnTo>
                <a:lnTo>
                  <a:pt x="16200" y="17010"/>
                </a:lnTo>
                <a:arcTo wR="21600" hR="8642" stAng="7370165" swAng="3197921"/>
                <a:lnTo>
                  <a:pt x="302" y="10081"/>
                </a:lnTo>
                <a:arcTo wR="21600" hR="8642" stAng="-10568086" swAng="5168086"/>
                <a:close/>
              </a:path>
              <a:path fill="darkenLess" w="21600" h="21600">
                <a:moveTo>
                  <a:pt x="21600" y="0"/>
                </a:moveTo>
                <a:arcTo wR="21600" hR="8642" stAng="-5400000" swAng="-5400000"/>
                <a:lnTo>
                  <a:pt x="0" y="8642"/>
                </a:lnTo>
                <a:arcTo wR="21600" hR="8642" stAng="10800000" swAng="-231914"/>
                <a:lnTo>
                  <a:pt x="302" y="10081"/>
                </a:lnTo>
                <a:arcTo wR="21600" hR="8642" stAng="-10568086" swAng="5168086"/>
                <a:close/>
              </a:path>
            </a:pathLst>
          </a:custGeom>
          <a:noFill/>
          <a:ln w="28440">
            <a:solidFill>
              <a:srgbClr val="f381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98320" y="44748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3811f"/>
                </a:solidFill>
                <a:latin typeface="Arial"/>
              </a:rPr>
              <a:t>Процесс предоставления услуги</a:t>
            </a:r>
            <a:br>
              <a:rPr sz="2800"/>
            </a:br>
            <a:br>
              <a:rPr sz="2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 1.10.2011 г.</a:t>
            </a:r>
            <a:endParaRPr b="1" lang="en-US" sz="1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8143920" y="633096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AC9CD-F0B8-4611-A390-200812697A48}" type="slidenum">
              <a:rPr b="1" lang="ru-RU" sz="2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2352600" y="1031760"/>
            <a:ext cx="4124520" cy="2148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703440" y="3475080"/>
            <a:ext cx="7683480" cy="3056040"/>
          </a:xfrm>
          <a:prstGeom prst="rect">
            <a:avLst/>
          </a:prstGeom>
          <a:ln w="0">
            <a:noFill/>
          </a:ln>
        </p:spPr>
      </p:pic>
      <p:sp>
        <p:nvSpPr>
          <p:cNvPr id="96" name="Прямая соединительная линия 8"/>
          <p:cNvSpPr/>
          <p:nvPr/>
        </p:nvSpPr>
        <p:spPr>
          <a:xfrm>
            <a:off x="819000" y="3333600"/>
            <a:ext cx="7463160" cy="5040"/>
          </a:xfrm>
          <a:prstGeom prst="line">
            <a:avLst/>
          </a:prstGeom>
          <a:ln w="28440">
            <a:solidFill>
              <a:srgbClr val="f3811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06:57:33Z</dcterms:created>
  <dc:creator>PowerLexis</dc:creator>
  <dc:description/>
  <dc:language>en-US</dc:language>
  <cp:lastModifiedBy>Sonin</cp:lastModifiedBy>
  <dcterms:modified xsi:type="dcterms:W3CDTF">2017-01-19T09:13:35Z</dcterms:modified>
  <cp:revision>601</cp:revision>
  <dc:subject/>
  <dc:title>Корпоративный шаблон презентаций компании ОТР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wner">
    <vt:lpwstr/>
  </property>
  <property fmtid="{D5CDD505-2E9C-101B-9397-08002B2CF9AE}" pid="3" name="SPSDescription">
    <vt:lpwstr/>
  </property>
  <property fmtid="{D5CDD505-2E9C-101B-9397-08002B2CF9AE}" pid="4" name="Status">
    <vt:lpwstr/>
  </property>
</Properties>
</file>