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F9C-B99D-4E66-AE11-23A9D80AC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058-5EB8-47B8-9144-2E0CE7E8B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F584-B538-4ACE-A137-5CAA1A011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48C4-FD7D-4DBF-BB60-8E2A8820C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DC0F-EA22-4E56-83CA-5C9A4DF54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9167-54C4-401F-AE7E-3EDE58B28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1F61-3F0D-47F6-8787-8F5E0EDA6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64C5-6407-485A-8108-23D5520C1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7538-C050-4AD3-BF43-C9D3A1E6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36E4-ABF8-48CA-B561-CD78E83D3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A7CE-E72F-4F89-BE72-74B8ED218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9DA5-94D8-446C-8B5A-09B33B6E1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A3A2-175C-44E8-ABF9-5077ED339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6F23-C5DD-438E-91B1-D8E5346B7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392A-1A5A-4165-8C37-832178A86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FEA2-322A-43D5-A0DF-AD2E646535FA}" type="slidenum">
              <a:rPr b="1" lang="ru-RU" sz="2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8320" y="434880"/>
            <a:ext cx="62359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1EE6-F82A-4D9C-BAB2-BAC892A02A5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66E-8BB0-47B1-8A4A-0248D01F3561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052960" y="2701800"/>
            <a:ext cx="3467160" cy="24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243000" y="5072040"/>
            <a:ext cx="582912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03280" y="1738440"/>
            <a:ext cx="45910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Выгнутая влево стрелка 7"/>
          <p:cNvSpPr/>
          <p:nvPr/>
        </p:nvSpPr>
        <p:spPr>
          <a:xfrm rot="19927200">
            <a:off x="4186080" y="2720880"/>
            <a:ext cx="600120" cy="1470240"/>
          </a:xfrm>
          <a:custGeom>
            <a:avLst/>
            <a:gdLst>
              <a:gd name="textAreaLeft" fmla="*/ 80280 w 600120"/>
              <a:gd name="textAreaRight" fmla="*/ 519840 w 600120"/>
              <a:gd name="textAreaTop" fmla="*/ 309960 h 1470240"/>
              <a:gd name="textAreaBottom" fmla="*/ 106776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08" stAng="-5400000" swAng="-5400000"/>
                <a:lnTo>
                  <a:pt x="0" y="11134"/>
                </a:lnTo>
                <a:arcTo wR="21600" hR="9108" stAng="10800000" swAng="-3062821"/>
                <a:lnTo>
                  <a:pt x="14631" y="21113"/>
                </a:lnTo>
                <a:lnTo>
                  <a:pt x="21600" y="19228"/>
                </a:lnTo>
                <a:lnTo>
                  <a:pt x="14631" y="16369"/>
                </a:lnTo>
                <a:lnTo>
                  <a:pt x="14631" y="17728"/>
                </a:lnTo>
                <a:arcTo wR="21600" hR="9108" stAng="7737179" swAng="2900710"/>
                <a:lnTo>
                  <a:pt x="134" y="10120"/>
                </a:lnTo>
                <a:arcTo wR="21600" hR="9108" stAng="-10637890" swAng="5237890"/>
                <a:close/>
              </a:path>
              <a:path fill="darkenLess" w="21600" h="21600">
                <a:moveTo>
                  <a:pt x="21600" y="0"/>
                </a:moveTo>
                <a:arcTo wR="21600" hR="9108" stAng="-5400000" swAng="-5400000"/>
                <a:lnTo>
                  <a:pt x="0" y="9108"/>
                </a:lnTo>
                <a:arcTo wR="21600" hR="9108" stAng="10800000" swAng="-162110"/>
                <a:lnTo>
                  <a:pt x="134" y="10120"/>
                </a:lnTo>
                <a:arcTo wR="21600" hR="9108" stAng="-10637890" swAng="5237890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Выгнутая влево стрелка 8"/>
          <p:cNvSpPr/>
          <p:nvPr/>
        </p:nvSpPr>
        <p:spPr>
          <a:xfrm rot="20290800">
            <a:off x="4881240" y="4377960"/>
            <a:ext cx="563400" cy="1057320"/>
          </a:xfrm>
          <a:custGeom>
            <a:avLst/>
            <a:gdLst>
              <a:gd name="textAreaLeft" fmla="*/ 75240 w 563400"/>
              <a:gd name="textAreaRight" fmla="*/ 488160 w 563400"/>
              <a:gd name="textAreaTop" fmla="*/ 211320 h 1057320"/>
              <a:gd name="textAreaBottom" fmla="*/ 77544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2" stAng="-5400000" swAng="-5400000"/>
                <a:lnTo>
                  <a:pt x="0" y="11520"/>
                </a:lnTo>
                <a:arcTo wR="21600" hR="8642" stAng="10800000" swAng="-3429835"/>
                <a:lnTo>
                  <a:pt x="16200" y="21326"/>
                </a:lnTo>
                <a:lnTo>
                  <a:pt x="21600" y="18723"/>
                </a:lnTo>
                <a:lnTo>
                  <a:pt x="16200" y="15572"/>
                </a:lnTo>
                <a:lnTo>
                  <a:pt x="16200" y="17010"/>
                </a:lnTo>
                <a:arcTo wR="21600" hR="8642" stAng="7370165" swAng="3197921"/>
                <a:lnTo>
                  <a:pt x="302" y="10081"/>
                </a:lnTo>
                <a:arcTo wR="21600" hR="8642" stAng="-10568086" swAng="5168086"/>
                <a:close/>
              </a:path>
              <a:path fill="darkenLess" w="21600" h="21600">
                <a:moveTo>
                  <a:pt x="21600" y="0"/>
                </a:moveTo>
                <a:arcTo wR="21600" hR="8642" stAng="-5400000" swAng="-5400000"/>
                <a:lnTo>
                  <a:pt x="0" y="8642"/>
                </a:lnTo>
                <a:arcTo wR="21600" hR="8642" stAng="10800000" swAng="-231914"/>
                <a:lnTo>
                  <a:pt x="302" y="10081"/>
                </a:lnTo>
                <a:arcTo wR="21600" hR="8642" stAng="-10568086" swAng="5168086"/>
                <a:close/>
              </a:path>
            </a:pathLst>
          </a:cu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8320" y="44748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811f"/>
                </a:solidFill>
                <a:latin typeface="Arial"/>
              </a:rPr>
              <a:t>Процесс предоставления услуги</a:t>
            </a:r>
            <a:br>
              <a:rPr sz="2800"/>
            </a:br>
            <a:br>
              <a:rPr sz="2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.10.2011 г.</a:t>
            </a:r>
            <a:endParaRPr b="1" lang="en-US" sz="1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BC3-DD3C-44F3-9E6F-807D47FB4DD5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352600" y="1031760"/>
            <a:ext cx="4124520" cy="214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703440" y="3475080"/>
            <a:ext cx="7683480" cy="3056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8"/>
          <p:cNvSpPr/>
          <p:nvPr/>
        </p:nvSpPr>
        <p:spPr>
          <a:xfrm>
            <a:off x="819000" y="3333600"/>
            <a:ext cx="7463160" cy="5040"/>
          </a:xfrm>
          <a:prstGeom prst="line">
            <a:avLst/>
          </a:prstGeom>
          <a:ln w="28440">
            <a:solidFill>
              <a:srgbClr val="f381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Sonin</cp:lastModifiedBy>
  <dcterms:modified xsi:type="dcterms:W3CDTF">2017-01-19T09:13:35Z</dcterms:modified>
  <cp:revision>601</cp:revision>
  <dc:subject/>
  <dc:title>Корпоративный шаблон презентаций компании ОТ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