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33F2-5C12-4C8F-B402-50DA851E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8D7C-3F5F-42A1-A822-4955BA0A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68CF-BAF0-4118-A4E9-6C71473F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3BC6-3759-4311-BADB-E1A698C0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5156-EE54-49C6-8FBD-9D0B9B1E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63B5-5E0C-4629-92EB-0896D30A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3277-E235-44C2-9BF7-1BFB484E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204D-82EA-4C83-ACCD-0AC90E99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1797-0EF1-42E7-AE42-7C18385B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E54D-72BC-47A2-8185-7913F7F5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B8D3-CBBA-4ADA-8E01-B09536E3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22B-6AF3-432E-B01F-AB3557D6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876A-E058-4EDA-A019-FBE00BBAA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solidFill>
            <a:srgbClr val="0099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водство и дежурные службы о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ные телеф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28760" y="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6320" y="1295280"/>
          <a:ext cx="8991360" cy="5031000"/>
        </p:xfrm>
        <a:graphic>
          <a:graphicData uri="http://schemas.openxmlformats.org/drawingml/2006/table">
            <a:tbl>
              <a:tblPr/>
              <a:tblGrid>
                <a:gridCol w="380880"/>
                <a:gridCol w="1905120"/>
                <a:gridCol w="1857240"/>
                <a:gridCol w="1785960"/>
                <a:gridCol w="1023840"/>
                <a:gridCol w="2038320"/>
              </a:tblGrid>
              <a:tr h="265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долж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.И.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телефо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машний адр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43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маш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ужеб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ректор ООО «Пром-Нефть-Сервис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пский В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 8-920-229-50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742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-33-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.8-920-229-50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. Воронеж, ул. Ф. Энгельса, д. 42, кв. 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инжен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стрыкин В.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742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-17-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-33-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.8-920-229-08-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. Воронеж, ул. Остужева, д. 15, кв.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механик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шин В.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7342) 3-17-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-33-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.8-920-229-08-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. Колодезный, ул. Садовая, д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ик цеха сл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данов А.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742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-56-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-33-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.8-920-229-01-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. Воронеж, ул. Глинки, д. 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ик производственного це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ристенко С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 8-920-229-08-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-33-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.8-920-229-08-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. Колодезный, ул. Берёзовая Роща, д.28, кв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ик охра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неев Г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7342) 3-14-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-33-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.8-920-409-04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. Колодезный, ул. Центральная, д. 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штатное аварийно-спасательное учреж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пецкий филиал ООО «ЦАСиЭО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742) 33-53-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Липецк, ул. Московская, д. 6 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6935760" y="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ожение №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solidFill>
            <a:srgbClr val="0099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ЯЗИ ООО «ПРОМ-НЕФТЬ-СЕРВИС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7"/>
          <p:cNvGraphicFramePr/>
          <p:nvPr/>
        </p:nvGraphicFramePr>
        <p:xfrm>
          <a:off x="-380880" y="762120"/>
          <a:ext cx="9144000" cy="602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762120"/>
                    <a:ext cx="914400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00001</cp:lastModifiedBy>
  <dcterms:modified xsi:type="dcterms:W3CDTF">2010-10-28T08:52:2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