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282-CEC1-4D5D-8F90-05540EA9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131-54D3-41D3-81E2-18DC6172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B99-8A1C-4343-862D-9C1D30ED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5A8-B1CB-4102-8E68-07404178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FAA-7F1C-470F-A920-737BC143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65C-23EE-43FC-B076-07B9AE20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490-7254-42B5-BE15-454DC6AA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093-7868-48D8-A126-3AD76671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2DE-FB69-41C9-BBAB-47D7E6D7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167-8309-4536-8A5E-5F0F378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547-034C-43FB-AAC4-30A493F1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976-0197-4180-B9BA-D94D2B7D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B723-88EE-4965-9595-3385AE69B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ство и дежурные службы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ные теле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2876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320" y="1295280"/>
          <a:ext cx="8991360" cy="5031000"/>
        </p:xfrm>
        <a:graphic>
          <a:graphicData uri="http://schemas.openxmlformats.org/drawingml/2006/table">
            <a:tbl>
              <a:tblPr/>
              <a:tblGrid>
                <a:gridCol w="380880"/>
                <a:gridCol w="1905120"/>
                <a:gridCol w="1857240"/>
                <a:gridCol w="1785960"/>
                <a:gridCol w="1023840"/>
                <a:gridCol w="2038320"/>
              </a:tblGrid>
              <a:tr h="265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дол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И.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телеф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ашний 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3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аш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ж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ООО «Пром-Нефть-Сервис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ский В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8-920-229-5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42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5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Воронеж, ул. Ф. Энгельса, д. 42, кв. 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инжен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рыкин В.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42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-17-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08-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Воронеж, ул. Остужева, д. 15, кв.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механи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шин В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7342) 3-17-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08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Колодезный, ул. Садовая, д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ик цеха с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данов А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42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56-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01-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Воронеж, ул. Глинки, д. 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ик производственного це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ристенко С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8-920-229-08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08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Колодезный, ул. Берёзовая Роща, д.28, кв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ик ох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неев Г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342) 3-14-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409-04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Колодезный, ул. Центральная, д.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штатное аварийно-спасательное учреж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цкий филиал ООО «ЦАСиЭО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42) 33-53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Липецк, ул. Московская, д. 6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6935760" y="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ЯЗИ ООО «ПРОМ-НЕФТЬ-СЕРВИС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7"/>
          <p:cNvGraphicFramePr/>
          <p:nvPr/>
        </p:nvGraphicFramePr>
        <p:xfrm>
          <a:off x="-380880" y="762120"/>
          <a:ext cx="9144000" cy="60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762120"/>
                    <a:ext cx="91440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0001</cp:lastModifiedBy>
  <dcterms:modified xsi:type="dcterms:W3CDTF">2010-10-28T08:52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