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88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22.xml" ContentType="application/vnd.openxmlformats-officedocument.theme+xml"/>
  <Override PartName="/ppt/theme/theme60.xml" ContentType="application/vnd.openxmlformats-officedocument.theme+xml"/>
  <Override PartName="/ppt/theme/theme61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29.xml" ContentType="application/vnd.openxmlformats-officedocument.theme+xml"/>
  <Override PartName="/ppt/theme/theme71.xml" ContentType="application/vnd.openxmlformats-officedocument.theme+xml"/>
  <Override PartName="/ppt/theme/theme66.xml" ContentType="application/vnd.openxmlformats-officedocument.theme+xml"/>
  <Override PartName="/ppt/theme/theme67.xml" ContentType="application/vnd.openxmlformats-officedocument.theme+xml"/>
  <Override PartName="/ppt/theme/theme68.xml" ContentType="application/vnd.openxmlformats-officedocument.theme+xml"/>
  <Override PartName="/ppt/theme/theme69.xml" ContentType="application/vnd.openxmlformats-officedocument.theme+xml"/>
  <Override PartName="/ppt/theme/theme89.xml" ContentType="application/vnd.openxmlformats-officedocument.theme+xml"/>
  <Override PartName="/ppt/theme/theme77.xml" ContentType="application/vnd.openxmlformats-officedocument.theme+xml"/>
  <Override PartName="/ppt/theme/theme88.xml" ContentType="application/vnd.openxmlformats-officedocument.theme+xml"/>
  <Override PartName="/ppt/theme/theme76.xml" ContentType="application/vnd.openxmlformats-officedocument.theme+xml"/>
  <Override PartName="/ppt/theme/theme87.xml" ContentType="application/vnd.openxmlformats-officedocument.theme+xml"/>
  <Override PartName="/ppt/theme/theme75.xml" ContentType="application/vnd.openxmlformats-officedocument.theme+xml"/>
  <Override PartName="/ppt/theme/theme86.xml" ContentType="application/vnd.openxmlformats-officedocument.theme+xml"/>
  <Override PartName="/ppt/theme/theme74.xml" ContentType="application/vnd.openxmlformats-officedocument.theme+xml"/>
  <Override PartName="/ppt/theme/theme85.xml" ContentType="application/vnd.openxmlformats-officedocument.theme+xml"/>
  <Override PartName="/ppt/theme/theme73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79.xml" ContentType="application/vnd.openxmlformats-officedocument.theme+xml"/>
  <Override PartName="/ppt/theme/theme78.xml" ContentType="application/vnd.openxmlformats-officedocument.theme+xml"/>
  <Override PartName="/ppt/theme/theme72.xml" ContentType="application/vnd.openxmlformats-officedocument.theme+xml"/>
  <Override PartName="/ppt/theme/theme80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82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90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303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</p:sldMasterIdLst>
  <p:notesMasterIdLst>
    <p:notesMasterId r:id="rId91"/>
  </p:notesMasterIdLst>
  <p:sldIdLst>
    <p:sldId id="256" r:id="rId92"/>
    <p:sldId id="257" r:id="rId93"/>
    <p:sldId id="258" r:id="rId94"/>
    <p:sldId id="259" r:id="rId95"/>
    <p:sldId id="260" r:id="rId96"/>
    <p:sldId id="261" r:id="rId97"/>
    <p:sldId id="262" r:id="rId98"/>
    <p:sldId id="263" r:id="rId99"/>
    <p:sldId id="264" r:id="rId100"/>
    <p:sldId id="265" r:id="rId101"/>
  </p:sldIdLst>
  <p:sldSz cx="9144000" cy="5145088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notesMaster" Target="notesMasters/notesMaster1.xml"/><Relationship Id="rId92" Type="http://schemas.openxmlformats.org/officeDocument/2006/relationships/slide" Target="slides/slide1.xml"/><Relationship Id="rId93" Type="http://schemas.openxmlformats.org/officeDocument/2006/relationships/slide" Target="slides/slide2.xml"/><Relationship Id="rId94" Type="http://schemas.openxmlformats.org/officeDocument/2006/relationships/slide" Target="slides/slide3.xml"/><Relationship Id="rId95" Type="http://schemas.openxmlformats.org/officeDocument/2006/relationships/slide" Target="slides/slide4.xml"/><Relationship Id="rId96" Type="http://schemas.openxmlformats.org/officeDocument/2006/relationships/slide" Target="slides/slide5.xml"/><Relationship Id="rId97" Type="http://schemas.openxmlformats.org/officeDocument/2006/relationships/slide" Target="slides/slide6.xml"/><Relationship Id="rId98" Type="http://schemas.openxmlformats.org/officeDocument/2006/relationships/slide" Target="slides/slide7.xml"/><Relationship Id="rId99" Type="http://schemas.openxmlformats.org/officeDocument/2006/relationships/slide" Target="slides/slide8.xml"/><Relationship Id="rId100" Type="http://schemas.openxmlformats.org/officeDocument/2006/relationships/slide" Target="slides/slide9.xml"/><Relationship Id="rId101" Type="http://schemas.openxmlformats.org/officeDocument/2006/relationships/slide" Target="slides/slide10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3" name="PlaceHolder 2"/>
          <p:cNvSpPr>
            <a:spLocks noGrp="1"/>
          </p:cNvSpPr>
          <p:nvPr>
            <p:ph type="dt" idx="265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4" name="PlaceHolder 3"/>
          <p:cNvSpPr>
            <a:spLocks noGrp="1"/>
          </p:cNvSpPr>
          <p:nvPr>
            <p:ph type="sldImg"/>
          </p:nvPr>
        </p:nvSpPr>
        <p:spPr>
          <a:xfrm>
            <a:off x="82440" y="744120"/>
            <a:ext cx="66168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PlaceHolder 4"/>
          <p:cNvSpPr>
            <a:spLocks noGrp="1"/>
          </p:cNvSpPr>
          <p:nvPr>
            <p:ph type="body"/>
          </p:nvPr>
        </p:nvSpPr>
        <p:spPr>
          <a:xfrm>
            <a:off x="677520" y="4714560"/>
            <a:ext cx="54277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PlaceHolder 5"/>
          <p:cNvSpPr>
            <a:spLocks noGrp="1"/>
          </p:cNvSpPr>
          <p:nvPr>
            <p:ph type="ftr" idx="266"/>
          </p:nvPr>
        </p:nvSpPr>
        <p:spPr>
          <a:xfrm>
            <a:off x="-360" y="942984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7" name="PlaceHolder 6"/>
          <p:cNvSpPr>
            <a:spLocks noGrp="1"/>
          </p:cNvSpPr>
          <p:nvPr>
            <p:ph type="sldNum" idx="267"/>
          </p:nvPr>
        </p:nvSpPr>
        <p:spPr>
          <a:xfrm>
            <a:off x="3841920" y="942984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38C9ACE-E70F-4876-AE44-A2E594D6F3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7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85FF-16DD-49BE-A669-DED7090F6AA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28" name="PlaceHolder 1"/>
          <p:cNvSpPr>
            <a:spLocks noGrp="1"/>
          </p:cNvSpPr>
          <p:nvPr>
            <p:ph type="sldImg"/>
          </p:nvPr>
        </p:nvSpPr>
        <p:spPr>
          <a:xfrm>
            <a:off x="84240" y="744480"/>
            <a:ext cx="6616440" cy="3722760"/>
          </a:xfrm>
          <a:prstGeom prst="rect">
            <a:avLst/>
          </a:prstGeom>
          <a:ln w="0">
            <a:noFill/>
          </a:ln>
        </p:spPr>
      </p:sp>
      <p:sp>
        <p:nvSpPr>
          <p:cNvPr id="3729" name="PlaceHolder 2"/>
          <p:cNvSpPr>
            <a:spLocks noGrp="1"/>
          </p:cNvSpPr>
          <p:nvPr>
            <p:ph type="body"/>
          </p:nvPr>
        </p:nvSpPr>
        <p:spPr>
          <a:xfrm>
            <a:off x="677520" y="4714560"/>
            <a:ext cx="54277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4" name="Rectangle 7"/>
          <p:cNvSpPr/>
          <p:nvPr/>
        </p:nvSpPr>
        <p:spPr>
          <a:xfrm>
            <a:off x="3852720" y="942516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90D9519-FED6-4D14-8AFD-B0C18AA4DD4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55" name="PlaceHolder 1"/>
          <p:cNvSpPr>
            <a:spLocks noGrp="1"/>
          </p:cNvSpPr>
          <p:nvPr>
            <p:ph type="sldImg"/>
          </p:nvPr>
        </p:nvSpPr>
        <p:spPr>
          <a:xfrm>
            <a:off x="9360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75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45360" cy="4462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Использовать на селекторных совещаниях за неделю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0" name="Rectangle 7"/>
          <p:cNvSpPr/>
          <p:nvPr/>
        </p:nvSpPr>
        <p:spPr>
          <a:xfrm>
            <a:off x="3852720" y="942516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60FF33D-A679-42D0-A9B7-7DBCA486C8D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31" name="PlaceHolder 1"/>
          <p:cNvSpPr>
            <a:spLocks noGrp="1"/>
          </p:cNvSpPr>
          <p:nvPr>
            <p:ph type="sldImg"/>
          </p:nvPr>
        </p:nvSpPr>
        <p:spPr>
          <a:xfrm>
            <a:off x="9360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73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45360" cy="4462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Использовать на селекторных совещаниях за неделю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3" name="Rectangle 7"/>
          <p:cNvSpPr/>
          <p:nvPr/>
        </p:nvSpPr>
        <p:spPr>
          <a:xfrm>
            <a:off x="3852720" y="942516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260BED6-286C-4BA1-A84D-DA5829A9E38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34" name="PlaceHolder 1"/>
          <p:cNvSpPr>
            <a:spLocks noGrp="1"/>
          </p:cNvSpPr>
          <p:nvPr>
            <p:ph type="sldImg"/>
          </p:nvPr>
        </p:nvSpPr>
        <p:spPr>
          <a:xfrm>
            <a:off x="9360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73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45360" cy="4462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Использовать на селекторных совещаниях за неделю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Rectangle 7"/>
          <p:cNvSpPr/>
          <p:nvPr/>
        </p:nvSpPr>
        <p:spPr>
          <a:xfrm>
            <a:off x="3852720" y="942516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EDB1A96-8DEE-4325-822A-962C7F752BF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37" name="PlaceHolder 1"/>
          <p:cNvSpPr>
            <a:spLocks noGrp="1"/>
          </p:cNvSpPr>
          <p:nvPr>
            <p:ph type="sldImg"/>
          </p:nvPr>
        </p:nvSpPr>
        <p:spPr>
          <a:xfrm>
            <a:off x="9360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73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45360" cy="4462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Использовать на селекторных совещаниях за неделю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9" name="Rectangle 7"/>
          <p:cNvSpPr/>
          <p:nvPr/>
        </p:nvSpPr>
        <p:spPr>
          <a:xfrm>
            <a:off x="3852720" y="942516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ED93B17-2817-4C65-BA04-64679208584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40" name="PlaceHolder 1"/>
          <p:cNvSpPr>
            <a:spLocks noGrp="1"/>
          </p:cNvSpPr>
          <p:nvPr>
            <p:ph type="sldImg"/>
          </p:nvPr>
        </p:nvSpPr>
        <p:spPr>
          <a:xfrm>
            <a:off x="9360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74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45360" cy="4462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Использовать на селекторных совещаниях за неделю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2" name="Rectangle 7"/>
          <p:cNvSpPr/>
          <p:nvPr/>
        </p:nvSpPr>
        <p:spPr>
          <a:xfrm>
            <a:off x="3852720" y="942516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521F556-F37A-4207-80F9-170133FB994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43" name="PlaceHolder 1"/>
          <p:cNvSpPr>
            <a:spLocks noGrp="1"/>
          </p:cNvSpPr>
          <p:nvPr>
            <p:ph type="sldImg"/>
          </p:nvPr>
        </p:nvSpPr>
        <p:spPr>
          <a:xfrm>
            <a:off x="9360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74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45360" cy="4462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Использовать на селекторных совещаниях за неделю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5" name="Rectangle 7"/>
          <p:cNvSpPr/>
          <p:nvPr/>
        </p:nvSpPr>
        <p:spPr>
          <a:xfrm>
            <a:off x="3852720" y="942516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5FA3EF2F-428F-477C-83CE-F83B3932BF1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46" name="PlaceHolder 1"/>
          <p:cNvSpPr>
            <a:spLocks noGrp="1"/>
          </p:cNvSpPr>
          <p:nvPr>
            <p:ph type="sldImg"/>
          </p:nvPr>
        </p:nvSpPr>
        <p:spPr>
          <a:xfrm>
            <a:off x="9360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74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45360" cy="4462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Использовать на селекторных совещаниях за неделю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8" name="Rectangle 7"/>
          <p:cNvSpPr/>
          <p:nvPr/>
        </p:nvSpPr>
        <p:spPr>
          <a:xfrm>
            <a:off x="3852720" y="942516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52D2C98-3816-4918-8C26-109DBE482A1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49" name="PlaceHolder 1"/>
          <p:cNvSpPr>
            <a:spLocks noGrp="1"/>
          </p:cNvSpPr>
          <p:nvPr>
            <p:ph type="sldImg"/>
          </p:nvPr>
        </p:nvSpPr>
        <p:spPr>
          <a:xfrm>
            <a:off x="9360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75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45360" cy="4462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Использовать на селекторных совещаниях за неделю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1" name="Rectangle 7"/>
          <p:cNvSpPr/>
          <p:nvPr/>
        </p:nvSpPr>
        <p:spPr>
          <a:xfrm>
            <a:off x="3852720" y="942516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CEE7E1C-C977-4440-A91B-30F7588EBAE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52" name="PlaceHolder 1"/>
          <p:cNvSpPr>
            <a:spLocks noGrp="1"/>
          </p:cNvSpPr>
          <p:nvPr>
            <p:ph type="sldImg"/>
          </p:nvPr>
        </p:nvSpPr>
        <p:spPr>
          <a:xfrm>
            <a:off x="9360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75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45360" cy="4462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Использовать на селекторных совещаниях за неделю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FE5D-46C7-4CAC-861B-2ADF218B5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BC53-4BC1-4535-A19A-5525F251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4AD0659D-A13B-4138-81E5-EFD97F58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72AF2713-A42E-4CFA-B8B5-798F1C72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E2DB5C24-CE91-4B03-8304-EC3F24A0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5CF6B1FC-E3E2-4CD1-88CE-53B3778C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3B3EC8D2-B322-42CE-981B-1C0EB6BF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553FDB3E-1AD2-4620-98E0-0F8661AF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914D5A51-A977-4A14-8FE0-C93FD237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8C6F0A76-E066-45DD-AD01-1C26D7876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993C95D4-3773-4E51-8B69-A1DC554FE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577CA293-6A9E-4C85-9A3A-0A6D77FE4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877ED4FB-445C-4AD9-8213-B77D48EA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2517AFA8-7610-4AED-9D9F-B07818EE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B8522BF6-E78F-45FE-94C2-36020D0E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BE977DB2-E220-492E-8E6C-3A002C10E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F1BB31A0-350B-4741-B68B-0CDC013D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48F6540B-0CB1-405A-AAB9-53FDCC3B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E094FA30-2A15-4291-A731-E3144406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74BEAC83-31F4-4780-A6D9-FE3F045E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1135B840-14A2-4661-9732-C0463DD6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7DD5AC95-1026-4F5F-90FC-D6D3FEC7C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FDC64A04-5591-40B9-B032-A3F16B988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709597B6-182E-4502-91F9-05538E9C2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8D98F6AD-A9C3-4147-997E-C018EEC9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9E3259CD-0FE5-4A10-B9CB-F82F7AC0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E2C06E77-14CB-4996-A460-C802AAD5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096CD3BC-6F05-4BBE-88D4-18FA5027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3DDAAC36-59E0-467C-B98F-05164859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39D6821D-4CEE-4D1C-8136-0AD4C29C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1EC028E1-E18E-4649-B045-A74FBD6A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BF0A71F8-0264-4911-B4E9-D13764F0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6FDE1D27-12CD-416D-A51C-DE906814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09AA2589-A47A-48A6-89D6-DCD38B206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4ECF5A6A-57BC-4107-9E5D-17566F394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AC790EE4-BEBA-4662-9BCB-1956B49D0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02E344DF-83F9-4509-AEE6-17B6B99B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AB8AA6B2-1F0F-4C7B-877A-3C6F6FB1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D2858EE8-09F9-43EA-9148-6841458D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38BC31AA-909B-47F1-AD20-9C877710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56E14B48-FD17-40CC-A2D5-AEBBDE2C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48A2B448-0B12-4AF9-9D61-279BFD0B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68E8A41C-929B-4CE0-A368-FE4E531C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34BC3855-6ECE-40F3-8DB5-14F691AD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9965DE2D-8430-4B3E-A0C5-FEDD7DA1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7A8D54B3-4F35-47D4-A6F4-B1D98301E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61E828A7-0C5C-4889-A427-84F01CB1B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D223B879-F011-41D1-8EEB-79D7DA591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9DA95960-B1BD-4031-B6DD-E9A22371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5E5004F8-0B38-4E50-8A5E-8DD7625E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3DA97A79-B33B-4F00-BF15-B94A6C84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F7392219-AF59-40DF-99AF-2C7A4E3E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93D6E079-19EF-42A5-B42C-50C8B54C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1F754313-50BF-49B8-A6A6-57F77C21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E4D26C32-C5B8-4968-979E-D78734E9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56649A40-37E8-41D7-82EE-F4C83856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EE958ED2-CF81-410D-A93C-2C8B6DFF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D267356B-774F-49EA-ADD2-7FFEFBC9C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5103230E-D6DD-40FE-87DC-531299F95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07D33439-8A07-4516-8892-0545344D5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14C2839D-686B-4942-B865-C15194E7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182420A7-39A9-42C4-B4B5-ACF9BE9D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B627DDDF-E7E8-4AAA-B107-3EA8DF0E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7D3D85B8-4C70-4AF1-B5DB-72790D1D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0AA55190-1D0A-4892-9206-8E32D979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08648079-D803-4260-A577-317F4C97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67784A63-CBF5-4F54-9E09-6F82A45D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D126EB64-6492-40ED-ACA1-EACD2C7F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A8769847-17EF-4242-9D27-A69955CB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7F0C7277-A564-4C5C-ADE0-B5AFB8FB6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0553D836-1B44-4FEF-8A6A-0D508681B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F9D159-7AD1-41D9-9644-556A3C15D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DE2E-AC55-4705-8FAE-9439F2D2B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B18CE9-44A4-4BBF-9007-C84F23C4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180C82-7FC8-4A9E-832D-ABBA1B34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1B232-BBD6-4685-9937-50194364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103347-0995-467F-A33E-03BA33A5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497729-892B-4D0A-896E-21C8A8ED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B111BE-9B25-4326-AEE6-D98E7DF6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04F3FE-6233-49A9-89DA-E797C9CA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0AC7C5-187A-4465-B0C4-0D7595E5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EC5A3B-EB29-4B04-A336-08DB1E21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B56F1B-0DA1-4672-AEE4-0F759BB21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2E38-883B-4E9B-B043-3ADB9867F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CE9726-7B38-4068-A892-5C3670F4B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8BE335-46C6-48FD-BF44-B509E1CB3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8022C2-BEF0-40A9-810C-FC77814C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FAEF44-9630-42AB-B857-23B4E942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86DCA8-5BFA-4086-AE82-0B03CCF2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85AB03-DE53-4142-8EF9-A881AE66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5C83F3-4A98-4891-A93C-D9283AD8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CBC42F-9884-4E7E-844B-222ED07B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B80763-FD7C-43C7-A6CB-64B27E06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4EFE13-DF5F-4AEC-A2D3-E780D1EE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0998-EBAC-4E97-93A7-C685238C4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2FEA22-0346-4ED6-ACAA-4E8ACAD5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9CC581-21D0-460A-A5C9-5B7F2878A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D7DDF1-A5BD-4446-AFC0-41F53A11D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FE3307-252C-462D-8E58-149C2045F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55D26-9DA7-4231-BD3B-8C95294C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A35BC-EB39-433A-B724-ADC56BA5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CAFA3E-F775-4AAC-9333-034A5C19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70056-FED2-46A5-A0C5-09B756F8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69EA5-B9D7-4A10-9802-FD3E9B19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9315E-9129-4A21-ABB6-20744256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A427-5094-4126-AB33-7319A87E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834D3-BAE3-4AC6-A3A1-4136499C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3F8B99-4718-4BBE-B474-0E57A43A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B48BB-6048-419D-800E-B389F2D9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4F4E25-4430-4E97-AC85-638D7CF7C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792CF-85AE-4524-988A-CE3CDA443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0A8AB4-8B5E-4A29-9DF5-A6EA2F194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F969B9-135A-4BE9-A2A6-82E1929D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651D38-4239-4FAA-8FFF-B36904E2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036624-DEF5-4520-A39C-4300D5FF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308C12-F700-4EDE-A24D-63BCB2A8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1395-3CDF-4F59-BDA8-85AB5948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6FB6E5-957F-426D-BCC5-0206AB88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F6A89D-EE63-467C-AFE0-FF3E3B20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98ABBE-744A-4137-A678-46C5F765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8508F8-8088-4F24-A29E-B76341E5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F2C9F2-B27C-4073-8734-127FD348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5DE51A-5503-4028-81BB-D13276EF4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5FE52C-98BD-4505-888F-36EF75F4E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C1273F-8018-4FE6-AD79-938A47385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8D02CA-8408-43BA-BDD7-D67F46A9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3F1D94-54F7-459E-B452-B0D61A8A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966B-0B04-45AC-9A3A-0A9B9BA1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6D9A90-42BF-4A4E-8C1A-5E268EB7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99B98E-9638-4EBF-A586-B6373A4D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21A565-B32A-4340-9F74-54B37D59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A1A293-C973-43C2-9E17-7416A183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F0AD16-DEBA-4594-ABD4-65504457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2CE6EB-63A8-45FA-873C-F96EBCB2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330D78-B6C6-41B3-B089-2EE13C35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3D7475-7657-479E-86EE-2A7D855F6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43370F-7D01-4D86-A5E0-3669BD1AD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700190-4551-4DA9-B8DF-3CA2B0C7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2C3D-09EE-4718-A3FA-749BA2B6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7E62DE-6215-409A-AF40-D324F84C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59BBD4-B390-44DE-B22D-CC82CD2D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40E50C-A8EA-4A81-8D15-550227E9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11E5B2-F27A-4765-BF89-6AC720CD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151389-F845-44B8-8744-82F9B02F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9A050A-5EA1-4AB3-B7F5-E1C3999F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FA39D2-D1B8-4751-8B63-863645FD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2BE2FD-6011-443F-B56D-1205E6E0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882D1B-D7E4-4F25-BF75-D89836C2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BC2F9E-4170-429E-BF7E-44302E284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E2A2-C2E5-457C-A76F-7BB748FA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F7FAF8-8342-4C8E-9BAC-996558748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91355C-3A1E-4579-B6AE-7FEADA997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940DCB-447D-4C54-8892-7A24A731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E52804-BA88-4092-AA23-AD6FC9CC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73B904-0214-4838-B5F6-776AC2BE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A9F156-3FA0-4F84-B7C0-03BD94E1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D1CB74-79B6-4A66-A4B7-A94F2798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B9EAB4-9A0B-47ED-92B1-65A4368E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EC1F46-C1D7-442A-A869-755AE997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E5E671-8128-4374-B474-E62600F2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A11B4-D55E-4B5E-A7CB-BE498FCD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9B0709-E5CC-4676-8E0B-2CBB873E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865EC6-B1CF-4132-9F63-77241A160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87F932-027B-4EE1-A7B9-6E772C033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6FBBE9-096C-425D-91B0-0AA48C379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A303EA-18E8-4726-A7BD-779A50B8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3E09F1-37DC-45AA-890E-1D099423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FCE0BE-7E0D-45D8-8426-FAA46B3D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BAF1BF-24CD-48E7-BCFC-B36081EC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E1C333-9AD0-4A13-BAE5-36A058A4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1391F8-8A5C-403A-BE13-A1E348AB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6DE3-9F5D-4F8E-BCA8-B81339F7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6643-3578-41BE-BB04-C5F8C3FA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DCA57D-7A01-475E-9E4C-A77E0C66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0ED408-F5F8-4845-B127-90822FCA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64AFE1-48C3-4AD9-983C-7D2049EB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C0F775-7418-4349-BB42-66846E7B8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836231-1C8D-40D0-930B-204DF13BB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8D39FB-4329-4F3D-9AFE-1507CBF25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9B5C8C-B6D0-4880-B6D3-5ED1C88A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407F78-EA80-4DCB-BF48-6AD054AE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EDEEFB-7831-405D-A088-CB59BCDA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658477-AD06-4685-BFA8-7EF20CA3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1F6F-5CC7-4D9D-A11F-C5197E2C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48B3D1-C50E-4205-B7DA-A0ADC6E2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5D08B4-589E-4F3A-88E6-A7E2AC2C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8CE304-AF40-4C99-A7E9-EABEA780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240AA6-EAF1-4496-8BF8-28373274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EDA2BE-B1CC-41B3-877A-85F3E23B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929223-E66F-4F92-983C-031F74770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8B4537-FE9C-414C-8088-AE0F90C91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1BC377-2F92-4850-9DEC-13A5628AC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984CDE-806D-49A7-BE9E-91F5EB79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83699C-1DBA-40AA-A471-F939D4BB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1518-6613-4EB3-B133-FA7AA04C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0387E7-7D2A-45DD-A70E-F4EA28DA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F95BA1-E97F-4938-9AFC-446F96B1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4F62D5-DACA-49FA-B39D-7AABA609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EA395C-FE31-4C52-A490-688B95F8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2C022B-A274-4A76-9F12-62755CAB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14C238-FE43-4A25-A9AB-6958C622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B42D62-A483-424F-A727-D51C6E2B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0DFE6D-580C-41FC-A2DA-ABD9F39AB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0718F9-9393-4856-9DBF-2C690C146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0C3165-9C57-45DC-816E-398E47393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66D4-D9CF-4A92-9B07-E846C0CA7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744AB2-9227-47AF-A0D3-B85279B3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26E608-2BE2-4409-A84A-A0BD4A0F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AF4EE2-41E4-4916-99CC-B648BADB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3553AD-E133-4C5A-B9B8-9B4BD5CA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DEE07E-77E4-4208-A7FE-4D7566A0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C53A95-5E66-4A43-90E8-9BDEDD20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833C50-9BE3-416B-9B30-ABA65FC3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44F1FC-E478-4B88-AA3A-ABB0D344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1C4957-8B9A-4ECE-A023-51E7B71A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8115DD-2420-4162-B8B0-9F88B9C18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0A2C-70EA-4275-B90D-F050CDCB3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D7CC88-8F3F-4AFE-939B-166281766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07F01F-1356-4DEA-A5FC-6F5C93865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404825-E4DA-4CA5-9554-84EFA65C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18EC74-BB6E-4EDF-A920-0B32D02F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C80C5D-1F8D-4385-9BF4-6834EF05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C4D30D-986D-4E97-8247-F99F7FD1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DA1737-1126-4070-9F01-B31FD3C6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D53C2C-A8AE-43E7-B388-416CB37A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DD63E7-17C0-48B9-A329-3CABFCEA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547036-9850-465D-BBB1-6060486A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F8D13-296B-44BC-B05D-1E070F2B7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2E07C8-617D-4E11-A434-889F7FC6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221B31-5E62-4C72-91B1-B69A836FF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BC083B-338E-44AE-90B0-174D0787D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9521D6-D137-4788-975F-14A8B5BBD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64495C-FF25-4E57-BD84-BCC0EDD6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657CEE-661F-4D80-8C80-DECFA61E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CE1629-3BFD-4D36-B9A0-92F624CF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9B6CE7-D1F3-4B7E-8F45-101ADF94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5BEADF-8B71-4D79-A74F-3198B050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6D8BC8-6FCD-484F-B663-9DFB2B9B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3F485-52C2-4E34-A1E6-EB92AC22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845DFE-713B-4E4C-B84F-36E2E521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D8B01D-233D-4776-AEA6-7FB4EAB5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0E36D2-A866-43AE-84FE-9C94AF1C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7723A1-3D98-44E3-9F83-45A4E5438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ECAD3C-5CD8-47B6-9EB2-997F5869E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A4BD25-8AAE-4F93-8E37-8308265E6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CB7BDE-6819-4A3D-871E-CA658991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D07C1D-6606-4A40-A16D-36D49F6D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222A9D-195A-48F5-A10B-9E225EC0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7A171D-6839-4E16-AE10-17D83249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F4BFA-778F-4659-8136-E618F9E4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74DA0A-15C1-4763-A6D2-74D43CE1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F8DF66-4A67-4FE2-9008-5DA04E7E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C6AE6B-5793-4BB1-AB70-83FE0933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FF1069-9F59-47DA-9C84-4C314F07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D9A81B-367A-4A69-A35A-FD1B7D81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E763E1-BC15-40F0-AB01-F75DB455F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B040E8-E1D1-4383-BE56-E29F88124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2CF362-61AF-4423-A02C-72B0F1DBA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6DA199-027A-432C-99DE-B3A98931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8FBA2C-B6CB-484F-8208-523D56BB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8E46E-BF0A-4849-A8B9-806F3C8B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849B84-870E-4131-8600-616EBB29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82BAF1-3BBC-4B66-9902-8F956BDC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C258B0-BBE1-490E-8A49-D4DB6049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297790-185D-4D92-9C28-EB3CF3D1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80EC12-8BF0-4A3A-8085-D3A984B1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BDFEE2-164B-4AA2-BBAB-880D0087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CF6479-9E2C-4BE2-8082-B5B45DD0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217D2D-C499-42F0-BC9F-1D32CC50F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B0F160-E7FC-4F05-AA02-866375202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33AC1B-608E-4046-996A-F24E4C2AD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41783-39C8-4DED-8D68-354C4643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808D7E-886C-425D-9B0D-F5550947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CB4BDAF-0255-4DC7-B4AF-86413310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F763E97-B421-4474-A06F-C94FFF55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796736-F2D2-4139-87E6-F91B65AC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95F674-A0C5-4695-A88A-9D95CAF5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549B17-080C-4464-A860-9A692572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148A22-A763-4FFE-B9B5-BF880AA1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39C1FD7-FD33-4A25-8D03-434BF0BF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1DA684-F6D0-4FBF-A2B1-B974D8CA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4ACFC7F-6BA4-4119-92E7-6722836BB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02C9-3F5B-40B7-973C-187824EB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DB1EC-3EA6-4E85-ABF1-489FA057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D21A8D-DCF8-4336-80CA-5CBE6A413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CC8547E-31B4-46E6-A978-7487E1D9A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F6F402E-31CC-4B3A-89C4-F06845C4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FD8B891-D2F8-4664-84DF-4AD87448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C3E9111-D626-407D-9008-B248CC34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D93581F-8E02-43DC-B7D3-DE03B474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DA07B7F-D3F0-4812-AAF6-63BAA50D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57C36A4-70DF-4848-8DB0-385BA833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425984C-3DE6-4442-AF57-DA054040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D6500C8-77BB-4CB4-AE8B-79EF4665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9890D-C32A-4884-9F7C-320B1F20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03858E7-42FA-47A2-8AE1-8F6672A2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B2D0F37-FBA6-4C2D-B64C-F72494507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8208CEA-1716-4958-81B5-FAE0B2864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A60BC69-2AC2-45ED-8496-0D2433092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3FAFD1C-C350-449D-B6A0-F4765A1B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0EDB25F-CDAD-4D98-BDE7-5A171240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297C5FD-38A9-4001-BF4E-918E61D7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3DB1EF1-80D4-4918-AA36-7A92BB71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1DE1608-0FDF-43AB-8F2D-8CE8BAD0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B2007F8-94CC-4EF2-B3A0-9220FE57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B641A-C56E-4738-9F41-C45389AC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C785928-832E-489E-B22B-D46BF865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63B3FA2-C63A-46EF-A5A2-24E314BB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29CFF65-1BCF-4CF9-B409-463C72FE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D86C7D4-3C6B-4222-824C-B24520854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35AB6F2-DC83-495E-8AAD-5D2B60B34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17163E6-FC8E-4FEE-B475-BB088ED2F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B36D711-DB7A-4036-B629-5DD8F892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21044C1-69B7-4AC4-9B18-2D6D3AE2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84DC688-39E0-40D2-A746-6455FD65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A4C8EB2-6657-4836-8F9F-120DB02F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5F0EF-DED3-4543-ADF3-4BE37898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3DB9EFF-2D0F-4257-BCDC-531107AB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09CF9BA-4B52-4293-9A29-F6124248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5F776E3-9679-4F1D-8640-2A074C9F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87B8CBA-155A-4D8D-A243-2796A6BE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4FD4A72-47D5-4B57-B339-EB8B36C4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01304C1-3053-40EB-AD3B-A1960C45A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DE68D71-FBDB-4570-9E0C-84D8EEB62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8D5103E-E807-4846-8748-353FBC35F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DBA0252-5571-47A1-90C1-95E67C65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63908CF-33EE-45E9-9454-73E504B4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D325F-84D1-44D4-91C5-350F58A3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4B4CD99-E498-4FF5-ADAB-80A09FF8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66E60E4-0EF5-4704-8D8B-86786D08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CA26C17-B7DC-432E-BFC0-44261B9F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FCA3C97-284C-4B4D-A75C-5E706FDC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05DAFA2-FDAA-4358-9B61-D1203DA9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BAC494E-AB03-4D96-B030-00CF1326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BC49B21-ABB0-495A-BF09-1AD05F47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F6CB981-A15A-4131-8A86-F9A43E6DA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50B561C-24B9-48AF-B1B4-CABCE5C12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1853BA2-BD17-4E81-8226-E831CD873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40138-EC44-40FA-BED5-C151FA21B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9E59359-BD7D-4A30-9D12-FA229603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EB36294-D58C-4A36-B6AF-058DFDA3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EC31A5E-ECE3-4A2D-8918-0F22FA58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31F5F1E-4E3C-4900-94AA-BB169082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6F439FE-97C5-4C05-83FA-7B7EB8EC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6467093-51A3-4393-8ED9-C46D2FBC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A7E449B-2A58-4F6B-89F2-9BAAFD81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2961690-E76C-4362-9B65-1260D124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4DCDBDA-D9CA-44F6-92E7-457783DB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6469827-3AFC-4135-A817-AD26596F9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597F3-E0BE-40FF-A921-B527B938A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A0FE8D5-A1F8-4382-8CA3-CE3CFEAAF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CF2A826-4502-497C-ACCB-A92828D55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BFA3A2A-3086-4428-A83C-9CAC6397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DB59182-5696-4AC9-9B5C-E1AE8674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FC1117C-6D8D-47F2-B811-1DA50BCC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68A40B3-BB43-45D0-BA75-F8552954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8B7714D-617F-4541-85EC-D02D01AF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3BFE8E1-1847-4765-A478-90265034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20DB399-801B-466D-BA79-B22527F4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CE5E79E-C239-4637-AE94-BE83EA96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7EF39-B1AC-4D1D-A67D-342CFE6B8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B8EC380-1B95-4453-9848-DE0B6DD1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7462D13-D7C6-4327-B7D6-D5EB9B004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F1AA764-AA06-467F-B364-1F614B9A4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E141F11-947F-46DB-A8BE-38C50B751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FF3CB3C-5ADB-4585-85C2-9A28697D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5C9DC76-5F93-459C-A61A-2D43611D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503E4DF-9F4A-47A8-BFDD-275D79BD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597CF87-90C2-4FB9-81C7-809F603A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ABC6C8F-D9B0-4EE6-9727-0ACA1576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D6D01FD-15E7-4DDF-B87C-C448272F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3DCB3-07EE-4427-BB00-E44EAAC1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98EB05C-088F-4B7F-8054-F1EB95CC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1270218-C293-4689-A4EB-88574DDF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30A635E-D432-42D6-9F13-EA8E105C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66AA62F-07CF-4982-8D3B-B31C68F40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EF0585A-872A-4EE7-86EB-B43C96511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1F1C1B8-521C-4AE7-B50F-FDEDD2945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6FBB7B3-1DAC-4FE3-BEC0-82280E58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DD7DA45-5A44-4066-9CF9-42227CB3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028F962-4B24-4914-B2C8-DF6AB5B3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701D115-382A-4059-B068-08A3E84F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9A3DF-2958-4E90-8571-7B50B612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51CA7C1-6C4C-4F70-A5C5-7DDEC860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6BE9C54-44B7-461F-8DAC-DB2F55A3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EDAD509-E78B-4BAB-A936-3C118D1F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FCD5BA0-0D2E-427A-AD6B-895BE0C4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8124435-2B3F-43C0-B270-189767AD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316B528-DBF0-47EE-8877-3464044EA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46689E8-3258-4818-8655-B7AFF8D20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0A4E280-7751-41D9-847D-260A7EDF1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D0645DB-CCD5-43AA-B06C-4F828A60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512666A-F206-4AB4-BDA3-A324C3CC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17C2-E4CB-4A3F-AB32-8F9F4161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8215C-84A4-440E-8827-F64B95A0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D1D8981-A33B-4C67-A0C9-EB7409A9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4057A3D-6A8D-4B61-B91C-AA0E7E6D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EBC2F32-8D3E-47CA-A6A0-9656D303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8848CD1-47BA-4489-9D95-579FCC7B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4578493-FD7A-4AC0-B2DA-2CA2D730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68EE047-B33C-4FD7-9DA0-C626A734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C67F121-A020-41FD-8EFE-7DED6DC5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E24FAEA-F6FD-4E72-8C29-B0FB3EF52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4DE82D8-A079-4477-9EE8-4E2822F3E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77C51F4-BF06-4B69-98ED-7C80AAA75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25982-1913-47F0-8113-37F745E4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9F1C195-3417-48C6-B51C-235A6D9D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B7160D1-7275-44F8-B6CD-6E38DC9C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F2B79B8-49CF-42D1-A4A4-8026A848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5A3A8B8-A48F-4E29-95C2-37E329E4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0888AB1-A418-4DA2-9DF4-BAB317D8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69CA3AC-2515-45EC-A80A-E610B1CF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B8EF2AE-EFB3-412A-AA0D-1CC35ED6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6AE2CFA-FC83-4F46-B392-9D32FFC8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047EDDF-D93C-47DA-8D45-9BDE823F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C08D58E-D2F7-4700-9977-6919B009B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98167-F5FF-4F40-AF9D-53D6E514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99B3632-0A03-47B1-B8E4-0128445FD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57F0503-3E6C-4C9F-8275-55EE42524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53942CB-1030-469F-A6F2-68865DA5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A334D4E-7450-420E-9E22-B9147E14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EFF770C-E45D-4041-ADB0-282643F0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9B32299-B92A-4936-B356-EE471D20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5B85624-92B7-49A1-91E2-09D76148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35A5B5D-A90C-43AD-88E2-A0C09E10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AEDA134-11BF-487D-B2A9-3A9F5BA5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03E4953-B9E8-4D27-A33D-B96CCA7D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54F52-2D7F-49AE-8140-4F48209D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9C484EE-C05A-49F7-8CB5-F1374B18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1CDFEC5-57DF-4F19-A795-45C2B2715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47BB39A-9F57-47D0-9769-0AA820F0C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8B455A0-B533-4105-8718-B93175145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5D8364B-B9D8-4394-912F-0EDC44F4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3117D1C-CC2F-42AD-B7E3-49C06214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345307A-FD85-4443-AE98-E68D7C49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A9A3709-21A2-48FD-AC24-D4124AB4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6F3F4AC-F32B-47F1-95D4-2CE40D94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6ED0B5C-D514-4E2A-BE93-FDBE68B3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F9E81-F82D-4659-98E1-EA599FFD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61352E5-8E8B-4884-9A3F-770D5EC4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07E4377-72C4-41AF-86E0-6E5DE2C4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FD2D5CF-0BB5-43A6-92D6-AEEF4EED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3B9CFE8-8029-4819-83CE-68D4B37EF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8DD2DED-C2F8-4968-BE37-D306FF46F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C3C604E-880E-4F8E-861F-577B3DB93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E94F4E6-5347-4E38-9D96-5934D1BC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3112AED-666E-4A86-BD1C-5D92E482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16ABDCA-D556-4B15-91DC-2D0BB6A3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239068D-F74C-45EC-9650-7ADF8F1D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77B68-DCAA-43EC-A9BB-9643B368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2E8196C-7AE4-49A1-8DA0-BA0A8F12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551A924-9131-469C-8257-833A4A3E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F495180-E96E-4DA3-8811-3B0FCF4F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504FEC7-F3D1-4EEA-AC6B-9D606045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FAC0422-5956-4FEE-8F18-40BF7DE3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2BFD691-3F34-42A2-9578-720474313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1DD3C13-AE0A-4D85-B2B8-66F22275D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96E020B-F357-4AC6-BEF7-7CDCFF410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D0EA066-258D-4FD4-BB27-79387449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F1F50F9-7C09-4EC5-8E3A-87C2531B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C4050-7A45-494C-924E-C6A57AF9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E9E656D-4E5D-4BA3-A7D2-0DA7B609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C0BBC36-3331-4BA1-A9F7-781B650C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50BE2C3-2C95-44D7-8294-6E5AC04A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BA3F073-A081-40CB-A409-6A8668E8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C8FBC32-4161-4721-AD27-F7B2E036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E74B173-7D2F-4222-BB0F-14763B6A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D008256-7052-456F-8B3C-B01E613B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1309488-FB9E-4E9A-BD8A-D90F432C4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6344FAC-645C-4D0C-A529-A31B50571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A5FB19B-E671-4227-AEDA-8BF0D9D6C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05ECC-050E-4883-85ED-25C037F17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F67A5C3-7073-445A-B1BE-7F2E04C9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D320B57-0754-4A6E-BEAC-AF8BE8ED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41A1024-BDE0-4219-BA6D-B4B486DC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AC76364-6AE7-465C-8497-72DB61C3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38E29C5-FE51-458A-B50E-93404985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BEF0E9F-5CA0-4CAD-A645-5AE1E63F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7C21508-D468-4043-8027-0F36130B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891C5BC-437B-4C18-A3FE-95DE625E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B73FF44-44F1-4ADD-8E94-3A922A04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C9AF8AB-FD6E-42A4-BA81-199794C5D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C1B72-46AB-4129-97DC-EA8E6BDF8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7E14BFB-E95E-4A49-B21D-12D269892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2FFF2BC-92D2-49CE-AB12-200C1A1C9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B409F43-88C0-452F-A762-63558BDE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8A6D062-81AF-4BD2-93C8-A5682B94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D943C3E-4872-4294-941B-A9656E8C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E3A144D-70C6-49B3-84DD-738EE4EE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3333083-71CD-405C-BE83-608DD1D3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C40E793-1B7C-484F-8A05-D0320896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7FB7AB4-B404-4183-BBA0-8D40783B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6CD139C-40F8-4DDD-92F9-C7E64DF7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D3DBD-89E3-4B67-AFF4-A7AD57C08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79A556C-C044-4832-BA78-E96B7BCA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A056BDF-6924-4D42-87FD-E8366B888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6569DF5-EDB1-4E67-9684-A409300F4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B491989-474F-4E54-A35C-6557BE5BC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217A3AD-9904-4D92-8658-B10D1E46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C4B0AA7-7199-455E-9B11-E4DD43EF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75AA510-BC34-47C8-8C84-1D8E71EF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0063A67-A3CE-4763-A5DC-4EF49366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C9EB7E7-0166-4B0A-95AB-97B4A096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3302240-4B75-4396-B5A0-1B95F7F9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C209-548B-41DE-B9F7-ECBE7103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87A65-23A3-4332-905D-596F9919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DFF4038-042A-4CAC-893B-A81B05C7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F1F3CF4-BAC4-43E4-86AA-54FC5A49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6DF52FC-B55B-4B6F-983A-8D0A7AB1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7361B88-8D23-453B-BA11-D5D0DC5CC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3323398-8F2A-4CAB-B149-A3336FA35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F9A170C-0FAA-4DDD-9877-23556F81C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A14F8A7-E656-42C8-B52D-E9288DC3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27D4AB9-EB4B-4677-9809-5C81AC5E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6C8F40F-4A4B-4A1A-B401-41965208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E68AD71-9CF8-4F19-9438-3F8148E9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4817A-D19D-4057-8A6B-0E958224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92D515E-1EA6-47F2-9F50-01A5793F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0A7151F-9562-4849-A984-CE373647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495C48B-9719-4E63-827D-59588701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F5134ED-3985-4F47-8D61-A32D23C9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0329D04-F654-4762-ABC6-FC12DF7C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DDE945D-ED2F-433C-863D-5D8074E6A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6A2C2CE-EF58-4B79-A91C-E286968A4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3F739AC-CB5A-4083-9431-0ECB37C0B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A2F1ACB-FCA0-4B4D-8DA8-A82CC071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F7A4813-3E7A-42C2-A1B4-4BBC0FD7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E4882-C59B-48E8-B86D-4844645A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E92DAE6-744C-4E17-997A-FA82379B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1134EB0-9399-4BEC-B3B7-11E7212A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06557A3-3989-4D66-A20D-9D38C4FC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ACEAF66-D14F-4FC1-9B7E-069BADB5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9938F02-13FC-48CF-97B0-FA01FE42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D7F7E08-D1AB-464B-9C31-5F9362DF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8256FD7-28AE-46BA-932A-3E51E33B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B73F914-DA21-4923-A864-56DDFD951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959178C-9517-48DC-9719-FCEFEA2A4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9849FC7-693E-4509-A359-61E7D5227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BFA55-4BE0-4E67-82E0-0B9414B9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BBE1430-8C11-41F2-93CF-4B1AD893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B7A45B0-D3E0-43EB-BD99-D6CF4801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88A47D4-A518-4A24-A38A-040D7DFD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645A791-0D70-487C-B7D9-18AD26E6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D7D7261-C566-4F46-9D06-C6870CF5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59E61FF-135C-4878-982F-E15544EF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CE9DCEE-6418-4C35-AD8A-AEB03B8F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C798E84-55EE-4FAE-9E56-CE34D8A1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214BD06-3617-4219-B896-FC65861B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3111E92-FA1A-4475-98DC-8A7B078A5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51AA5-84D3-47CF-8180-65B790BA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F0EC5A6-39A8-46E5-8BB3-2A0EAFB8F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957E12E-4A3D-4439-AFC6-95DFBC032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7650262-0FEC-42C1-A8F3-88AB359B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C738830-2A31-4071-863D-F983DEAD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F9AC8A5-4805-4712-8102-52E08AA6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D9540A2-B100-45C6-B700-C4E82B4D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BCC01F7-B687-45B2-B5CB-6D4CE6EF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98DD76B-779D-43E3-B2A6-688C1CD8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945ECC3-0EE2-46A9-A56C-BA12DC54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5C7C6F0-CF4C-4355-9307-1C894FCE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58137-E9FC-42FD-A90B-C182DC17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718770F-A972-42EF-9A0E-8372AC8F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A4F2091-6700-44D9-9457-C23E8D9F1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2FE89D5-81DA-4C7F-8A6E-DD07A6781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1533FB6-E891-4CF7-BD93-9BE882FF3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0425920-62EC-406E-A526-4202F052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39FDD4D-2010-4AD0-A116-532E7DC1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737BA68-572F-40AE-9BD8-2A7E2ABF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C76437A-7B92-4C90-AC73-0A278B4E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C62140C-AC95-455E-AEA0-410878F5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471C695-B54A-4B7D-A333-EC9C59F2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630C0-FBFD-4D2D-81CB-C5ED4F0B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C097F89-2F78-4050-91DD-59FC45DF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C84E43A-B5EF-48D3-8B3D-6490A383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C6D89A9-1562-468C-BB70-53017EDC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2D430C2-C74A-43D3-9EA3-586C69CC3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E550409-E325-4FB3-8BD4-028C6DB36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63E252D-CC82-4B21-9E85-9B6731AA1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9BB62B2-8216-4871-8687-26ECA207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FCF4C3A-4762-4CF1-A37A-1CF8FC1A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ECDD6A0-6900-4DAF-90C3-0501B8A1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D263E2A-C289-450D-9BAE-0207D6B5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89B39-EA13-448B-9328-1048AF7F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90B7378-6ECA-4979-95D3-5EBE0DE9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F012EE2-89F1-4789-AB4B-4AE1E41B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7A2574B-734F-4F61-A840-D070960E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C728570-DDE8-467A-97BE-443BDC43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71B7757-BA95-4D0C-A9FE-6DA719D0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6DE009D-274A-4F44-9537-BE882AABB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5A5D928-AEC6-481D-BA6C-33BAA1288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E0E7884-0B41-46E2-B9AA-2F289A44F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6C484BC-1F87-420F-B766-BDE704CB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24B5F1E-3BEE-4969-B513-A263F96B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7D42A-09CC-42DA-B355-7056CF2B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FA00A40-8F10-423C-AEC4-FA0DFE0A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DB618B2-5928-4C07-B3E2-F3926872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3D2FAA2-EE17-4B0C-B97E-62284084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2C65D8E-B518-426E-995E-19F0D503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524839A-6504-44FE-905E-CF59F911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D1CFCC7-6184-4B5E-B7FC-4A61684F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C3E0D90-5DCE-42C1-8D79-67399BEC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5C355F8-E8D7-4A81-B89A-4C394EF0B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E700361-49BD-433D-9719-052997349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4D4A57D-0F1E-446F-9180-9C8EF1454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09976-8F06-460E-BFC6-3217C10F3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61B2A52-48F7-44EC-9D38-9894342E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5319146-4BDD-45A3-8CE9-F67EBAB8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027BF5C-6FC5-4D4D-A0E8-BF5CCF7C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84765C9-D854-48CE-B3A8-DC550199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411A990-F394-433F-BC78-A7DFB23C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8FDCAFC-48E9-4D60-AFB8-1877108B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1F9BFCA-FBC0-45CE-BDAB-18D8D146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EC865A8-CF11-4ADC-9449-BEDF828F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720698F-A610-4514-97FB-4D425FA1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8648542-37F4-4873-B221-6804D5C1A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B7C6-6FE9-4C36-8DD7-8C21C39D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75712-9A8D-4035-A68F-3C597D53F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0C76096-C7F9-449B-B9CC-CDBB6936F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3E5E107-B570-4703-B914-F79870DDF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2EB5B7C-18A2-4D15-840D-DE261AC6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5F608D5-E9CF-4BCF-AF1F-02BE55CC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9A4050E-C7CD-4546-B2C7-D6BEA699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AAA8A3C-4192-4E77-A471-ADB819E9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9ED08AD-E47F-45F1-A74F-22C61AE1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417B151-ADD8-4647-9A25-374E0E68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4AD51EF-293B-4332-B21E-E36E60FE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DAD100D-58B5-4BE8-8CE3-C616D6E2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698A8-D7FC-48ED-8569-0798494DC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2188B1C-DA92-497C-A14B-59685391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7290885-582E-4267-8D10-08514C7A4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CFF7DEA-09E6-4CD2-9DA4-E70AE480F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A5B437D-B912-4344-AD0F-C8CFF3F23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18A101B-E902-4FC0-B090-ECF2673D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E5BEBE5-AA23-4015-BAAD-C45784D1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3406D6F-1B40-443B-A28F-33F8A2E2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8C41EB6-EE08-4267-B04B-A284C0A7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875E2E5-0E2B-435E-B9B3-59968463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D8D2EB0-F5ED-4CE1-8A4D-6354D974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BF0E0-FAEC-4274-8651-70BA776B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8CEF57C-BE7C-4E60-8BDF-CFD32350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8BCA410-285C-4E58-9FF8-1A007661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1F2FC9B-0F25-47DB-B3AA-7E42CAF1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F470CF9-B483-41AD-8553-5EC17C087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0963C32-10B6-4409-900F-75F3C4DCA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5F749DD-1659-4350-83A9-F479A40D9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20CC8A5-F936-4622-AE29-986CD212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076679B-47F7-43B9-9FBB-F006769C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54EBFD3-2009-44C2-8250-E8D86105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9D27317-E964-4C4D-BBA6-A36AC15B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E79BC-1053-4FD1-92F8-A7AE3585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9FC02F0-1313-4E79-9254-9791B13F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582C050-FA09-4E65-9AF0-CACAE9FD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0DE7D51-4AB6-41C8-9BE0-9D53231D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8A41F63-8DA6-4701-AD72-FA690968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53A6BAB-F7BF-42FB-AE61-73D65A85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9F7536A-2272-4165-9725-98ECF789D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24E8C29-8A76-4AF2-A8E3-D507327A5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7AF12F4-3145-4BE0-8676-9105E43EA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E655D49-E13B-4AB7-8585-1EA2495C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1648241-3B11-4D68-A51B-EED6A087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A9228-4B6B-4E09-A82B-0384D229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EBDCCB2-1A4D-4186-B5F2-13BF2D02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D38B20C-F8A7-4217-B260-C0819355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284EE1D-70F9-42D5-A7EF-F004CD7D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907E145-F5C9-497E-99A6-8E5FDD63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BD5D533-02C8-436E-BA5C-D0F65F05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8E721C0-80A2-4F64-A1A6-80514E18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6467A83-2FC0-4211-BAB2-07CE3B7E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21DEA1A-B3DB-43AA-A6D2-DAC1F24BB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470EA74-D2DC-429C-A79F-C5205D76F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0DD99C5-8F89-4C2F-A472-D8D69D374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32E2E-E942-46EE-AC4A-EC7611F3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3AB4467-76A9-4939-94DA-EA26BC9C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2877A4C-2D36-4FE8-8324-9A4C358D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1586A3D-3E16-4C8E-9837-E30ADC7C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B25BE86-CFF7-4689-BD6F-0ECB4B9B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92FC6F9-47F8-4D68-A600-CEEB3331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5E8A400-5AEA-4313-B3FA-B483FF66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B3D9262-1AB2-425E-B08A-501FFBF4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2692E13-52A3-4D5D-9416-99896447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B8D267E-BB62-4E7F-A36C-669ABC33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23C07FF-05AD-4C19-A317-257E4E130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35973-2B00-4AF2-86C7-0442FEC7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FB6F9FC-2B92-49FE-896C-F9729FEA6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AE14144-A9DF-45E3-A873-B188E65EC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C404DC4-3F81-4A24-A57D-CD76C8F2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9EFFFBD-6FBF-402C-8578-27AEE5CA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1DB46A3-E4AD-4070-8B4C-FC344491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A4795D6-A7AB-4FC6-A5BC-C9804E01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A674955-6B9F-4658-AE4B-BA7CB5E0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D3C7351-13BF-44AE-A77B-FA14C419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2E0B5B5-5170-46B3-AE40-460FE8B1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6E6364A-7E27-4BD9-B1FF-9CAAB4DA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1D772-BA2E-48B8-93B8-AF6A2504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FDB9AFA-A28B-479F-8545-BFC7EE4D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80482C0-F3FE-4DA8-9445-3112734A6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56D1F55-4DD3-45C5-998A-01D203D28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B0E8825-875C-4C07-80F9-998643747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2E2A016-96D4-46A0-95C9-66218D09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EDF79B3-F0F0-427B-BC39-10444358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E3AAD3F-6440-42B7-8A2D-F3A9FD9C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7982971-CCF6-4125-962E-B1E253F3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35A0266-E86D-4279-A08F-822AABA1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0F5845A-1D00-4AE3-AF06-B1E10FD6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6B7CC-9B60-4444-B58B-5682CF88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97B139A-1EF0-4D32-A531-CE4C5002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DCB2ED0-FB3A-4A35-A929-CE992885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E3F3941-D2EA-45FD-A5ED-4442CEA8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1B58405-FA79-4D58-A77E-AD71D65B7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11AA043-0DFB-4220-9004-C11BA100A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3FAB978-5F49-4B57-A65F-91BA0FA4F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4683314-3591-4EFC-88E8-28E75461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AE7D66E-28B7-4321-86CF-6751BF74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F7969B0-B47F-4F19-AB0A-C8282CBC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6F21FAF-079F-48EF-8E79-1F9BED38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A020E-8F8B-457C-8C6C-73E7B983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55909E1-178E-4096-B54B-1B162C2C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2E05A9A-7A87-45CF-81D8-426C09F4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3FBE656-E7E4-4913-93EF-2CC1808D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85F3E04-ED09-4468-AA3B-AFB2C9DD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108B1D9-A293-491E-BE4C-198B0D70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CA8CE42-01A7-44B1-90FF-275769CCE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4B82B87-346C-4D98-AF0B-C6EC366E3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FD4DB792-DE4E-4D64-AF42-5E2AD561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FF213225-EF1E-4C2F-9D50-E15E31E9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5958E7D-58A4-4CEB-80B6-1E4EEDB2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D0E0-A0C0-4232-A9B5-5AE55426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4DC39-7912-49A9-AB98-C5138661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8AB85A1-6269-4CAC-95F1-5CE51F61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7308633-12F2-4FFA-9DDA-D390800C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6F66258-3A7B-4C2E-A7D9-C9892894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489AE53-9BA8-477B-BFA5-C55836BE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D28E664-203F-4E88-BA96-786A076B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5E8F280-6AEB-4B98-9A84-2533031F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81B7CE7-0D26-4E07-BD4C-B30C6653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3118E1F-D5C8-4BB3-9DBF-E8FA227C3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0307575-FE84-420F-BF04-0BD79892E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2928AA3-A01A-4BC6-8008-AF9F55B4A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F3D94-933E-4D11-BAC5-6E9AC102B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C542B6E-1BA5-41D2-A288-89E46839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E07BC34-76F5-4A5F-AC01-4F578140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C8D058D-64D0-406F-9A60-106CE60F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F9F28F9E-BA75-42C8-855E-429AC8D0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CCF50A3-DCD4-406D-B668-889FC987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F6CCF8D1-3C18-4676-869E-DD249749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E2AA5C64-C43C-4103-9AC1-F3B5B15E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3A35210-067F-4166-807E-5DFCD7C7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71907F9-71C8-4E51-9FA5-9CBC7D44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6E385CA-DB18-4CCE-B7D1-A3C348784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C3A78-C213-4A3B-8C11-DDDDDA94B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BB28A7E-B50F-48EA-B69C-C066B1C72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FF3DC2C8-504B-4247-9459-37212D1E1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F8175F1-7210-4041-B059-A5ADCD3F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0B90F5B-62FA-4054-B5EA-2D4F38A8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8B82974-0CE8-4E6D-AC40-4A12DD65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C7E3105-77FD-434E-A369-6DE7005D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5B1C8F9-0B76-4AE6-B6B8-9D4F990B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9169EEE-CFDC-4822-9FAB-AD69C801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A0EBB08-FA2A-4AC2-86EA-EA7477C5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B568600F-3308-439A-BF82-312BD7B0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FF829-F349-495F-B84D-F6CC76F43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239522B1-F4DF-4EE6-9EF8-506F9E03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D05D12F-6804-4A8F-AAF5-EF1A8914C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11EBBDB-8D7B-4B38-976E-EFD38A495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762809B2-4BF1-401C-9F1F-3363B3783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E0C49493-EF8F-416A-97F3-F5331A74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8B0E14F8-D99B-42EF-AFCB-060D1C79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42560F4E-2C09-443A-AC34-83E1D269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CFD3AF47-2A1E-482C-90D4-95FE29FA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28CCA109-3335-4D4E-9672-69EF569F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C8D3FF17-8D0D-46B1-9FE0-E5258552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0F336-47E2-4705-9847-01834108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C978518E-7BF5-4C89-8245-00C0E123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AFF26BAB-02A8-4123-B677-321C2943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41B0BF09-3174-4FD2-BEA0-8483F6A2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5180ADE5-6E2E-43DF-AF01-98B864B7B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D2B368EA-C600-495E-927D-E96AB6625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EE33FB26-17D4-4561-BCDA-EA78C3CD2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9DBCAAC9-6636-4528-86C2-80B02DE7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E91D57BC-5542-461D-8555-8BA36FF0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580BBF1A-3222-4D17-A118-F22E297F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E57FD367-5262-42F8-A5C9-F010FA11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C047C-3051-429F-A682-B91F2FF3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78CC9145-B42D-40CE-BFCE-D4B7FDE8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5D12CA3B-8034-4C13-AEEB-4A5E9375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58F445B3-9023-4280-843D-44431099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28C5E1CF-3017-4077-B3DA-0AC34988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1F8DC2DB-44D5-4D86-A5C5-8EFE0DA9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DD689B17-7ED9-412E-8DFC-E22204900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E63287B5-CAB1-4DC8-88A2-F877C11BE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3A4451A3-247B-4664-9E2E-22F59F0B1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BB7F096C-D402-4137-A8B2-37C03A20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4E89C35E-4E08-4516-BA96-F2FAC518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437C6-B6A6-4297-9E75-ED3C41B3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08D2B7F5-294F-47F3-82D4-81073203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0E9399C8-2F60-4B0F-9C4E-A4333092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9D500F69-BF7A-4CDE-87BA-320761C1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E488B2E1-3BFF-4A02-893E-BD347582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45EA05DE-CB87-48E0-A164-9E2B1935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D337608F-109B-4E07-B4C5-A9214478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21CF614E-2137-49A1-97E2-93EA4AE5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77697775-A8E0-403C-9897-6D2686ECF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E5380A8E-2FD8-4D15-989E-F98C4506F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17AAEA90-B46E-4750-93B8-53798CF90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290FB-D03A-423D-8F91-02E97019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193F7C38-835D-4949-BBC5-6B3EFD2F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2D6AC64A-C4E3-4D86-AE3D-9FB9413A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FED941C4-1EB4-4D8C-B5BA-235A56A4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BC55A34A-0908-4AD5-B5B1-1075E643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1BD5A9A0-9D32-4CB1-A460-1AAD41C0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44C0C5B2-8430-460C-A73A-CDEA3CEC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5A895B17-8EFB-458B-A94F-B04A0704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1D918D80-7045-4EF7-9908-3D8E8972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18B66C56-AA89-4649-9A4B-0F4D17CA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F45213CF-D3B5-46C5-95B0-5727BD46C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D0B52-248E-4D68-80D3-3C5184F9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02B3BFED-1E34-4EA8-B23C-60700E89B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E36EFF7D-2C4F-470D-B580-002C0556D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35E0805B-CB30-4BD1-A93E-935F02A4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ECB32E6C-535A-4F63-B3B2-3257CCC8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05469A49-815B-4C73-804F-9A6F5847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256420E0-4924-4E42-A5CC-39C23EC5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AD2B3C62-A38E-4B1B-AFE2-96DBBE6A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7A4F2E0A-BBE5-4D8E-99FD-78A2196D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E3D3AE8C-8344-4747-9C1B-54A9F8FC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E2BC93ED-1348-46EC-8548-8E6CDA30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6EB43-EC8A-4CE8-9AEB-1AF592C2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376C3BD1-E9D6-47DC-AC00-1B5BC59C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1D60611A-92A3-408F-86C3-3C7DDEB53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42D8F48-BD53-490F-9683-13B84A249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CF277B0A-2FDD-42DD-A805-97C985819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EC4853AD-475C-4E44-9A2E-F65FF872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CFA6BA6B-F325-4786-8437-DEE64286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1D1F28B6-6187-4C11-A8AB-D8E280F0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E1860F9F-C0AC-4435-BDC6-104BC572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CC1EE402-C48D-41D1-9554-3A93F974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4BFFE86A-BE71-47AF-8448-BA686B2B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D525-74B0-4C2D-A55C-FE00BE07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CB7F4-2BC5-4DDB-96E9-ED510328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E65F9317-C101-40BC-A9C1-E948B957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E23DEAFF-A929-400C-981C-8ED5435B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A2F48EFE-380B-4744-B006-F9355431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54FF4ABD-F1F1-401F-B06F-8760800F3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218BFF7F-517B-449B-9DF0-8084BAA98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1D7BCD5F-2385-4ABA-BE0A-180DD7CF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FDF07ACE-C509-4F3D-8C88-9BE1C2CD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FED8776E-FB3D-41E5-9DE7-3380D724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7EC58CC3-47FA-4B6D-9DEF-F3CF352E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FE6D3A3D-DB3B-4482-BF1B-E655D964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40962-E837-434F-81F6-C93CE81A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59A31A01-8516-447F-A959-7DC341AE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1BF4C1C4-23C6-4EC4-BA22-D6D8CF5F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AA2A0E51-3B61-4E65-8254-A283B4EC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6623ABEA-51AE-4AFA-8760-259430DF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7B56C61-05D4-4A2E-9163-04033BF7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82B49694-3496-41C6-8267-0B5EDAF45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C00B7F00-292B-423A-A7A6-1DF8949E0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EB9BBFF1-4CC6-4928-A9CF-FFBA08467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78B84414-50D5-499A-B94E-8FE6EA95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97237BB1-0C96-4267-ABCE-C26CA4D9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57449-D7D6-4DDD-863F-1E82932A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65F536D0-C805-4509-9975-6191D41B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74A1D9B-80DC-4E77-A8C3-ABD5BBBC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EE34CC2B-CF25-41E5-A05F-1321797F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BE2C916B-56A4-44D8-B29B-B2A0EA70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58E04BE3-8A90-450F-AECE-F80AE233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7F0CF695-672F-409E-BC9D-29C4E665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2C490860-A53F-4C4E-ABDC-76A4B5FD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EBAA6974-9631-49A6-93A6-0E11810DB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11A8198B-172A-412E-AE6B-5CBB86D27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3AFDE22D-D9F9-4CE6-AB63-AEDAF6B1B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CD69D-223A-45D7-A513-0642EDC8C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18E58C1D-4D01-4450-9952-FBA0104C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5349528C-E45C-4245-B840-6EF2722D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8E61991D-B280-43C4-99C6-801311F9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2FE094F5-2AFE-479D-AF38-3CBF28A2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544A8EC-8D4A-40B0-9944-001FB2BB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FE90D8D-4C31-437D-A964-4035F0B9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07F7DF97-9ADC-4B96-9102-CACFE50A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87B380E-EEF2-41A5-84E0-CABEA569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D836A98-09F2-441B-84C2-71C4E93F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20AF6AF5-4D78-4389-87DE-320CB5B14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864F7-0343-40C0-A188-F812BCEF0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B9006374-3187-4181-81F6-49DD41CC1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8198E3E7-6BDE-4518-8116-ADD69D297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2CC7DCEA-F086-4BF8-BEA1-8053E049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5917EB38-88E3-45F9-AAFC-02D801AA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0D5BA5CB-2F1D-487B-9123-B0FC552E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748202ED-30D0-4A23-A48E-CFB69718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954F2188-09BB-46EF-8917-5BC397F8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AE90EE1A-1DF1-404A-B57A-EF170D29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29AF0E3F-062B-4D19-A82A-43CF9578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EE9F79AB-1BDA-4A31-AF40-55A3BA71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3C65C-D037-4A41-8569-3609CF5A6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31A86BAD-413B-4DAF-8665-84486E10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85DB9A35-C9C7-409A-B60A-0A0385D49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72AB20EE-F16B-49D9-BB4E-FC93881D7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393DA1E7-9232-4E5D-A31F-F9AE87628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5035727C-0069-49EF-8E87-B39F0831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195AF199-4A8A-4CB2-B599-1ECBFB40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EB47F2E7-22C0-4BBD-B59D-AE5A9D07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1B8C1093-0B46-4009-9843-FDCF5A44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1194C411-718C-445D-B5AE-EA3E50D0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84205E80-2838-40D7-901D-F8B91CC4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614B6-F248-4C2A-8673-1D3980AD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CE79F673-2175-4CC3-806F-D806EC5F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A91FB7EC-08CE-4E20-94A3-9439F7CC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7F5D3E1A-2D25-486A-B4CB-3E8FBCA1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0E9C544D-92AF-44C3-A318-1D1024A1C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6883FDB7-5AC5-4FFA-ACA8-A97B01EEE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2B4B9615-6D5A-4FD1-80B7-74CC80920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C36C63F8-9285-4800-B517-D1BA2D8A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FC9667BC-988F-478B-B66B-A09EA803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4EBE550F-83FF-4321-A8AB-578F3736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3714EF5B-FA9C-4161-A80D-7FDF734E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A4DCA-8D9B-4EEB-8D9C-9C221370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E6B6B266-4C2A-4683-B812-01F38675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17DA205F-9567-41D2-ABBB-CBADA9D7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69CCDBD2-DA3D-4376-B55D-5B31EF81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4A46A870-C2F7-4641-A05B-179EF304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D84A121F-DF83-42FC-BDE5-7FEC27F4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182452F0-E1C0-4286-9694-01D545838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5C1D8BBB-4572-4CC7-B356-8FD70C6BB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516846E9-E68E-4853-9DC2-4A45D7374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D28E3ED6-8FB5-4D59-B1BB-24DA37DB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793C316F-DD1F-4542-8BDA-4455D2E2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EAB1B-9EA7-43E4-9F8F-4D39159F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72303E93-0554-4D3D-81CE-F70D64B2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D987F55F-0F3C-4CAB-86A9-6AF9FDFE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73970FE9-24F6-435F-87DE-09F84CD8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25DFE795-114F-457A-A74F-6BBA24AE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8B884B54-C468-48F4-B0CD-9DAC0397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87A76CFC-B031-45DC-BE4D-36708676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4EE9EB8D-1D5C-48C4-B767-429E6E3F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6AF3F481-5D17-47EC-9AB7-C4AC18ADF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5D584FE1-50A6-4995-92C9-B2A4191B4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1212D412-F2C8-4BF1-99EB-F7B9871AB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F3F4C-3A0F-44C5-A976-AC072BCF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E48CEA3F-737F-4A77-AC33-5F26C3E1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E4ADEC7C-F7C0-44BB-953C-9550F65D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3C861BF8-68A2-4F9D-8B9B-17D988AF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F72BB902-7D59-4B42-A48C-91B560DA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2C806558-8B7F-448A-BD03-55946F01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E1BB52DE-EA5C-418F-A6B7-0476277D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CB8C4918-6A63-4ED7-B40E-4741C4CC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A53AE7E1-23C6-4C68-9711-16C908D2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D551EC59-D59E-40BC-8FC5-8B2DEC4F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9A2A2F92-F151-43A0-9925-58621DDF4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0D8F-8507-4BF1-9523-5633816D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50028-FA07-4573-BD7D-455042B1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3E8A6FCA-1DD7-4CF3-B76B-8D22A1178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27FCA48D-C630-41D6-8792-97443F465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21F4635C-B3A4-41F7-AEEC-6C1EDB6D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D86069F8-44BF-4204-8031-FFED99BE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39C211A6-87F8-4020-A612-7D6A8D9B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8796162F-315F-4AD0-87CF-221F1DC7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E110DDE4-6476-4908-9CCC-4D676ABB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DA84231B-3CEE-4344-A564-114AE7EA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D3063F23-E413-49E0-8722-F37E2775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57B762E1-7E00-460E-9936-D36C90E4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D6D31-F22A-4592-B530-CF54CE86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332EB746-5192-4D7C-9533-9F890CDE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CECF7D99-A662-4037-8016-9F65E5FB8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69B8AB95-6BC2-4FD3-9CE9-860C87AF7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264390F3-890B-400A-9D3C-1BA4A2C76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1F2D0DD4-703B-4724-AB69-CCAA3372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7B8D1B50-2299-4139-9954-1ED77C19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BFA4FC28-C3B9-45D5-BBBB-48998E1F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40B028E4-30E4-4710-B460-936A02BB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62508B3E-F59F-4557-9F00-96835C88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9D5FC335-59D1-4036-BECA-DE88E948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A6224-76C3-4C63-87A1-26F2C471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1298B5D8-F335-4FC6-9C4E-E2223982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99E2484C-F45E-449E-BBA3-4A407AEA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D55C57F5-47EA-4877-8936-2F8FB6F6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786FE2AE-D3FC-4159-8728-3902CFEF0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D6DD53C0-789E-4EE3-BD09-E44F63901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A069D29B-1E8E-4268-9AF4-986A4199E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3B65C9DB-9695-4AC8-94E8-665951DF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5734AB0A-F8DF-4165-9E99-739669BD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CE2F8B71-8749-4F6B-8709-FEBF190E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BC8AF249-DEB1-415B-90F2-29C36DD3E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A8C31-A5C3-4CCA-B358-90758D04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39B94453-2E8D-4FF6-A9C3-CAB0C7EA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CBB1F851-18CA-44C6-94D6-C173FF1D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F1025F0D-E166-4443-8800-982AC4A8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4B80FF79-BD37-49D1-BD85-D8F69D72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B5561E17-1656-4324-AE95-7891E6F3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74D4913B-A864-4B94-A68A-0654D88B9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7B9F68AD-5F72-4DE3-95EA-1C14C72A1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7865212D-B9B4-4986-A797-0DC2A8D55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4AE15690-7F0A-4033-A740-B9220DB1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D0329D4E-CA35-4B5C-AFC2-3FAD6B30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5F70B-39B9-4390-A000-EA7C7DE7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3D9B138D-2241-4E51-81AC-0A6482B9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1BC3F22B-8484-4FE6-A728-B9958F3B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CA15A58A-FC83-4C56-BDE7-6539EAB4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6C5ABB83-D742-4481-A143-4FD7B9BD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638DB5DD-8080-4F12-A73D-C785D6BC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03D8BD33-EF63-4FB2-9741-1EB81BD8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03B453C6-ECC1-4FF9-A92D-D20F5139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3D429C78-064C-4FC6-911F-16FFA7F99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C125C73A-77F6-4A00-B11C-D2E6BA827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9826F054-0A81-490B-94C6-01BD6654E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FFA64-F479-4E93-A224-5B42C2234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226105D3-D949-4355-9155-82E66A86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F2F7BEFF-AD37-4685-87D2-792DA379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BA58AE1E-894F-43AA-8C4B-0477F578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C6F2C72D-EFF4-4267-B005-A3EA9098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A5AFB8A6-9D95-4DC3-8D1C-4D8A2B70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239E0514-0A85-4492-9D07-4C6D4B80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82994C43-B637-47D5-87BC-440B750B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F87D7183-D768-45D8-BD45-5A4D731B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697430E5-B736-4108-9DD1-048C9B8C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3257EBC2-2A34-4A1A-AEB1-F0839675A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D9D77-E8F6-4C43-92E5-B8AA684DE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0722C855-E088-44A8-8600-C78C9631C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4C3A0BCD-3F16-4DE1-95F6-693A29989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7C2A89AA-2E12-4558-8831-F0064D7E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8EB4D627-1A2B-4D85-BC06-121647EC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221063AF-DDA6-4D92-A1C0-DAC67849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A28E762E-5660-45A8-B50E-0BD2F117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30A4BBCD-0B45-4C17-8572-DF72D1E7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6F4106A4-9980-4C4D-8868-1BEBE91D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B1B70524-2568-47C7-9D74-E956C33E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B1CEC7F5-D331-4573-ABFE-19D41D00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0BCD4B5E-12B5-4AC5-BD20-1BB0E3DB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F303FBE3-A186-4E95-B96F-F54DF28EB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4BBD6397-0588-4289-BCAB-B787272DE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5FFB6468-A73D-4365-8F1B-2B4A397A6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A4933E28-F186-44F7-8BE5-D2265E01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676F0227-CC8B-43F8-9C7C-11F78B93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873CC745-E4B1-43EB-9522-CC942418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3F845540-DA1E-4073-8AB4-BE184E93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533E6866-FB1C-4E5C-8522-6C875A55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3826BDC5-F7D6-4FDB-AADB-0A9A1F95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7ACA953D-B8D3-46FC-90AD-F9677060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BF59AB9E-18C9-4B5F-B675-25453C32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B5F8CA1C-8D7F-49A0-BE66-96FAB79F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65A7EDFE-B750-4814-9D10-1A8D44CBE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07019610-A793-4713-AEAE-47E3E5A12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1F0407AB-A49D-406F-8241-9ED976546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F0ADC2BB-D227-4AB8-B260-D4BD8CD7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D5B8F5E9-915C-49CC-B1D6-566DA508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D0DA7460-4ABD-4D34-B2FB-643BEB9D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648327AD-2DC4-4D49-A190-FAE97F9E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C669A640-E24E-4921-A4D5-F221B572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9C1FEC2D-05EB-458E-A559-83CCAAB2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5B4CF119-7C5A-447C-A7A8-896455E0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5601C43E-85B5-4A72-A01E-D171A68D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94D06EF7-3579-4B6B-BC39-4E3B0C18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74489D12-E015-442B-9D8C-AFDE5FDE5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974C1E3F-6405-4BDC-931C-CBB7C4E43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82616AC2-A728-44D4-BCD1-CB52DFA20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93FB73E9-C9F6-4055-9578-73406BA8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43484457-2771-44A2-81BA-9B133F83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slideLayout" Target="../slideLayouts/slideLayout889.xml"/><Relationship Id="rId3" Type="http://schemas.openxmlformats.org/officeDocument/2006/relationships/slideLayout" Target="../slideLayouts/slideLayout890.xml"/><Relationship Id="rId4" Type="http://schemas.openxmlformats.org/officeDocument/2006/relationships/slideLayout" Target="../slideLayouts/slideLayout891.xml"/><Relationship Id="rId5" Type="http://schemas.openxmlformats.org/officeDocument/2006/relationships/slideLayout" Target="../slideLayouts/slideLayout892.xml"/><Relationship Id="rId6" Type="http://schemas.openxmlformats.org/officeDocument/2006/relationships/slideLayout" Target="../slideLayouts/slideLayout893.xml"/><Relationship Id="rId7" Type="http://schemas.openxmlformats.org/officeDocument/2006/relationships/slideLayout" Target="../slideLayouts/slideLayout894.xml"/><Relationship Id="rId8" Type="http://schemas.openxmlformats.org/officeDocument/2006/relationships/slideLayout" Target="../slideLayouts/slideLayout895.xml"/><Relationship Id="rId9" Type="http://schemas.openxmlformats.org/officeDocument/2006/relationships/slideLayout" Target="../slideLayouts/slideLayout896.xml"/><Relationship Id="rId10" Type="http://schemas.openxmlformats.org/officeDocument/2006/relationships/slideLayout" Target="../slideLayouts/slideLayout897.xml"/><Relationship Id="rId11" Type="http://schemas.openxmlformats.org/officeDocument/2006/relationships/slideLayout" Target="../slideLayouts/slideLayout898.xml"/><Relationship Id="rId12" Type="http://schemas.openxmlformats.org/officeDocument/2006/relationships/slideLayout" Target="../slideLayouts/slideLayout899.xml"/><Relationship Id="rId13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slideLayout" Target="../slideLayouts/slideLayout901.xml"/><Relationship Id="rId3" Type="http://schemas.openxmlformats.org/officeDocument/2006/relationships/slideLayout" Target="../slideLayouts/slideLayout902.xml"/><Relationship Id="rId4" Type="http://schemas.openxmlformats.org/officeDocument/2006/relationships/slideLayout" Target="../slideLayouts/slideLayout903.xml"/><Relationship Id="rId5" Type="http://schemas.openxmlformats.org/officeDocument/2006/relationships/slideLayout" Target="../slideLayouts/slideLayout904.xml"/><Relationship Id="rId6" Type="http://schemas.openxmlformats.org/officeDocument/2006/relationships/slideLayout" Target="../slideLayouts/slideLayout905.xml"/><Relationship Id="rId7" Type="http://schemas.openxmlformats.org/officeDocument/2006/relationships/slideLayout" Target="../slideLayouts/slideLayout906.xml"/><Relationship Id="rId8" Type="http://schemas.openxmlformats.org/officeDocument/2006/relationships/slideLayout" Target="../slideLayouts/slideLayout907.xml"/><Relationship Id="rId9" Type="http://schemas.openxmlformats.org/officeDocument/2006/relationships/slideLayout" Target="../slideLayouts/slideLayout908.xml"/><Relationship Id="rId10" Type="http://schemas.openxmlformats.org/officeDocument/2006/relationships/slideLayout" Target="../slideLayouts/slideLayout909.xml"/><Relationship Id="rId11" Type="http://schemas.openxmlformats.org/officeDocument/2006/relationships/slideLayout" Target="../slideLayouts/slideLayout910.xml"/><Relationship Id="rId12" Type="http://schemas.openxmlformats.org/officeDocument/2006/relationships/slideLayout" Target="../slideLayouts/slideLayout911.xml"/><Relationship Id="rId13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slideLayout" Target="../slideLayouts/slideLayout913.xml"/><Relationship Id="rId3" Type="http://schemas.openxmlformats.org/officeDocument/2006/relationships/slideLayout" Target="../slideLayouts/slideLayout914.xml"/><Relationship Id="rId4" Type="http://schemas.openxmlformats.org/officeDocument/2006/relationships/slideLayout" Target="../slideLayouts/slideLayout915.xml"/><Relationship Id="rId5" Type="http://schemas.openxmlformats.org/officeDocument/2006/relationships/slideLayout" Target="../slideLayouts/slideLayout916.xml"/><Relationship Id="rId6" Type="http://schemas.openxmlformats.org/officeDocument/2006/relationships/slideLayout" Target="../slideLayouts/slideLayout917.xml"/><Relationship Id="rId7" Type="http://schemas.openxmlformats.org/officeDocument/2006/relationships/slideLayout" Target="../slideLayouts/slideLayout918.xml"/><Relationship Id="rId8" Type="http://schemas.openxmlformats.org/officeDocument/2006/relationships/slideLayout" Target="../slideLayouts/slideLayout919.xml"/><Relationship Id="rId9" Type="http://schemas.openxmlformats.org/officeDocument/2006/relationships/slideLayout" Target="../slideLayouts/slideLayout920.xml"/><Relationship Id="rId10" Type="http://schemas.openxmlformats.org/officeDocument/2006/relationships/slideLayout" Target="../slideLayouts/slideLayout921.xml"/><Relationship Id="rId11" Type="http://schemas.openxmlformats.org/officeDocument/2006/relationships/slideLayout" Target="../slideLayouts/slideLayout922.xml"/><Relationship Id="rId12" Type="http://schemas.openxmlformats.org/officeDocument/2006/relationships/slideLayout" Target="../slideLayouts/slideLayout923.xml"/><Relationship Id="rId13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slideLayout" Target="../slideLayouts/slideLayout925.xml"/><Relationship Id="rId3" Type="http://schemas.openxmlformats.org/officeDocument/2006/relationships/slideLayout" Target="../slideLayouts/slideLayout926.xml"/><Relationship Id="rId4" Type="http://schemas.openxmlformats.org/officeDocument/2006/relationships/slideLayout" Target="../slideLayouts/slideLayout927.xml"/><Relationship Id="rId5" Type="http://schemas.openxmlformats.org/officeDocument/2006/relationships/slideLayout" Target="../slideLayouts/slideLayout928.xml"/><Relationship Id="rId6" Type="http://schemas.openxmlformats.org/officeDocument/2006/relationships/slideLayout" Target="../slideLayouts/slideLayout929.xml"/><Relationship Id="rId7" Type="http://schemas.openxmlformats.org/officeDocument/2006/relationships/slideLayout" Target="../slideLayouts/slideLayout930.xml"/><Relationship Id="rId8" Type="http://schemas.openxmlformats.org/officeDocument/2006/relationships/slideLayout" Target="../slideLayouts/slideLayout931.xml"/><Relationship Id="rId9" Type="http://schemas.openxmlformats.org/officeDocument/2006/relationships/slideLayout" Target="../slideLayouts/slideLayout932.xml"/><Relationship Id="rId10" Type="http://schemas.openxmlformats.org/officeDocument/2006/relationships/slideLayout" Target="../slideLayouts/slideLayout933.xml"/><Relationship Id="rId11" Type="http://schemas.openxmlformats.org/officeDocument/2006/relationships/slideLayout" Target="../slideLayouts/slideLayout934.xml"/><Relationship Id="rId12" Type="http://schemas.openxmlformats.org/officeDocument/2006/relationships/slideLayout" Target="../slideLayouts/slideLayout935.xml"/><Relationship Id="rId13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slideLayout" Target="../slideLayouts/slideLayout937.xml"/><Relationship Id="rId3" Type="http://schemas.openxmlformats.org/officeDocument/2006/relationships/slideLayout" Target="../slideLayouts/slideLayout938.xml"/><Relationship Id="rId4" Type="http://schemas.openxmlformats.org/officeDocument/2006/relationships/slideLayout" Target="../slideLayouts/slideLayout939.xml"/><Relationship Id="rId5" Type="http://schemas.openxmlformats.org/officeDocument/2006/relationships/slideLayout" Target="../slideLayouts/slideLayout940.xml"/><Relationship Id="rId6" Type="http://schemas.openxmlformats.org/officeDocument/2006/relationships/slideLayout" Target="../slideLayouts/slideLayout941.xml"/><Relationship Id="rId7" Type="http://schemas.openxmlformats.org/officeDocument/2006/relationships/slideLayout" Target="../slideLayouts/slideLayout942.xml"/><Relationship Id="rId8" Type="http://schemas.openxmlformats.org/officeDocument/2006/relationships/slideLayout" Target="../slideLayouts/slideLayout943.xml"/><Relationship Id="rId9" Type="http://schemas.openxmlformats.org/officeDocument/2006/relationships/slideLayout" Target="../slideLayouts/slideLayout944.xml"/><Relationship Id="rId10" Type="http://schemas.openxmlformats.org/officeDocument/2006/relationships/slideLayout" Target="../slideLayouts/slideLayout945.xml"/><Relationship Id="rId11" Type="http://schemas.openxmlformats.org/officeDocument/2006/relationships/slideLayout" Target="../slideLayouts/slideLayout946.xml"/><Relationship Id="rId12" Type="http://schemas.openxmlformats.org/officeDocument/2006/relationships/slideLayout" Target="../slideLayouts/slideLayout947.xml"/><Relationship Id="rId13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slideLayout" Target="../slideLayouts/slideLayout949.xml"/><Relationship Id="rId3" Type="http://schemas.openxmlformats.org/officeDocument/2006/relationships/slideLayout" Target="../slideLayouts/slideLayout950.xml"/><Relationship Id="rId4" Type="http://schemas.openxmlformats.org/officeDocument/2006/relationships/slideLayout" Target="../slideLayouts/slideLayout951.xml"/><Relationship Id="rId5" Type="http://schemas.openxmlformats.org/officeDocument/2006/relationships/slideLayout" Target="../slideLayouts/slideLayout952.xml"/><Relationship Id="rId6" Type="http://schemas.openxmlformats.org/officeDocument/2006/relationships/slideLayout" Target="../slideLayouts/slideLayout953.xml"/><Relationship Id="rId7" Type="http://schemas.openxmlformats.org/officeDocument/2006/relationships/slideLayout" Target="../slideLayouts/slideLayout954.xml"/><Relationship Id="rId8" Type="http://schemas.openxmlformats.org/officeDocument/2006/relationships/slideLayout" Target="../slideLayouts/slideLayout955.xml"/><Relationship Id="rId9" Type="http://schemas.openxmlformats.org/officeDocument/2006/relationships/slideLayout" Target="../slideLayouts/slideLayout956.xml"/><Relationship Id="rId10" Type="http://schemas.openxmlformats.org/officeDocument/2006/relationships/slideLayout" Target="../slideLayouts/slideLayout957.xml"/><Relationship Id="rId11" Type="http://schemas.openxmlformats.org/officeDocument/2006/relationships/slideLayout" Target="../slideLayouts/slideLayout958.xml"/><Relationship Id="rId12" Type="http://schemas.openxmlformats.org/officeDocument/2006/relationships/slideLayout" Target="../slideLayouts/slideLayout959.xml"/><Relationship Id="rId13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slideLayout" Target="../slideLayouts/slideLayout961.xml"/><Relationship Id="rId3" Type="http://schemas.openxmlformats.org/officeDocument/2006/relationships/slideLayout" Target="../slideLayouts/slideLayout962.xml"/><Relationship Id="rId4" Type="http://schemas.openxmlformats.org/officeDocument/2006/relationships/slideLayout" Target="../slideLayouts/slideLayout963.xml"/><Relationship Id="rId5" Type="http://schemas.openxmlformats.org/officeDocument/2006/relationships/slideLayout" Target="../slideLayouts/slideLayout964.xml"/><Relationship Id="rId6" Type="http://schemas.openxmlformats.org/officeDocument/2006/relationships/slideLayout" Target="../slideLayouts/slideLayout965.xml"/><Relationship Id="rId7" Type="http://schemas.openxmlformats.org/officeDocument/2006/relationships/slideLayout" Target="../slideLayouts/slideLayout966.xml"/><Relationship Id="rId8" Type="http://schemas.openxmlformats.org/officeDocument/2006/relationships/slideLayout" Target="../slideLayouts/slideLayout967.xml"/><Relationship Id="rId9" Type="http://schemas.openxmlformats.org/officeDocument/2006/relationships/slideLayout" Target="../slideLayouts/slideLayout968.xml"/><Relationship Id="rId10" Type="http://schemas.openxmlformats.org/officeDocument/2006/relationships/slideLayout" Target="../slideLayouts/slideLayout969.xml"/><Relationship Id="rId11" Type="http://schemas.openxmlformats.org/officeDocument/2006/relationships/slideLayout" Target="../slideLayouts/slideLayout970.xml"/><Relationship Id="rId12" Type="http://schemas.openxmlformats.org/officeDocument/2006/relationships/slideLayout" Target="../slideLayouts/slideLayout971.xml"/><Relationship Id="rId13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slideLayout" Target="../slideLayouts/slideLayout973.xml"/><Relationship Id="rId3" Type="http://schemas.openxmlformats.org/officeDocument/2006/relationships/slideLayout" Target="../slideLayouts/slideLayout974.xml"/><Relationship Id="rId4" Type="http://schemas.openxmlformats.org/officeDocument/2006/relationships/slideLayout" Target="../slideLayouts/slideLayout975.xml"/><Relationship Id="rId5" Type="http://schemas.openxmlformats.org/officeDocument/2006/relationships/slideLayout" Target="../slideLayouts/slideLayout976.xml"/><Relationship Id="rId6" Type="http://schemas.openxmlformats.org/officeDocument/2006/relationships/slideLayout" Target="../slideLayouts/slideLayout977.xml"/><Relationship Id="rId7" Type="http://schemas.openxmlformats.org/officeDocument/2006/relationships/slideLayout" Target="../slideLayouts/slideLayout978.xml"/><Relationship Id="rId8" Type="http://schemas.openxmlformats.org/officeDocument/2006/relationships/slideLayout" Target="../slideLayouts/slideLayout979.xml"/><Relationship Id="rId9" Type="http://schemas.openxmlformats.org/officeDocument/2006/relationships/slideLayout" Target="../slideLayouts/slideLayout980.xml"/><Relationship Id="rId10" Type="http://schemas.openxmlformats.org/officeDocument/2006/relationships/slideLayout" Target="../slideLayouts/slideLayout981.xml"/><Relationship Id="rId11" Type="http://schemas.openxmlformats.org/officeDocument/2006/relationships/slideLayout" Target="../slideLayouts/slideLayout982.xml"/><Relationship Id="rId12" Type="http://schemas.openxmlformats.org/officeDocument/2006/relationships/slideLayout" Target="../slideLayouts/slideLayout983.xml"/><Relationship Id="rId13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slideLayout" Target="../slideLayouts/slideLayout1045.xml"/><Relationship Id="rId3" Type="http://schemas.openxmlformats.org/officeDocument/2006/relationships/slideLayout" Target="../slideLayouts/slideLayout1046.xml"/><Relationship Id="rId4" Type="http://schemas.openxmlformats.org/officeDocument/2006/relationships/slideLayout" Target="../slideLayouts/slideLayout1047.xml"/><Relationship Id="rId5" Type="http://schemas.openxmlformats.org/officeDocument/2006/relationships/slideLayout" Target="../slideLayouts/slideLayout1048.xml"/><Relationship Id="rId6" Type="http://schemas.openxmlformats.org/officeDocument/2006/relationships/slideLayout" Target="../slideLayouts/slideLayout1049.xml"/><Relationship Id="rId7" Type="http://schemas.openxmlformats.org/officeDocument/2006/relationships/slideLayout" Target="../slideLayouts/slideLayout1050.xml"/><Relationship Id="rId8" Type="http://schemas.openxmlformats.org/officeDocument/2006/relationships/slideLayout" Target="../slideLayouts/slideLayout1051.xml"/><Relationship Id="rId9" Type="http://schemas.openxmlformats.org/officeDocument/2006/relationships/slideLayout" Target="../slideLayouts/slideLayout1052.xml"/><Relationship Id="rId10" Type="http://schemas.openxmlformats.org/officeDocument/2006/relationships/slideLayout" Target="../slideLayouts/slideLayout1053.xml"/><Relationship Id="rId11" Type="http://schemas.openxmlformats.org/officeDocument/2006/relationships/slideLayout" Target="../slideLayouts/slideLayout1054.xml"/><Relationship Id="rId12" Type="http://schemas.openxmlformats.org/officeDocument/2006/relationships/slideLayout" Target="../slideLayouts/slideLayout1055.xml"/><Relationship Id="rId13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slideLayout" Target="../slideLayouts/slideLayout1057.xml"/><Relationship Id="rId3" Type="http://schemas.openxmlformats.org/officeDocument/2006/relationships/slideLayout" Target="../slideLayouts/slideLayout1058.xml"/><Relationship Id="rId4" Type="http://schemas.openxmlformats.org/officeDocument/2006/relationships/slideLayout" Target="../slideLayouts/slideLayout1059.xml"/><Relationship Id="rId5" Type="http://schemas.openxmlformats.org/officeDocument/2006/relationships/slideLayout" Target="../slideLayouts/slideLayout1060.xml"/><Relationship Id="rId6" Type="http://schemas.openxmlformats.org/officeDocument/2006/relationships/slideLayout" Target="../slideLayouts/slideLayout1061.xml"/><Relationship Id="rId7" Type="http://schemas.openxmlformats.org/officeDocument/2006/relationships/slideLayout" Target="../slideLayouts/slideLayout1062.xml"/><Relationship Id="rId8" Type="http://schemas.openxmlformats.org/officeDocument/2006/relationships/slideLayout" Target="../slideLayouts/slideLayout1063.xml"/><Relationship Id="rId9" Type="http://schemas.openxmlformats.org/officeDocument/2006/relationships/slideLayout" Target="../slideLayouts/slideLayout1064.xml"/><Relationship Id="rId10" Type="http://schemas.openxmlformats.org/officeDocument/2006/relationships/slideLayout" Target="../slideLayouts/slideLayout1065.xml"/><Relationship Id="rId11" Type="http://schemas.openxmlformats.org/officeDocument/2006/relationships/slideLayout" Target="../slideLayouts/slideLayout1066.xml"/><Relationship Id="rId12" Type="http://schemas.openxmlformats.org/officeDocument/2006/relationships/slideLayout" Target="../slideLayouts/slideLayout1067.xml"/><Relationship Id="rId13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 fontScale="94000"/>
          </a:bodyPr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26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6080" indent="-180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0920" indent="-180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7A7E-B758-45CD-8D3B-45F8C79021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 fontScale="94000"/>
          </a:bodyPr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26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6080" indent="-180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0920" indent="-180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5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6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27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F752-314D-4A7E-8476-03D8DD7D9F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 fontScale="94000"/>
          </a:bodyPr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26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6080" indent="-180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0920" indent="-180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28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29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0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DC42-69C2-44D7-8D25-CCCEAA99504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 fontScale="94000"/>
          </a:bodyPr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26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6080" indent="-180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0920" indent="-180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1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2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3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EE1B-B1DC-41FE-852C-A22E55027F1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 fontScale="94000"/>
          </a:bodyPr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26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6080" indent="-180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0920" indent="-180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4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5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6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D494-90EF-4B49-87EF-BB1C620DBB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 fontScale="94000"/>
          </a:bodyPr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26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6080" indent="-180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0920" indent="-180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7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8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9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D1D4-51EC-4B5E-85BC-55F0F573B41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 fontScale="94000"/>
          </a:bodyPr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26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6080" indent="-180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0920" indent="-180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40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41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42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2354-1082-493D-8B0B-FFDD63DC5BE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 fontScale="94000"/>
          </a:bodyPr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26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6080" indent="-180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0920" indent="-180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3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4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5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1A99-4B4C-4469-93DE-CEEB44FE6E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 fontScale="94000"/>
          </a:bodyPr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26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6080" indent="-180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0920" indent="-180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46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47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48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9D69-B1D0-483E-A315-E8A98E1C441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 fontScale="94000"/>
          </a:bodyPr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26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6080" indent="-180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0920" indent="-180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49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50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51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1683-0DC3-48A3-BD53-FAC7CB6ED6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 fontScale="94000"/>
          </a:bodyPr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26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6080" indent="-180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0920" indent="-180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52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ftr" idx="53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sldNum" idx="54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65A3-5D36-48F1-AE5E-276B94FD3CA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1640" indent="-228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7520" indent="-180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0920" indent="-178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1A4C-205A-4ECA-B3E3-0AB1BA2EF7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1640" indent="-228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7520" indent="-180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0920" indent="-178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dt" idx="55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ftr" idx="56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sldNum" idx="57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3762-3A09-4449-AF03-1866D02B7C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1640" indent="-228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7520" indent="-180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0920" indent="-178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dt" idx="58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ftr" idx="59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sldNum" idx="60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6DE5-9172-4DA8-9C65-9DF262C524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1640" indent="-228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7520" indent="-180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0920" indent="-178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61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62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63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4F29-BFD4-4A0E-9821-55F3FE5BAC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1640" indent="-228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7520" indent="-180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0920" indent="-178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dt" idx="64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ftr" idx="65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sldNum" idx="66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82ED-F44C-4942-A7AA-08ABAF338D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1640" indent="-228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7520" indent="-180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0920" indent="-178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dt" idx="67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ftr" idx="68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 type="sldNum" idx="69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9A8E-DB94-40C2-A86C-1931D6ACE4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1640" indent="-228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7520" indent="-180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0920" indent="-178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70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71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72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27B1-7EDD-4A9D-8D00-90272C5E39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1640" indent="-228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7520" indent="-180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0920" indent="-178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3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4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5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D377-CEED-42BE-9CC1-E761827957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1640" indent="-228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7520" indent="-180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0920" indent="-178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dt" idx="76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ftr" idx="77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 type="sldNum" idx="78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F02C-0926-40F4-8BD9-3818EE216A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1640" indent="-228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7520" indent="-180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0920" indent="-178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 type="dt" idx="79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 type="ftr" idx="80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 type="sldNum" idx="81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ABEC-7C6E-4296-8294-D790C6D5E4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1640" indent="-228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7520" indent="-180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0920" indent="-178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576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 type="dt" idx="82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 type="ftr" idx="83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 type="sldNum" idx="84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A227-D95D-4545-8C6E-8514EE7CD4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3080" indent="-226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2360" indent="-183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1D6A-E603-491B-9968-3E09B01683C1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0" y="0"/>
            <a:ext cx="9144000" cy="759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320" rIns="58320" tIns="29160" bIns="29160" anchor="t">
            <a:spAutoFit/>
          </a:bodyPr>
          <a:p>
            <a:pPr algn="ctr"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Паспорт территории МР «Ленский район» </a:t>
            </a:r>
            <a:endParaRPr b="1" lang="en-US" sz="23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Республики Саха (Якутия)</a:t>
            </a:r>
            <a:endParaRPr b="1" lang="en-US" sz="23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88" name="Picture 2" descr="Ленский"/>
          <p:cNvPicPr/>
          <p:nvPr/>
        </p:nvPicPr>
        <p:blipFill>
          <a:blip r:embed="rId2"/>
          <a:stretch/>
        </p:blipFill>
        <p:spPr>
          <a:xfrm>
            <a:off x="0" y="835200"/>
            <a:ext cx="9144000" cy="4308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3080" indent="-226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2360" indent="-183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 type="dt" idx="85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 type="ftr" idx="86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 type="sldNum" idx="87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0EA0-184E-4DC0-BCB7-D81423E70CBC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3080" indent="-226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2360" indent="-183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 type="dt" idx="88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 type="ftr" idx="89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 type="sldNum" idx="90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680E-C4DB-4CC1-B124-036F85E6FB1C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3080" indent="-226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2360" indent="-183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 type="dt" idx="91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 type="ftr" idx="92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87" name="PlaceHolder 5"/>
          <p:cNvSpPr>
            <a:spLocks noGrp="1"/>
          </p:cNvSpPr>
          <p:nvPr>
            <p:ph type="sldNum" idx="93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3EF9-1BF4-4DAD-A663-F615E5CB1A7B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3080" indent="-226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2360" indent="-183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 type="dt" idx="94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 type="ftr" idx="95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 type="sldNum" idx="96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0E24-C58E-4160-9E1F-06FCAA03F2F0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3080" indent="-226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2360" indent="-183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 type="dt" idx="97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 type="ftr" idx="98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 type="sldNum" idx="99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EBED-6598-44CF-B15C-5F44B5A97A0D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3080" indent="-226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2360" indent="-183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 type="dt" idx="100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 type="ftr" idx="101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 type="sldNum" idx="102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9E09-A058-419D-92AA-900C8C2C1D2A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3080" indent="-226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2360" indent="-183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 type="dt" idx="103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 type="ftr" idx="104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51" name="PlaceHolder 5"/>
          <p:cNvSpPr>
            <a:spLocks noGrp="1"/>
          </p:cNvSpPr>
          <p:nvPr>
            <p:ph type="sldNum" idx="105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B8E3-9430-4160-AA7D-62DAE90D1325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3080" indent="-226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2360" indent="-183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 type="dt" idx="106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 type="ftr" idx="107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92" name="PlaceHolder 5"/>
          <p:cNvSpPr>
            <a:spLocks noGrp="1"/>
          </p:cNvSpPr>
          <p:nvPr>
            <p:ph type="sldNum" idx="108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3995-49E5-4222-864B-493E7E88B4D7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3080" indent="-226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2360" indent="-183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 type="dt" idx="109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 type="ftr" idx="110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33" name="PlaceHolder 5"/>
          <p:cNvSpPr>
            <a:spLocks noGrp="1"/>
          </p:cNvSpPr>
          <p:nvPr>
            <p:ph type="sldNum" idx="111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1AF9-42EC-4F6F-9CFF-1859DD8424ED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3080" indent="-226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2360" indent="-183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 type="dt" idx="112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 type="ftr" idx="113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74" name="PlaceHolder 5"/>
          <p:cNvSpPr>
            <a:spLocks noGrp="1"/>
          </p:cNvSpPr>
          <p:nvPr>
            <p:ph type="sldNum" idx="114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4FC7-00F8-4930-9E8B-B44B09802373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3080" indent="-226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2360" indent="-183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5329-2591-45F6-A84C-5A6EC6D1B50B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0" y="0"/>
            <a:ext cx="9144000" cy="759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320" rIns="58320" tIns="29160" bIns="29160" anchor="t">
            <a:spAutoFit/>
          </a:bodyPr>
          <a:p>
            <a:pPr algn="ctr"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Паспорт территории МР «Ленский район» </a:t>
            </a:r>
            <a:endParaRPr b="1" lang="en-US" sz="23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Республики Саха (Якутия)</a:t>
            </a:r>
            <a:endParaRPr b="1" lang="en-US" sz="23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31" name="Picture 2" descr="Ленский"/>
          <p:cNvPicPr/>
          <p:nvPr/>
        </p:nvPicPr>
        <p:blipFill>
          <a:blip r:embed="rId2"/>
          <a:stretch/>
        </p:blipFill>
        <p:spPr>
          <a:xfrm>
            <a:off x="0" y="835200"/>
            <a:ext cx="9144000" cy="4308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3080" indent="-226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2360" indent="-183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 type="dt" idx="115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 type="ftr" idx="116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15" name="PlaceHolder 5"/>
          <p:cNvSpPr>
            <a:spLocks noGrp="1"/>
          </p:cNvSpPr>
          <p:nvPr>
            <p:ph type="sldNum" idx="117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363A-0E98-4072-BA55-FF7F8321CB83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3080" indent="-226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2360" indent="-183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 type="dt" idx="118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 type="ftr" idx="119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56" name="PlaceHolder 5"/>
          <p:cNvSpPr>
            <a:spLocks noGrp="1"/>
          </p:cNvSpPr>
          <p:nvPr>
            <p:ph type="sldNum" idx="120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6BA6-94D3-494D-AA53-67AA632ABD0A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3080" indent="-226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2360" indent="-183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 type="dt" idx="121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 type="ftr" idx="122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97" name="PlaceHolder 5"/>
          <p:cNvSpPr>
            <a:spLocks noGrp="1"/>
          </p:cNvSpPr>
          <p:nvPr>
            <p:ph type="sldNum" idx="123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23D3-8AB6-44DF-9508-DF19FC7E26CB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3080" indent="-226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2360" indent="-183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 type="dt" idx="124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 type="ftr" idx="125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38" name="PlaceHolder 5"/>
          <p:cNvSpPr>
            <a:spLocks noGrp="1"/>
          </p:cNvSpPr>
          <p:nvPr>
            <p:ph type="sldNum" idx="126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0A3F-A46C-44B1-9C76-54BAEA8511FE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3080" indent="-226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2360" indent="-183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 type="dt" idx="127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 type="ftr" idx="128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79" name="PlaceHolder 5"/>
          <p:cNvSpPr>
            <a:spLocks noGrp="1"/>
          </p:cNvSpPr>
          <p:nvPr>
            <p:ph type="sldNum" idx="129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A020-F752-4A1B-8E2C-8D1CC28B7994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3080" indent="-226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2360" indent="-183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 type="dt" idx="130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19" name="PlaceHolder 4"/>
          <p:cNvSpPr>
            <a:spLocks noGrp="1"/>
          </p:cNvSpPr>
          <p:nvPr>
            <p:ph type="ftr" idx="131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20" name="PlaceHolder 5"/>
          <p:cNvSpPr>
            <a:spLocks noGrp="1"/>
          </p:cNvSpPr>
          <p:nvPr>
            <p:ph type="sldNum" idx="132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6AA5-BB19-47FB-AD0E-C490D18E333B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3080" indent="-226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2360" indent="-183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 type="dt" idx="133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60" name="PlaceHolder 4"/>
          <p:cNvSpPr>
            <a:spLocks noGrp="1"/>
          </p:cNvSpPr>
          <p:nvPr>
            <p:ph type="ftr" idx="134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61" name="PlaceHolder 5"/>
          <p:cNvSpPr>
            <a:spLocks noGrp="1"/>
          </p:cNvSpPr>
          <p:nvPr>
            <p:ph type="sldNum" idx="135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3055-A4A8-4400-AB96-4F084E648C0F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3080" indent="-226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2360" indent="-183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 type="dt" idx="136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01" name="PlaceHolder 4"/>
          <p:cNvSpPr>
            <a:spLocks noGrp="1"/>
          </p:cNvSpPr>
          <p:nvPr>
            <p:ph type="ftr" idx="137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02" name="PlaceHolder 5"/>
          <p:cNvSpPr>
            <a:spLocks noGrp="1"/>
          </p:cNvSpPr>
          <p:nvPr>
            <p:ph type="sldNum" idx="138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6EE7-B75F-4737-9B18-AF2F5198CE39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3080" indent="-226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2360" indent="-183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 type="dt" idx="139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42" name="PlaceHolder 4"/>
          <p:cNvSpPr>
            <a:spLocks noGrp="1"/>
          </p:cNvSpPr>
          <p:nvPr>
            <p:ph type="ftr" idx="140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43" name="PlaceHolder 5"/>
          <p:cNvSpPr>
            <a:spLocks noGrp="1"/>
          </p:cNvSpPr>
          <p:nvPr>
            <p:ph type="sldNum" idx="141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E35C-6A1B-40AC-9369-C64A46AB0432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3080" indent="-226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2360" indent="-183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 type="dt" idx="142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 type="ftr" idx="143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84" name="PlaceHolder 5"/>
          <p:cNvSpPr>
            <a:spLocks noGrp="1"/>
          </p:cNvSpPr>
          <p:nvPr>
            <p:ph type="sldNum" idx="144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8068-F401-449C-9005-A08D561B7DE8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FA80-97C1-4CDC-BAC4-552247A49C45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0" y="0"/>
            <a:ext cx="9144000" cy="759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960" rIns="57960" tIns="29160" bIns="29160" anchor="t">
            <a:spAutoFit/>
          </a:bodyPr>
          <a:p>
            <a:pPr algn="ctr"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Паспорт территории МР «Ленский район» </a:t>
            </a:r>
            <a:endParaRPr b="1" lang="en-US" sz="23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Республики Саха (Якутия)</a:t>
            </a:r>
            <a:endParaRPr b="1" lang="en-US" sz="23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74" name="Picture 2" descr="Ленский"/>
          <p:cNvPicPr/>
          <p:nvPr/>
        </p:nvPicPr>
        <p:blipFill>
          <a:blip r:embed="rId2"/>
          <a:stretch/>
        </p:blipFill>
        <p:spPr>
          <a:xfrm>
            <a:off x="0" y="835200"/>
            <a:ext cx="9144000" cy="4308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3080" indent="-226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2360" indent="-183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 type="dt" idx="145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24" name="PlaceHolder 4"/>
          <p:cNvSpPr>
            <a:spLocks noGrp="1"/>
          </p:cNvSpPr>
          <p:nvPr>
            <p:ph type="ftr" idx="146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25" name="PlaceHolder 5"/>
          <p:cNvSpPr>
            <a:spLocks noGrp="1"/>
          </p:cNvSpPr>
          <p:nvPr>
            <p:ph type="sldNum" idx="147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38C4-92E1-4F25-B485-26F3E69C6A6B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3080" indent="-226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2360" indent="-183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 type="dt" idx="148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65" name="PlaceHolder 4"/>
          <p:cNvSpPr>
            <a:spLocks noGrp="1"/>
          </p:cNvSpPr>
          <p:nvPr>
            <p:ph type="ftr" idx="149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66" name="PlaceHolder 5"/>
          <p:cNvSpPr>
            <a:spLocks noGrp="1"/>
          </p:cNvSpPr>
          <p:nvPr>
            <p:ph type="sldNum" idx="150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F582-76E4-486B-94E4-20FBC720AA2D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3080" indent="-226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2360" indent="-183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 type="dt" idx="151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06" name="PlaceHolder 4"/>
          <p:cNvSpPr>
            <a:spLocks noGrp="1"/>
          </p:cNvSpPr>
          <p:nvPr>
            <p:ph type="ftr" idx="152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07" name="PlaceHolder 5"/>
          <p:cNvSpPr>
            <a:spLocks noGrp="1"/>
          </p:cNvSpPr>
          <p:nvPr>
            <p:ph type="sldNum" idx="153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BDD3-90E1-4A9D-BA46-1697640B9E7A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76120" indent="-276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3080" indent="-226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2360" indent="-183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78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 type="dt" idx="154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47" name="PlaceHolder 4"/>
          <p:cNvSpPr>
            <a:spLocks noGrp="1"/>
          </p:cNvSpPr>
          <p:nvPr>
            <p:ph type="ftr" idx="155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48" name="PlaceHolder 5"/>
          <p:cNvSpPr>
            <a:spLocks noGrp="1"/>
          </p:cNvSpPr>
          <p:nvPr>
            <p:ph type="sldNum" idx="156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EAF8-C5B8-42DA-937C-0327D28C9B16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 type="dt" idx="157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88" name="PlaceHolder 4"/>
          <p:cNvSpPr>
            <a:spLocks noGrp="1"/>
          </p:cNvSpPr>
          <p:nvPr>
            <p:ph type="ftr" idx="158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89" name="PlaceHolder 5"/>
          <p:cNvSpPr>
            <a:spLocks noGrp="1"/>
          </p:cNvSpPr>
          <p:nvPr>
            <p:ph type="sldNum" idx="159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C1BA-B671-4167-9B99-B54E129DF7AD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 type="dt" idx="160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29" name="PlaceHolder 4"/>
          <p:cNvSpPr>
            <a:spLocks noGrp="1"/>
          </p:cNvSpPr>
          <p:nvPr>
            <p:ph type="ftr" idx="161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30" name="PlaceHolder 5"/>
          <p:cNvSpPr>
            <a:spLocks noGrp="1"/>
          </p:cNvSpPr>
          <p:nvPr>
            <p:ph type="sldNum" idx="162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C3B6-B38C-44C8-A45B-17CB2C466B57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 type="dt" idx="163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70" name="PlaceHolder 4"/>
          <p:cNvSpPr>
            <a:spLocks noGrp="1"/>
          </p:cNvSpPr>
          <p:nvPr>
            <p:ph type="ftr" idx="164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71" name="PlaceHolder 5"/>
          <p:cNvSpPr>
            <a:spLocks noGrp="1"/>
          </p:cNvSpPr>
          <p:nvPr>
            <p:ph type="sldNum" idx="165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7486-2F33-4198-8BAF-491753F381FC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 type="dt" idx="166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11" name="PlaceHolder 4"/>
          <p:cNvSpPr>
            <a:spLocks noGrp="1"/>
          </p:cNvSpPr>
          <p:nvPr>
            <p:ph type="ftr" idx="167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12" name="PlaceHolder 5"/>
          <p:cNvSpPr>
            <a:spLocks noGrp="1"/>
          </p:cNvSpPr>
          <p:nvPr>
            <p:ph type="sldNum" idx="168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4B1F-814F-42E2-9465-90491B3EB629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 type="dt" idx="169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52" name="PlaceHolder 4"/>
          <p:cNvSpPr>
            <a:spLocks noGrp="1"/>
          </p:cNvSpPr>
          <p:nvPr>
            <p:ph type="ftr" idx="170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53" name="PlaceHolder 5"/>
          <p:cNvSpPr>
            <a:spLocks noGrp="1"/>
          </p:cNvSpPr>
          <p:nvPr>
            <p:ph type="sldNum" idx="171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B1FC-73D4-4423-845D-0645F8725729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PlaceHolder 3"/>
          <p:cNvSpPr>
            <a:spLocks noGrp="1"/>
          </p:cNvSpPr>
          <p:nvPr>
            <p:ph type="dt" idx="172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93" name="PlaceHolder 4"/>
          <p:cNvSpPr>
            <a:spLocks noGrp="1"/>
          </p:cNvSpPr>
          <p:nvPr>
            <p:ph type="ftr" idx="173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94" name="PlaceHolder 5"/>
          <p:cNvSpPr>
            <a:spLocks noGrp="1"/>
          </p:cNvSpPr>
          <p:nvPr>
            <p:ph type="sldNum" idx="174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763C-91D9-4D54-A75E-9F46CDF8A1D6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A887-8688-4C83-99C9-2804E8AACFF3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0" y="0"/>
            <a:ext cx="9144000" cy="759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960" rIns="57960" tIns="29160" bIns="29160" anchor="t">
            <a:spAutoFit/>
          </a:bodyPr>
          <a:p>
            <a:pPr algn="ctr"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Паспорт территории МР «Ленский район» </a:t>
            </a:r>
            <a:endParaRPr b="1" lang="en-US" sz="23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Республики Саха (Якутия)</a:t>
            </a:r>
            <a:endParaRPr b="1" lang="en-US" sz="23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17" name="Picture 2" descr="Ленский"/>
          <p:cNvPicPr/>
          <p:nvPr/>
        </p:nvPicPr>
        <p:blipFill>
          <a:blip r:embed="rId2"/>
          <a:stretch/>
        </p:blipFill>
        <p:spPr>
          <a:xfrm>
            <a:off x="0" y="835200"/>
            <a:ext cx="9144000" cy="4308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PlaceHolder 3"/>
          <p:cNvSpPr>
            <a:spLocks noGrp="1"/>
          </p:cNvSpPr>
          <p:nvPr>
            <p:ph type="dt" idx="175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34" name="PlaceHolder 4"/>
          <p:cNvSpPr>
            <a:spLocks noGrp="1"/>
          </p:cNvSpPr>
          <p:nvPr>
            <p:ph type="ftr" idx="176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35" name="PlaceHolder 5"/>
          <p:cNvSpPr>
            <a:spLocks noGrp="1"/>
          </p:cNvSpPr>
          <p:nvPr>
            <p:ph type="sldNum" idx="177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619E-8725-42E9-8452-AD0D17FA88DB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PlaceHolder 3"/>
          <p:cNvSpPr>
            <a:spLocks noGrp="1"/>
          </p:cNvSpPr>
          <p:nvPr>
            <p:ph type="dt" idx="178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75" name="PlaceHolder 4"/>
          <p:cNvSpPr>
            <a:spLocks noGrp="1"/>
          </p:cNvSpPr>
          <p:nvPr>
            <p:ph type="ftr" idx="179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76" name="PlaceHolder 5"/>
          <p:cNvSpPr>
            <a:spLocks noGrp="1"/>
          </p:cNvSpPr>
          <p:nvPr>
            <p:ph type="sldNum" idx="180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994E-AD4F-432E-A41B-3C9DFBF7CAEB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PlaceHolder 3"/>
          <p:cNvSpPr>
            <a:spLocks noGrp="1"/>
          </p:cNvSpPr>
          <p:nvPr>
            <p:ph type="dt" idx="181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16" name="PlaceHolder 4"/>
          <p:cNvSpPr>
            <a:spLocks noGrp="1"/>
          </p:cNvSpPr>
          <p:nvPr>
            <p:ph type="ftr" idx="182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17" name="PlaceHolder 5"/>
          <p:cNvSpPr>
            <a:spLocks noGrp="1"/>
          </p:cNvSpPr>
          <p:nvPr>
            <p:ph type="sldNum" idx="183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D120-9F5E-4E7B-BB27-D965C8A87149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PlaceHolder 3"/>
          <p:cNvSpPr>
            <a:spLocks noGrp="1"/>
          </p:cNvSpPr>
          <p:nvPr>
            <p:ph type="dt" idx="184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57" name="PlaceHolder 4"/>
          <p:cNvSpPr>
            <a:spLocks noGrp="1"/>
          </p:cNvSpPr>
          <p:nvPr>
            <p:ph type="ftr" idx="185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58" name="PlaceHolder 5"/>
          <p:cNvSpPr>
            <a:spLocks noGrp="1"/>
          </p:cNvSpPr>
          <p:nvPr>
            <p:ph type="sldNum" idx="186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5BD3-F3B8-4BFD-8B25-C0603D0EC0D7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PlaceHolder 3"/>
          <p:cNvSpPr>
            <a:spLocks noGrp="1"/>
          </p:cNvSpPr>
          <p:nvPr>
            <p:ph type="dt" idx="187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98" name="PlaceHolder 4"/>
          <p:cNvSpPr>
            <a:spLocks noGrp="1"/>
          </p:cNvSpPr>
          <p:nvPr>
            <p:ph type="ftr" idx="188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99" name="PlaceHolder 5"/>
          <p:cNvSpPr>
            <a:spLocks noGrp="1"/>
          </p:cNvSpPr>
          <p:nvPr>
            <p:ph type="sldNum" idx="189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B785-B265-49D3-AC75-5801A57167B9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PlaceHolder 3"/>
          <p:cNvSpPr>
            <a:spLocks noGrp="1"/>
          </p:cNvSpPr>
          <p:nvPr>
            <p:ph type="dt" idx="190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39" name="PlaceHolder 4"/>
          <p:cNvSpPr>
            <a:spLocks noGrp="1"/>
          </p:cNvSpPr>
          <p:nvPr>
            <p:ph type="ftr" idx="191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40" name="PlaceHolder 5"/>
          <p:cNvSpPr>
            <a:spLocks noGrp="1"/>
          </p:cNvSpPr>
          <p:nvPr>
            <p:ph type="sldNum" idx="192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BED6-A1BF-45D1-8594-B2AA2DBDFED8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PlaceHolder 3"/>
          <p:cNvSpPr>
            <a:spLocks noGrp="1"/>
          </p:cNvSpPr>
          <p:nvPr>
            <p:ph type="dt" idx="193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80" name="PlaceHolder 4"/>
          <p:cNvSpPr>
            <a:spLocks noGrp="1"/>
          </p:cNvSpPr>
          <p:nvPr>
            <p:ph type="ftr" idx="194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81" name="PlaceHolder 5"/>
          <p:cNvSpPr>
            <a:spLocks noGrp="1"/>
          </p:cNvSpPr>
          <p:nvPr>
            <p:ph type="sldNum" idx="195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0883-FB09-4821-A483-2A04B2164C78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PlaceHolder 3"/>
          <p:cNvSpPr>
            <a:spLocks noGrp="1"/>
          </p:cNvSpPr>
          <p:nvPr>
            <p:ph type="dt" idx="196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21" name="PlaceHolder 4"/>
          <p:cNvSpPr>
            <a:spLocks noGrp="1"/>
          </p:cNvSpPr>
          <p:nvPr>
            <p:ph type="ftr" idx="197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22" name="PlaceHolder 5"/>
          <p:cNvSpPr>
            <a:spLocks noGrp="1"/>
          </p:cNvSpPr>
          <p:nvPr>
            <p:ph type="sldNum" idx="198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994E-10E5-4728-992F-1A258CDD512D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PlaceHolder 3"/>
          <p:cNvSpPr>
            <a:spLocks noGrp="1"/>
          </p:cNvSpPr>
          <p:nvPr>
            <p:ph type="dt" idx="199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62" name="PlaceHolder 4"/>
          <p:cNvSpPr>
            <a:spLocks noGrp="1"/>
          </p:cNvSpPr>
          <p:nvPr>
            <p:ph type="ftr" idx="200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63" name="PlaceHolder 5"/>
          <p:cNvSpPr>
            <a:spLocks noGrp="1"/>
          </p:cNvSpPr>
          <p:nvPr>
            <p:ph type="sldNum" idx="201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EDA5-02AF-440F-8D86-047077EDD85E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PlaceHolder 3"/>
          <p:cNvSpPr>
            <a:spLocks noGrp="1"/>
          </p:cNvSpPr>
          <p:nvPr>
            <p:ph type="dt" idx="202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03" name="PlaceHolder 4"/>
          <p:cNvSpPr>
            <a:spLocks noGrp="1"/>
          </p:cNvSpPr>
          <p:nvPr>
            <p:ph type="ftr" idx="203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04" name="PlaceHolder 5"/>
          <p:cNvSpPr>
            <a:spLocks noGrp="1"/>
          </p:cNvSpPr>
          <p:nvPr>
            <p:ph type="sldNum" idx="204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177F-B7D8-438A-B576-EE2B42EE9A8F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1590-19FB-480E-9E46-7E6517BF3A8A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0" y="0"/>
            <a:ext cx="9144000" cy="759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960" rIns="57960" tIns="29160" bIns="29160" anchor="t">
            <a:spAutoFit/>
          </a:bodyPr>
          <a:p>
            <a:pPr algn="ctr"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Паспорт территории МР «Ленский район» </a:t>
            </a:r>
            <a:endParaRPr b="1" lang="en-US" sz="23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Республики Саха (Якутия)</a:t>
            </a:r>
            <a:endParaRPr b="1" lang="en-US" sz="23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60" name="Picture 2" descr="Ленский"/>
          <p:cNvPicPr/>
          <p:nvPr/>
        </p:nvPicPr>
        <p:blipFill>
          <a:blip r:embed="rId2"/>
          <a:stretch/>
        </p:blipFill>
        <p:spPr>
          <a:xfrm>
            <a:off x="0" y="835200"/>
            <a:ext cx="9144000" cy="4308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PlaceHolder 3"/>
          <p:cNvSpPr>
            <a:spLocks noGrp="1"/>
          </p:cNvSpPr>
          <p:nvPr>
            <p:ph type="dt" idx="205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44" name="PlaceHolder 4"/>
          <p:cNvSpPr>
            <a:spLocks noGrp="1"/>
          </p:cNvSpPr>
          <p:nvPr>
            <p:ph type="ftr" idx="206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45" name="PlaceHolder 5"/>
          <p:cNvSpPr>
            <a:spLocks noGrp="1"/>
          </p:cNvSpPr>
          <p:nvPr>
            <p:ph type="sldNum" idx="207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EAAD-3A33-4A5D-B09A-F1EC5F975988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PlaceHolder 3"/>
          <p:cNvSpPr>
            <a:spLocks noGrp="1"/>
          </p:cNvSpPr>
          <p:nvPr>
            <p:ph type="dt" idx="208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85" name="PlaceHolder 4"/>
          <p:cNvSpPr>
            <a:spLocks noGrp="1"/>
          </p:cNvSpPr>
          <p:nvPr>
            <p:ph type="ftr" idx="209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86" name="PlaceHolder 5"/>
          <p:cNvSpPr>
            <a:spLocks noGrp="1"/>
          </p:cNvSpPr>
          <p:nvPr>
            <p:ph type="sldNum" idx="210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28D0-D90E-4A9D-AF1D-AC8D42482CB8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PlaceHolder 3"/>
          <p:cNvSpPr>
            <a:spLocks noGrp="1"/>
          </p:cNvSpPr>
          <p:nvPr>
            <p:ph type="dt" idx="211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26" name="PlaceHolder 4"/>
          <p:cNvSpPr>
            <a:spLocks noGrp="1"/>
          </p:cNvSpPr>
          <p:nvPr>
            <p:ph type="ftr" idx="212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27" name="PlaceHolder 5"/>
          <p:cNvSpPr>
            <a:spLocks noGrp="1"/>
          </p:cNvSpPr>
          <p:nvPr>
            <p:ph type="sldNum" idx="213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17D7-D67C-4FA6-9C59-0A15DD827796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PlaceHolder 3"/>
          <p:cNvSpPr>
            <a:spLocks noGrp="1"/>
          </p:cNvSpPr>
          <p:nvPr>
            <p:ph type="dt" idx="214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67" name="PlaceHolder 4"/>
          <p:cNvSpPr>
            <a:spLocks noGrp="1"/>
          </p:cNvSpPr>
          <p:nvPr>
            <p:ph type="ftr" idx="215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68" name="PlaceHolder 5"/>
          <p:cNvSpPr>
            <a:spLocks noGrp="1"/>
          </p:cNvSpPr>
          <p:nvPr>
            <p:ph type="sldNum" idx="216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1C33-303D-4222-A89C-526E29A82594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PlaceHolder 3"/>
          <p:cNvSpPr>
            <a:spLocks noGrp="1"/>
          </p:cNvSpPr>
          <p:nvPr>
            <p:ph type="dt" idx="217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08" name="PlaceHolder 4"/>
          <p:cNvSpPr>
            <a:spLocks noGrp="1"/>
          </p:cNvSpPr>
          <p:nvPr>
            <p:ph type="ftr" idx="218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09" name="PlaceHolder 5"/>
          <p:cNvSpPr>
            <a:spLocks noGrp="1"/>
          </p:cNvSpPr>
          <p:nvPr>
            <p:ph type="sldNum" idx="219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18CC-587E-476C-979F-BD61358CE79F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PlaceHolder 3"/>
          <p:cNvSpPr>
            <a:spLocks noGrp="1"/>
          </p:cNvSpPr>
          <p:nvPr>
            <p:ph type="dt" idx="220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49" name="PlaceHolder 4"/>
          <p:cNvSpPr>
            <a:spLocks noGrp="1"/>
          </p:cNvSpPr>
          <p:nvPr>
            <p:ph type="ftr" idx="221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50" name="PlaceHolder 5"/>
          <p:cNvSpPr>
            <a:spLocks noGrp="1"/>
          </p:cNvSpPr>
          <p:nvPr>
            <p:ph type="sldNum" idx="222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7A6F-23E6-49F9-A3A4-7AEF6CFF9287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2"/>
    <p:sldLayoutId id="2147484612" r:id="rId3"/>
    <p:sldLayoutId id="2147484613" r:id="rId4"/>
    <p:sldLayoutId id="2147484614" r:id="rId5"/>
    <p:sldLayoutId id="2147484615" r:id="rId6"/>
    <p:sldLayoutId id="2147484616" r:id="rId7"/>
    <p:sldLayoutId id="2147484617" r:id="rId8"/>
    <p:sldLayoutId id="2147484618" r:id="rId9"/>
    <p:sldLayoutId id="2147484619" r:id="rId10"/>
    <p:sldLayoutId id="2147484620" r:id="rId11"/>
    <p:sldLayoutId id="2147484621" r:id="rId12"/>
    <p:sldLayoutId id="2147484622" r:id="rId13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PlaceHolder 3"/>
          <p:cNvSpPr>
            <a:spLocks noGrp="1"/>
          </p:cNvSpPr>
          <p:nvPr>
            <p:ph type="dt" idx="223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90" name="PlaceHolder 4"/>
          <p:cNvSpPr>
            <a:spLocks noGrp="1"/>
          </p:cNvSpPr>
          <p:nvPr>
            <p:ph type="ftr" idx="224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91" name="PlaceHolder 5"/>
          <p:cNvSpPr>
            <a:spLocks noGrp="1"/>
          </p:cNvSpPr>
          <p:nvPr>
            <p:ph type="sldNum" idx="225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B40B-20DE-4925-AE9D-6599FFB54CA6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2"/>
    <p:sldLayoutId id="2147484625" r:id="rId3"/>
    <p:sldLayoutId id="2147484626" r:id="rId4"/>
    <p:sldLayoutId id="2147484627" r:id="rId5"/>
    <p:sldLayoutId id="2147484628" r:id="rId6"/>
    <p:sldLayoutId id="2147484629" r:id="rId7"/>
    <p:sldLayoutId id="2147484630" r:id="rId8"/>
    <p:sldLayoutId id="2147484631" r:id="rId9"/>
    <p:sldLayoutId id="2147484632" r:id="rId10"/>
    <p:sldLayoutId id="2147484633" r:id="rId11"/>
    <p:sldLayoutId id="2147484634" r:id="rId12"/>
    <p:sldLayoutId id="2147484635" r:id="rId13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PlaceHolder 3"/>
          <p:cNvSpPr>
            <a:spLocks noGrp="1"/>
          </p:cNvSpPr>
          <p:nvPr>
            <p:ph type="dt" idx="226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131" name="PlaceHolder 4"/>
          <p:cNvSpPr>
            <a:spLocks noGrp="1"/>
          </p:cNvSpPr>
          <p:nvPr>
            <p:ph type="ftr" idx="227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132" name="PlaceHolder 5"/>
          <p:cNvSpPr>
            <a:spLocks noGrp="1"/>
          </p:cNvSpPr>
          <p:nvPr>
            <p:ph type="sldNum" idx="228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3167-97B8-4D0C-B673-75B8CEABC480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2"/>
    <p:sldLayoutId id="2147484638" r:id="rId3"/>
    <p:sldLayoutId id="2147484639" r:id="rId4"/>
    <p:sldLayoutId id="2147484640" r:id="rId5"/>
    <p:sldLayoutId id="2147484641" r:id="rId6"/>
    <p:sldLayoutId id="2147484642" r:id="rId7"/>
    <p:sldLayoutId id="2147484643" r:id="rId8"/>
    <p:sldLayoutId id="2147484644" r:id="rId9"/>
    <p:sldLayoutId id="2147484645" r:id="rId10"/>
    <p:sldLayoutId id="2147484646" r:id="rId11"/>
    <p:sldLayoutId id="2147484647" r:id="rId12"/>
    <p:sldLayoutId id="2147484648" r:id="rId13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PlaceHolder 3"/>
          <p:cNvSpPr>
            <a:spLocks noGrp="1"/>
          </p:cNvSpPr>
          <p:nvPr>
            <p:ph type="dt" idx="229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172" name="PlaceHolder 4"/>
          <p:cNvSpPr>
            <a:spLocks noGrp="1"/>
          </p:cNvSpPr>
          <p:nvPr>
            <p:ph type="ftr" idx="230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173" name="PlaceHolder 5"/>
          <p:cNvSpPr>
            <a:spLocks noGrp="1"/>
          </p:cNvSpPr>
          <p:nvPr>
            <p:ph type="sldNum" idx="231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737E-D861-4403-AA43-62B30248FDDD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2"/>
    <p:sldLayoutId id="2147484651" r:id="rId3"/>
    <p:sldLayoutId id="2147484652" r:id="rId4"/>
    <p:sldLayoutId id="2147484653" r:id="rId5"/>
    <p:sldLayoutId id="2147484654" r:id="rId6"/>
    <p:sldLayoutId id="2147484655" r:id="rId7"/>
    <p:sldLayoutId id="2147484656" r:id="rId8"/>
    <p:sldLayoutId id="2147484657" r:id="rId9"/>
    <p:sldLayoutId id="2147484658" r:id="rId10"/>
    <p:sldLayoutId id="2147484659" r:id="rId11"/>
    <p:sldLayoutId id="2147484660" r:id="rId12"/>
    <p:sldLayoutId id="2147484661" r:id="rId13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PlaceHolder 3"/>
          <p:cNvSpPr>
            <a:spLocks noGrp="1"/>
          </p:cNvSpPr>
          <p:nvPr>
            <p:ph type="dt" idx="232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13" name="PlaceHolder 4"/>
          <p:cNvSpPr>
            <a:spLocks noGrp="1"/>
          </p:cNvSpPr>
          <p:nvPr>
            <p:ph type="ftr" idx="233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14" name="PlaceHolder 5"/>
          <p:cNvSpPr>
            <a:spLocks noGrp="1"/>
          </p:cNvSpPr>
          <p:nvPr>
            <p:ph type="sldNum" idx="234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5150-18EF-4821-AE62-334F9D4FC223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2"/>
    <p:sldLayoutId id="2147484664" r:id="rId3"/>
    <p:sldLayoutId id="2147484665" r:id="rId4"/>
    <p:sldLayoutId id="2147484666" r:id="rId5"/>
    <p:sldLayoutId id="2147484667" r:id="rId6"/>
    <p:sldLayoutId id="2147484668" r:id="rId7"/>
    <p:sldLayoutId id="2147484669" r:id="rId8"/>
    <p:sldLayoutId id="2147484670" r:id="rId9"/>
    <p:sldLayoutId id="2147484671" r:id="rId10"/>
    <p:sldLayoutId id="2147484672" r:id="rId11"/>
    <p:sldLayoutId id="2147484673" r:id="rId12"/>
    <p:sldLayoutId id="2147484674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 fontScale="90000"/>
          </a:bodyPr>
          <a:p>
            <a:pPr marL="264240" indent="-2642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1852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07200" indent="-1724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275840" indent="-1728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642680" indent="-17244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642680" indent="-17244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642680" indent="-17244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FA1E-D697-4B65-A420-AEE5DC87FB2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PlaceHolder 3"/>
          <p:cNvSpPr>
            <a:spLocks noGrp="1"/>
          </p:cNvSpPr>
          <p:nvPr>
            <p:ph type="dt" idx="235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54" name="PlaceHolder 4"/>
          <p:cNvSpPr>
            <a:spLocks noGrp="1"/>
          </p:cNvSpPr>
          <p:nvPr>
            <p:ph type="ftr" idx="236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55" name="PlaceHolder 5"/>
          <p:cNvSpPr>
            <a:spLocks noGrp="1"/>
          </p:cNvSpPr>
          <p:nvPr>
            <p:ph type="sldNum" idx="237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E7CE-F6C9-4CDA-88C1-2B13AB298195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2"/>
    <p:sldLayoutId id="2147484677" r:id="rId3"/>
    <p:sldLayoutId id="2147484678" r:id="rId4"/>
    <p:sldLayoutId id="2147484679" r:id="rId5"/>
    <p:sldLayoutId id="2147484680" r:id="rId6"/>
    <p:sldLayoutId id="2147484681" r:id="rId7"/>
    <p:sldLayoutId id="2147484682" r:id="rId8"/>
    <p:sldLayoutId id="2147484683" r:id="rId9"/>
    <p:sldLayoutId id="2147484684" r:id="rId10"/>
    <p:sldLayoutId id="2147484685" r:id="rId11"/>
    <p:sldLayoutId id="2147484686" r:id="rId12"/>
    <p:sldLayoutId id="2147484687" r:id="rId13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PlaceHolder 3"/>
          <p:cNvSpPr>
            <a:spLocks noGrp="1"/>
          </p:cNvSpPr>
          <p:nvPr>
            <p:ph type="dt" idx="238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95" name="PlaceHolder 4"/>
          <p:cNvSpPr>
            <a:spLocks noGrp="1"/>
          </p:cNvSpPr>
          <p:nvPr>
            <p:ph type="ftr" idx="239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96" name="PlaceHolder 5"/>
          <p:cNvSpPr>
            <a:spLocks noGrp="1"/>
          </p:cNvSpPr>
          <p:nvPr>
            <p:ph type="sldNum" idx="240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D993-BDF1-4058-88DD-F00D2F3202CF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2"/>
    <p:sldLayoutId id="2147484690" r:id="rId3"/>
    <p:sldLayoutId id="2147484691" r:id="rId4"/>
    <p:sldLayoutId id="2147484692" r:id="rId5"/>
    <p:sldLayoutId id="2147484693" r:id="rId6"/>
    <p:sldLayoutId id="2147484694" r:id="rId7"/>
    <p:sldLayoutId id="2147484695" r:id="rId8"/>
    <p:sldLayoutId id="2147484696" r:id="rId9"/>
    <p:sldLayoutId id="2147484697" r:id="rId10"/>
    <p:sldLayoutId id="2147484698" r:id="rId11"/>
    <p:sldLayoutId id="2147484699" r:id="rId12"/>
    <p:sldLayoutId id="2147484700" r:id="rId13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5" name="PlaceHolder 3"/>
          <p:cNvSpPr>
            <a:spLocks noGrp="1"/>
          </p:cNvSpPr>
          <p:nvPr>
            <p:ph type="dt" idx="241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36" name="PlaceHolder 4"/>
          <p:cNvSpPr>
            <a:spLocks noGrp="1"/>
          </p:cNvSpPr>
          <p:nvPr>
            <p:ph type="ftr" idx="242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37" name="PlaceHolder 5"/>
          <p:cNvSpPr>
            <a:spLocks noGrp="1"/>
          </p:cNvSpPr>
          <p:nvPr>
            <p:ph type="sldNum" idx="243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0FCD-F34C-415B-A57B-A2B848AB75AD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2"/>
    <p:sldLayoutId id="2147484703" r:id="rId3"/>
    <p:sldLayoutId id="2147484704" r:id="rId4"/>
    <p:sldLayoutId id="2147484705" r:id="rId5"/>
    <p:sldLayoutId id="2147484706" r:id="rId6"/>
    <p:sldLayoutId id="2147484707" r:id="rId7"/>
    <p:sldLayoutId id="2147484708" r:id="rId8"/>
    <p:sldLayoutId id="2147484709" r:id="rId9"/>
    <p:sldLayoutId id="2147484710" r:id="rId10"/>
    <p:sldLayoutId id="2147484711" r:id="rId11"/>
    <p:sldLayoutId id="2147484712" r:id="rId12"/>
    <p:sldLayoutId id="2147484713" r:id="rId13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6" name="PlaceHolder 3"/>
          <p:cNvSpPr>
            <a:spLocks noGrp="1"/>
          </p:cNvSpPr>
          <p:nvPr>
            <p:ph type="dt" idx="244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77" name="PlaceHolder 4"/>
          <p:cNvSpPr>
            <a:spLocks noGrp="1"/>
          </p:cNvSpPr>
          <p:nvPr>
            <p:ph type="ftr" idx="245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78" name="PlaceHolder 5"/>
          <p:cNvSpPr>
            <a:spLocks noGrp="1"/>
          </p:cNvSpPr>
          <p:nvPr>
            <p:ph type="sldNum" idx="246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F3B2-FEC2-41D7-94C0-FBD3F571F12D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PlaceHolder 3"/>
          <p:cNvSpPr>
            <a:spLocks noGrp="1"/>
          </p:cNvSpPr>
          <p:nvPr>
            <p:ph type="dt" idx="247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418" name="PlaceHolder 4"/>
          <p:cNvSpPr>
            <a:spLocks noGrp="1"/>
          </p:cNvSpPr>
          <p:nvPr>
            <p:ph type="ftr" idx="248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419" name="PlaceHolder 5"/>
          <p:cNvSpPr>
            <a:spLocks noGrp="1"/>
          </p:cNvSpPr>
          <p:nvPr>
            <p:ph type="sldNum" idx="249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5DAD-78F6-458A-A547-8A42B35AAACC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PlaceHolder 3"/>
          <p:cNvSpPr>
            <a:spLocks noGrp="1"/>
          </p:cNvSpPr>
          <p:nvPr>
            <p:ph type="dt" idx="250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459" name="PlaceHolder 4"/>
          <p:cNvSpPr>
            <a:spLocks noGrp="1"/>
          </p:cNvSpPr>
          <p:nvPr>
            <p:ph type="ftr" idx="251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460" name="PlaceHolder 5"/>
          <p:cNvSpPr>
            <a:spLocks noGrp="1"/>
          </p:cNvSpPr>
          <p:nvPr>
            <p:ph type="sldNum" idx="252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C069-60FE-4936-BF5E-32293E06BF9F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PlaceHolder 3"/>
          <p:cNvSpPr>
            <a:spLocks noGrp="1"/>
          </p:cNvSpPr>
          <p:nvPr>
            <p:ph type="dt" idx="253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00" name="PlaceHolder 4"/>
          <p:cNvSpPr>
            <a:spLocks noGrp="1"/>
          </p:cNvSpPr>
          <p:nvPr>
            <p:ph type="ftr" idx="254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01" name="PlaceHolder 5"/>
          <p:cNvSpPr>
            <a:spLocks noGrp="1"/>
          </p:cNvSpPr>
          <p:nvPr>
            <p:ph type="sldNum" idx="255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0828-0FD7-4605-806B-F6C6E4CCFBB9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0" name="PlaceHolder 3"/>
          <p:cNvSpPr>
            <a:spLocks noGrp="1"/>
          </p:cNvSpPr>
          <p:nvPr>
            <p:ph type="dt" idx="256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41" name="PlaceHolder 4"/>
          <p:cNvSpPr>
            <a:spLocks noGrp="1"/>
          </p:cNvSpPr>
          <p:nvPr>
            <p:ph type="ftr" idx="257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42" name="PlaceHolder 5"/>
          <p:cNvSpPr>
            <a:spLocks noGrp="1"/>
          </p:cNvSpPr>
          <p:nvPr>
            <p:ph type="sldNum" idx="258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BF5C-A27C-49F4-80B6-6C502F89043B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PlaceHolder 3"/>
          <p:cNvSpPr>
            <a:spLocks noGrp="1"/>
          </p:cNvSpPr>
          <p:nvPr>
            <p:ph type="dt" idx="259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82" name="PlaceHolder 4"/>
          <p:cNvSpPr>
            <a:spLocks noGrp="1"/>
          </p:cNvSpPr>
          <p:nvPr>
            <p:ph type="ftr" idx="260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83" name="PlaceHolder 5"/>
          <p:cNvSpPr>
            <a:spLocks noGrp="1"/>
          </p:cNvSpPr>
          <p:nvPr>
            <p:ph type="sldNum" idx="261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0582-C6BD-4338-B959-E5B613B2E146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2"/>
    <p:sldLayoutId id="2147484781" r:id="rId3"/>
    <p:sldLayoutId id="2147484782" r:id="rId4"/>
    <p:sldLayoutId id="2147484783" r:id="rId5"/>
    <p:sldLayoutId id="2147484784" r:id="rId6"/>
    <p:sldLayoutId id="2147484785" r:id="rId7"/>
    <p:sldLayoutId id="2147484786" r:id="rId8"/>
    <p:sldLayoutId id="2147484787" r:id="rId9"/>
    <p:sldLayoutId id="2147484788" r:id="rId10"/>
    <p:sldLayoutId id="2147484789" r:id="rId11"/>
    <p:sldLayoutId id="2147484790" r:id="rId12"/>
    <p:sldLayoutId id="2147484791" r:id="rId13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94000"/>
          </a:bodyPr>
          <a:p>
            <a:pPr marL="26676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21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9960" indent="-17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1920" indent="-174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03880" indent="-169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PlaceHolder 3"/>
          <p:cNvSpPr>
            <a:spLocks noGrp="1"/>
          </p:cNvSpPr>
          <p:nvPr>
            <p:ph type="dt" idx="262"/>
          </p:nvPr>
        </p:nvSpPr>
        <p:spPr>
          <a:xfrm>
            <a:off x="45684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23" name="PlaceHolder 4"/>
          <p:cNvSpPr>
            <a:spLocks noGrp="1"/>
          </p:cNvSpPr>
          <p:nvPr>
            <p:ph type="ftr" idx="263"/>
          </p:nvPr>
        </p:nvSpPr>
        <p:spPr>
          <a:xfrm>
            <a:off x="3124080" y="46846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24" name="PlaceHolder 5"/>
          <p:cNvSpPr>
            <a:spLocks noGrp="1"/>
          </p:cNvSpPr>
          <p:nvPr>
            <p:ph type="sldNum" idx="264"/>
          </p:nvPr>
        </p:nvSpPr>
        <p:spPr>
          <a:xfrm>
            <a:off x="6552720" y="468468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014B-48F8-4BE4-8B8F-52ED4941ABA8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2"/>
    <p:sldLayoutId id="2147484794" r:id="rId3"/>
    <p:sldLayoutId id="2147484795" r:id="rId4"/>
    <p:sldLayoutId id="2147484796" r:id="rId5"/>
    <p:sldLayoutId id="2147484797" r:id="rId6"/>
    <p:sldLayoutId id="2147484798" r:id="rId7"/>
    <p:sldLayoutId id="2147484799" r:id="rId8"/>
    <p:sldLayoutId id="2147484800" r:id="rId9"/>
    <p:sldLayoutId id="2147484801" r:id="rId10"/>
    <p:sldLayoutId id="2147484802" r:id="rId11"/>
    <p:sldLayoutId id="2147484803" r:id="rId12"/>
    <p:sldLayoutId id="2147484804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3"/>
          <p:cNvSpPr/>
          <p:nvPr/>
        </p:nvSpPr>
        <p:spPr>
          <a:xfrm>
            <a:off x="2268360" y="141120"/>
            <a:ext cx="47498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760" rIns="59760" tIns="29520" bIns="2952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  <a:ea typeface="Arial"/>
              </a:rPr>
              <a:t>ГЛАВНОЕ УПРАВЛЕНИЕ МЧС РОССИИ ПО АМУРСКОЙ ОБЛАСТИ</a:t>
            </a:r>
            <a:endParaRPr b="1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339" name="Picture 6" descr=""/>
          <p:cNvPicPr/>
          <p:nvPr/>
        </p:nvPicPr>
        <p:blipFill>
          <a:blip r:embed="rId2"/>
          <a:stretch/>
        </p:blipFill>
        <p:spPr>
          <a:xfrm>
            <a:off x="239760" y="17640"/>
            <a:ext cx="814320" cy="699840"/>
          </a:xfrm>
          <a:prstGeom prst="rect">
            <a:avLst/>
          </a:prstGeom>
          <a:ln w="0">
            <a:noFill/>
          </a:ln>
        </p:spPr>
      </p:pic>
      <p:grpSp>
        <p:nvGrpSpPr>
          <p:cNvPr id="340" name="Group 5"/>
          <p:cNvGrpSpPr/>
          <p:nvPr/>
        </p:nvGrpSpPr>
        <p:grpSpPr>
          <a:xfrm>
            <a:off x="0" y="736560"/>
            <a:ext cx="9144000" cy="50760"/>
            <a:chOff x="0" y="736560"/>
            <a:chExt cx="9144000" cy="50760"/>
          </a:xfrm>
        </p:grpSpPr>
        <p:sp>
          <p:nvSpPr>
            <p:cNvPr id="341" name="Line 10"/>
            <p:cNvSpPr/>
            <p:nvPr/>
          </p:nvSpPr>
          <p:spPr>
            <a:xfrm>
              <a:off x="0" y="736560"/>
              <a:ext cx="9144000" cy="0"/>
            </a:xfrm>
            <a:prstGeom prst="line">
              <a:avLst/>
            </a:prstGeom>
            <a:ln w="507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42" name="Line 11"/>
            <p:cNvSpPr/>
            <p:nvPr/>
          </p:nvSpPr>
          <p:spPr>
            <a:xfrm>
              <a:off x="0" y="787320"/>
              <a:ext cx="9144000" cy="0"/>
            </a:xfrm>
            <a:prstGeom prst="line">
              <a:avLst/>
            </a:prstGeom>
            <a:ln w="507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43" name="Line 12"/>
            <p:cNvSpPr/>
            <p:nvPr/>
          </p:nvSpPr>
          <p:spPr>
            <a:xfrm>
              <a:off x="0" y="762480"/>
              <a:ext cx="9144000" cy="0"/>
            </a:xfrm>
            <a:prstGeom prst="line">
              <a:avLst/>
            </a:prstGeom>
            <a:ln w="41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pic>
        <p:nvPicPr>
          <p:cNvPr id="344" name="Picture 10" descr="Заставка"/>
          <p:cNvPicPr/>
          <p:nvPr/>
        </p:nvPicPr>
        <p:blipFill>
          <a:blip r:embed="rId3"/>
          <a:stretch/>
        </p:blipFill>
        <p:spPr>
          <a:xfrm>
            <a:off x="8001000" y="-82440"/>
            <a:ext cx="1041480" cy="857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suslugi.ru/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8" name="Rectangle 2"/>
          <p:cNvSpPr/>
          <p:nvPr/>
        </p:nvSpPr>
        <p:spPr>
          <a:xfrm>
            <a:off x="-182520" y="0"/>
            <a:ext cx="9326520" cy="5143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0560" rIns="70560" tIns="35280" bIns="35280" anchor="ctr">
            <a:noAutofit/>
          </a:bodyPr>
          <a:p>
            <a:pPr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69" name="Rectangle 3"/>
          <p:cNvSpPr/>
          <p:nvPr/>
        </p:nvSpPr>
        <p:spPr>
          <a:xfrm>
            <a:off x="4224240" y="4732200"/>
            <a:ext cx="25941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47720"/>
                <a:tab algn="l" pos="1495440"/>
                <a:tab algn="l" pos="2243160"/>
                <a:tab algn="l" pos="2990880"/>
                <a:tab algn="l" pos="3738600"/>
                <a:tab algn="l" pos="4486320"/>
                <a:tab algn="l" pos="5234040"/>
                <a:tab algn="l" pos="5981760"/>
                <a:tab algn="l" pos="6729480"/>
                <a:tab algn="l" pos="7477200"/>
                <a:tab algn="l" pos="8224920"/>
                <a:tab algn="l" pos="8972640"/>
                <a:tab algn="l" pos="9720360"/>
                <a:tab algn="l" pos="1046808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3670" name="Picture 41" descr="флаг МЧС4"/>
          <p:cNvPicPr/>
          <p:nvPr/>
        </p:nvPicPr>
        <p:blipFill>
          <a:blip r:embed="rId1"/>
          <a:stretch/>
        </p:blipFill>
        <p:spPr>
          <a:xfrm>
            <a:off x="-357120" y="0"/>
            <a:ext cx="2571840" cy="1886040"/>
          </a:xfrm>
          <a:prstGeom prst="rect">
            <a:avLst/>
          </a:prstGeom>
          <a:ln w="0">
            <a:noFill/>
          </a:ln>
        </p:spPr>
      </p:pic>
      <p:sp>
        <p:nvSpPr>
          <p:cNvPr id="3671" name="Rectangle 40"/>
          <p:cNvSpPr/>
          <p:nvPr/>
        </p:nvSpPr>
        <p:spPr>
          <a:xfrm>
            <a:off x="-88920" y="2184480"/>
            <a:ext cx="9144000" cy="25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560" rIns="70560" tIns="35280" bIns="3528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ЛГОРИТМ ПОДАЧИ ЗАЯВЛЕНИЙ НА ПОРТАЛЕ ГОСУСЛУГ ДЛЯ ПОЛУЧЕНИЯ ГОСУДАРСТВЕННЫХ УСЛУГ ПРЕДСТАВЛЯЕМЫХ 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ГОСУДАРСТВЕННОЙ ИНСПЕКЦИЕЙ ПО МАЛОМЕРНЫМ СУДАМ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МЧС РОССИИ по РОСТОВСКОЙ ОБЛАСТИ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3672" name="Рисунок 14" descr=""/>
          <p:cNvPicPr/>
          <p:nvPr/>
        </p:nvPicPr>
        <p:blipFill>
          <a:blip r:embed="rId2"/>
          <a:stretch/>
        </p:blipFill>
        <p:spPr>
          <a:xfrm>
            <a:off x="7496280" y="347760"/>
            <a:ext cx="1352520" cy="1195200"/>
          </a:xfrm>
          <a:prstGeom prst="rect">
            <a:avLst/>
          </a:prstGeom>
          <a:ln w="0">
            <a:noFill/>
          </a:ln>
        </p:spPr>
      </p:pic>
      <p:pic>
        <p:nvPicPr>
          <p:cNvPr id="3673" name="Рисунок 1" descr=""/>
          <p:cNvPicPr/>
          <p:nvPr/>
        </p:nvPicPr>
        <p:blipFill>
          <a:blip r:embed="rId3"/>
          <a:stretch/>
        </p:blipFill>
        <p:spPr>
          <a:xfrm>
            <a:off x="-88920" y="4438800"/>
            <a:ext cx="1060560" cy="58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1" name="Text Box 12"/>
          <p:cNvSpPr/>
          <p:nvPr/>
        </p:nvSpPr>
        <p:spPr>
          <a:xfrm>
            <a:off x="0" y="-7920"/>
            <a:ext cx="9144000" cy="696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9400" rIns="149400" tIns="25560" bIns="25560" anchor="t">
            <a:noAutofit/>
          </a:bodyPr>
          <a:p>
            <a:pPr algn="ctr"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endParaRPr b="1" lang="en-US" sz="10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 ЗАЯВИТЕЛЯ ДЛЯ ПОДАЧИ ЗАЯВЛЕНИЙ В ЭЛЕКТРОННОМ ВИДЕ </a:t>
            </a: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22" name="Text Box 91"/>
          <p:cNvSpPr/>
          <p:nvPr/>
        </p:nvSpPr>
        <p:spPr>
          <a:xfrm rot="10800000">
            <a:off x="1490400" y="3771720"/>
            <a:ext cx="212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240" rIns="129240" tIns="64440" bIns="6444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49400"/>
                <a:tab algn="l" pos="2098800"/>
                <a:tab algn="l" pos="3147840"/>
                <a:tab algn="l" pos="4197240"/>
                <a:tab algn="l" pos="5246640"/>
                <a:tab algn="l" pos="6296040"/>
                <a:tab algn="l" pos="7345440"/>
                <a:tab algn="l" pos="8394840"/>
                <a:tab algn="l" pos="9443880"/>
                <a:tab algn="l" pos="1049328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23" name="Text Box 91"/>
          <p:cNvSpPr/>
          <p:nvPr/>
        </p:nvSpPr>
        <p:spPr>
          <a:xfrm rot="10800000">
            <a:off x="1490400" y="906120"/>
            <a:ext cx="212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240" rIns="129240" tIns="64440" bIns="6444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49400"/>
                <a:tab algn="l" pos="2098800"/>
                <a:tab algn="l" pos="3147840"/>
                <a:tab algn="l" pos="4197240"/>
                <a:tab algn="l" pos="5246640"/>
                <a:tab algn="l" pos="6296040"/>
                <a:tab algn="l" pos="7345440"/>
                <a:tab algn="l" pos="8394840"/>
                <a:tab algn="l" pos="9443880"/>
                <a:tab algn="l" pos="1049328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3724" name="Рисунок 8" descr=""/>
          <p:cNvPicPr/>
          <p:nvPr/>
        </p:nvPicPr>
        <p:blipFill>
          <a:blip r:embed="rId1"/>
          <a:stretch/>
        </p:blipFill>
        <p:spPr>
          <a:xfrm>
            <a:off x="0" y="0"/>
            <a:ext cx="409680" cy="411120"/>
          </a:xfrm>
          <a:prstGeom prst="rect">
            <a:avLst/>
          </a:prstGeom>
          <a:ln w="0">
            <a:noFill/>
          </a:ln>
        </p:spPr>
      </p:pic>
      <p:pic>
        <p:nvPicPr>
          <p:cNvPr id="3725" name="Рисунок 2" descr=""/>
          <p:cNvPicPr/>
          <p:nvPr/>
        </p:nvPicPr>
        <p:blipFill>
          <a:blip r:embed="rId2"/>
          <a:stretch/>
        </p:blipFill>
        <p:spPr>
          <a:xfrm>
            <a:off x="165240" y="739800"/>
            <a:ext cx="8813520" cy="4449600"/>
          </a:xfrm>
          <a:prstGeom prst="rect">
            <a:avLst/>
          </a:prstGeom>
          <a:ln w="0">
            <a:noFill/>
          </a:ln>
        </p:spPr>
      </p:pic>
      <p:sp>
        <p:nvSpPr>
          <p:cNvPr id="3726" name="Стрелка вправо 3"/>
          <p:cNvSpPr/>
          <p:nvPr/>
        </p:nvSpPr>
        <p:spPr>
          <a:xfrm>
            <a:off x="584280" y="3540240"/>
            <a:ext cx="1368360" cy="565200"/>
          </a:xfrm>
          <a:prstGeom prst="rightArrow">
            <a:avLst>
              <a:gd name="adj1" fmla="val 50000"/>
              <a:gd name="adj2" fmla="val 50068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Квитанция на оплату</a:t>
            </a:r>
            <a:endParaRPr b="1" lang="en-US" sz="9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4" name="Text Box 12"/>
          <p:cNvSpPr/>
          <p:nvPr/>
        </p:nvSpPr>
        <p:spPr>
          <a:xfrm>
            <a:off x="0" y="-7920"/>
            <a:ext cx="9144000" cy="669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9400" rIns="149400" tIns="25560" bIns="25560" anchor="t">
            <a:noAutofit/>
          </a:bodyPr>
          <a:p>
            <a:pPr algn="ctr"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endParaRPr b="1" lang="en-US" sz="10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 ЗАЯВИТЕЛЯ ДЛЯ ПОДАЧИ ЗАЯВЛЕНИЙ В ЭЛЕКТРОННОМ ВИДЕ </a:t>
            </a:r>
            <a:endParaRPr b="1" lang="en-US" sz="14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r>
              <a:rPr b="1" lang="ru-RU" sz="900" spc="-1" strike="noStrike">
                <a:solidFill>
                  <a:srgbClr val="ff0000"/>
                </a:solidFill>
                <a:latin typeface="Times New Roman"/>
                <a:ea typeface="Arial"/>
              </a:rPr>
              <a:t>Для получения государственной услуги в электронной форме необходимо зарегистрироваться в сети Интернет на Едином портале государственных и муниципальных услуг – </a:t>
            </a:r>
            <a:r>
              <a:rPr b="1" lang="ru-RU" sz="900" spc="-1" strike="noStrike" u="sng">
                <a:solidFill>
                  <a:srgbClr val="009999"/>
                </a:solidFill>
                <a:uFillTx/>
                <a:latin typeface="Times New Roman"/>
                <a:ea typeface="Arial"/>
                <a:hlinkClick r:id="rId1"/>
              </a:rPr>
              <a:t>www.gosuslugi.ru</a:t>
            </a:r>
            <a:r>
              <a:rPr b="1" lang="ru-RU" sz="900" spc="-1" strike="noStrike">
                <a:solidFill>
                  <a:srgbClr val="ff0000"/>
                </a:solidFill>
                <a:latin typeface="Times New Roman"/>
                <a:ea typeface="Arial"/>
              </a:rPr>
              <a:t>.</a:t>
            </a:r>
            <a:endParaRPr b="1" lang="en-US" sz="9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endParaRPr b="1" lang="en-US" sz="9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75" name="Text Box 91"/>
          <p:cNvSpPr/>
          <p:nvPr/>
        </p:nvSpPr>
        <p:spPr>
          <a:xfrm rot="10800000">
            <a:off x="1490400" y="3771720"/>
            <a:ext cx="212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240" rIns="129240" tIns="64440" bIns="6444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49400"/>
                <a:tab algn="l" pos="2098800"/>
                <a:tab algn="l" pos="3147840"/>
                <a:tab algn="l" pos="4197240"/>
                <a:tab algn="l" pos="5246640"/>
                <a:tab algn="l" pos="6296040"/>
                <a:tab algn="l" pos="7345440"/>
                <a:tab algn="l" pos="8394840"/>
                <a:tab algn="l" pos="9443880"/>
                <a:tab algn="l" pos="1049328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76" name="Text Box 91"/>
          <p:cNvSpPr/>
          <p:nvPr/>
        </p:nvSpPr>
        <p:spPr>
          <a:xfrm rot="10800000">
            <a:off x="1490400" y="906120"/>
            <a:ext cx="212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240" rIns="129240" tIns="64440" bIns="6444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49400"/>
                <a:tab algn="l" pos="2098800"/>
                <a:tab algn="l" pos="3147840"/>
                <a:tab algn="l" pos="4197240"/>
                <a:tab algn="l" pos="5246640"/>
                <a:tab algn="l" pos="6296040"/>
                <a:tab algn="l" pos="7345440"/>
                <a:tab algn="l" pos="8394840"/>
                <a:tab algn="l" pos="9443880"/>
                <a:tab algn="l" pos="1049328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3677" name="Рисунок 19" descr=""/>
          <p:cNvPicPr/>
          <p:nvPr/>
        </p:nvPicPr>
        <p:blipFill>
          <a:blip r:embed="rId2"/>
          <a:stretch/>
        </p:blipFill>
        <p:spPr>
          <a:xfrm>
            <a:off x="58680" y="662040"/>
            <a:ext cx="9007560" cy="4968720"/>
          </a:xfrm>
          <a:prstGeom prst="rect">
            <a:avLst/>
          </a:prstGeom>
          <a:ln w="0">
            <a:noFill/>
          </a:ln>
        </p:spPr>
      </p:pic>
      <p:pic>
        <p:nvPicPr>
          <p:cNvPr id="3678" name="Рисунок 1" descr=""/>
          <p:cNvPicPr/>
          <p:nvPr/>
        </p:nvPicPr>
        <p:blipFill>
          <a:blip r:embed="rId3"/>
          <a:stretch/>
        </p:blipFill>
        <p:spPr>
          <a:xfrm>
            <a:off x="0" y="12600"/>
            <a:ext cx="409680" cy="41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9" name="Text Box 12"/>
          <p:cNvSpPr/>
          <p:nvPr/>
        </p:nvSpPr>
        <p:spPr>
          <a:xfrm>
            <a:off x="0" y="-7920"/>
            <a:ext cx="9144000" cy="604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9400" rIns="149400" tIns="25560" bIns="25560" anchor="t">
            <a:noAutofit/>
          </a:bodyPr>
          <a:p>
            <a:pPr algn="ctr"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endParaRPr b="1" lang="en-US" sz="10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 ЗАЯВИТЕЛЯ ДЛЯ ПОДАЧИ ЗАЯВЛЕНИЙ В ЭЛЕКТРОННОМ ВИДЕ</a:t>
            </a: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80" name="Text Box 91"/>
          <p:cNvSpPr/>
          <p:nvPr/>
        </p:nvSpPr>
        <p:spPr>
          <a:xfrm rot="10800000">
            <a:off x="1490400" y="3771720"/>
            <a:ext cx="212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240" rIns="129240" tIns="64440" bIns="6444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49400"/>
                <a:tab algn="l" pos="2098800"/>
                <a:tab algn="l" pos="3147840"/>
                <a:tab algn="l" pos="4197240"/>
                <a:tab algn="l" pos="5246640"/>
                <a:tab algn="l" pos="6296040"/>
                <a:tab algn="l" pos="7345440"/>
                <a:tab algn="l" pos="8394840"/>
                <a:tab algn="l" pos="9443880"/>
                <a:tab algn="l" pos="1049328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81" name="Text Box 91"/>
          <p:cNvSpPr/>
          <p:nvPr/>
        </p:nvSpPr>
        <p:spPr>
          <a:xfrm rot="10800000">
            <a:off x="1490400" y="906120"/>
            <a:ext cx="212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240" rIns="129240" tIns="64440" bIns="6444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49400"/>
                <a:tab algn="l" pos="2098800"/>
                <a:tab algn="l" pos="3147840"/>
                <a:tab algn="l" pos="4197240"/>
                <a:tab algn="l" pos="5246640"/>
                <a:tab algn="l" pos="6296040"/>
                <a:tab algn="l" pos="7345440"/>
                <a:tab algn="l" pos="8394840"/>
                <a:tab algn="l" pos="9443880"/>
                <a:tab algn="l" pos="1049328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3682" name="Рисунок 5" descr=""/>
          <p:cNvPicPr/>
          <p:nvPr/>
        </p:nvPicPr>
        <p:blipFill>
          <a:blip r:embed="rId1"/>
          <a:stretch/>
        </p:blipFill>
        <p:spPr>
          <a:xfrm>
            <a:off x="79200" y="611280"/>
            <a:ext cx="8855280" cy="4532400"/>
          </a:xfrm>
          <a:prstGeom prst="rect">
            <a:avLst/>
          </a:prstGeom>
          <a:ln w="0">
            <a:noFill/>
          </a:ln>
        </p:spPr>
      </p:pic>
      <p:sp>
        <p:nvSpPr>
          <p:cNvPr id="3683" name="Стрелка влево 2"/>
          <p:cNvSpPr/>
          <p:nvPr/>
        </p:nvSpPr>
        <p:spPr>
          <a:xfrm>
            <a:off x="7083360" y="2401920"/>
            <a:ext cx="1397160" cy="527040"/>
          </a:xfrm>
          <a:prstGeom prst="leftArrow">
            <a:avLst>
              <a:gd name="adj1" fmla="val 50000"/>
              <a:gd name="adj2" fmla="val 50012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АВТОРИЗАЦИЯ НА ПОРТАЛЕ</a:t>
            </a:r>
            <a:endParaRPr b="1" lang="en-US" sz="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3684" name="Рисунок 8" descr=""/>
          <p:cNvPicPr/>
          <p:nvPr/>
        </p:nvPicPr>
        <p:blipFill>
          <a:blip r:embed="rId2"/>
          <a:stretch/>
        </p:blipFill>
        <p:spPr>
          <a:xfrm>
            <a:off x="79200" y="30240"/>
            <a:ext cx="527400" cy="52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5" name="Text Box 12"/>
          <p:cNvSpPr/>
          <p:nvPr/>
        </p:nvSpPr>
        <p:spPr>
          <a:xfrm>
            <a:off x="0" y="-7920"/>
            <a:ext cx="9144000" cy="728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9400" rIns="149400" tIns="25560" bIns="25560" anchor="t">
            <a:noAutofit/>
          </a:bodyPr>
          <a:p>
            <a:pPr algn="ctr"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endParaRPr b="1" lang="en-US" sz="10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 ЗАЯВИТЕЛЯ ДЛЯ ПОДАЧИ ЗАЯВЛЕНИЙ В ЭЛЕКТРОННОМ ВИДЕ</a:t>
            </a: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ff0000"/>
                </a:solidFill>
                <a:latin typeface="Times New Roman"/>
                <a:ea typeface="Arial"/>
              </a:rPr>
              <a:t>услуги можно получить в электронном виде через единый портал государственных услуг по адресу: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https://www.gosuslugi.ru/structure/321889765</a:t>
            </a:r>
            <a:endParaRPr b="1" lang="en-US" sz="1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86" name="Text Box 91"/>
          <p:cNvSpPr/>
          <p:nvPr/>
        </p:nvSpPr>
        <p:spPr>
          <a:xfrm rot="10800000">
            <a:off x="1490400" y="3771720"/>
            <a:ext cx="212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240" rIns="129240" tIns="64440" bIns="6444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49400"/>
                <a:tab algn="l" pos="2098800"/>
                <a:tab algn="l" pos="3147840"/>
                <a:tab algn="l" pos="4197240"/>
                <a:tab algn="l" pos="5246640"/>
                <a:tab algn="l" pos="6296040"/>
                <a:tab algn="l" pos="7345440"/>
                <a:tab algn="l" pos="8394840"/>
                <a:tab algn="l" pos="9443880"/>
                <a:tab algn="l" pos="1049328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87" name="Text Box 91"/>
          <p:cNvSpPr/>
          <p:nvPr/>
        </p:nvSpPr>
        <p:spPr>
          <a:xfrm rot="10800000">
            <a:off x="1490400" y="906120"/>
            <a:ext cx="212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240" rIns="129240" tIns="64440" bIns="6444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49400"/>
                <a:tab algn="l" pos="2098800"/>
                <a:tab algn="l" pos="3147840"/>
                <a:tab algn="l" pos="4197240"/>
                <a:tab algn="l" pos="5246640"/>
                <a:tab algn="l" pos="6296040"/>
                <a:tab algn="l" pos="7345440"/>
                <a:tab algn="l" pos="8394840"/>
                <a:tab algn="l" pos="9443880"/>
                <a:tab algn="l" pos="1049328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3688" name="Рисунок 6" descr=""/>
          <p:cNvPicPr/>
          <p:nvPr/>
        </p:nvPicPr>
        <p:blipFill>
          <a:blip r:embed="rId1"/>
          <a:stretch/>
        </p:blipFill>
        <p:spPr>
          <a:xfrm>
            <a:off x="79200" y="725400"/>
            <a:ext cx="8967960" cy="4410000"/>
          </a:xfrm>
          <a:prstGeom prst="rect">
            <a:avLst/>
          </a:prstGeom>
          <a:ln w="0">
            <a:noFill/>
          </a:ln>
        </p:spPr>
      </p:pic>
      <p:sp>
        <p:nvSpPr>
          <p:cNvPr id="3689" name="Стрелка вправо 1"/>
          <p:cNvSpPr/>
          <p:nvPr/>
        </p:nvSpPr>
        <p:spPr>
          <a:xfrm>
            <a:off x="244440" y="1477800"/>
            <a:ext cx="1359000" cy="31932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ff0000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3690" name="Рисунок 7" descr=""/>
          <p:cNvPicPr/>
          <p:nvPr/>
        </p:nvPicPr>
        <p:blipFill>
          <a:blip r:embed="rId2"/>
          <a:stretch/>
        </p:blipFill>
        <p:spPr>
          <a:xfrm>
            <a:off x="79200" y="30240"/>
            <a:ext cx="527400" cy="52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1" name="Text Box 12"/>
          <p:cNvSpPr/>
          <p:nvPr/>
        </p:nvSpPr>
        <p:spPr>
          <a:xfrm>
            <a:off x="0" y="-7920"/>
            <a:ext cx="9144000" cy="741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9400" rIns="149400" tIns="25560" bIns="25560" anchor="t">
            <a:noAutofit/>
          </a:bodyPr>
          <a:p>
            <a:pPr algn="ctr"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endParaRPr b="1" lang="en-US" sz="10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 ЗАЯВИТЕЛЯ ДЛЯ ПОДАЧИ ЗАЯВЛЕНИЙ В ЭЛЕКТРОННОМ ВИДЕ </a:t>
            </a: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r>
              <a:rPr b="1" lang="ru-RU" sz="900" spc="-1" strike="noStrike">
                <a:solidFill>
                  <a:srgbClr val="ff0000"/>
                </a:solidFill>
                <a:latin typeface="Times New Roman"/>
                <a:ea typeface="Arial"/>
              </a:rPr>
              <a:t>Здесь гражданин может подать заявку на получение необходимой услуги, выбрав для себя наиболее удобное время и дату, таким образом, значительно сокращается время, которое тратится на проведение проверки подлинности представленных сведений при непосредственном обращении в инспекторский участок</a:t>
            </a:r>
            <a:endParaRPr b="1" lang="en-US" sz="9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92" name="Text Box 91"/>
          <p:cNvSpPr/>
          <p:nvPr/>
        </p:nvSpPr>
        <p:spPr>
          <a:xfrm rot="10800000">
            <a:off x="1490400" y="3771720"/>
            <a:ext cx="212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240" rIns="129240" tIns="64440" bIns="6444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49400"/>
                <a:tab algn="l" pos="2098800"/>
                <a:tab algn="l" pos="3147840"/>
                <a:tab algn="l" pos="4197240"/>
                <a:tab algn="l" pos="5246640"/>
                <a:tab algn="l" pos="6296040"/>
                <a:tab algn="l" pos="7345440"/>
                <a:tab algn="l" pos="8394840"/>
                <a:tab algn="l" pos="9443880"/>
                <a:tab algn="l" pos="1049328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93" name="Text Box 91"/>
          <p:cNvSpPr/>
          <p:nvPr/>
        </p:nvSpPr>
        <p:spPr>
          <a:xfrm rot="10800000">
            <a:off x="1490400" y="906120"/>
            <a:ext cx="212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240" rIns="129240" tIns="64440" bIns="6444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49400"/>
                <a:tab algn="l" pos="2098800"/>
                <a:tab algn="l" pos="3147840"/>
                <a:tab algn="l" pos="4197240"/>
                <a:tab algn="l" pos="5246640"/>
                <a:tab algn="l" pos="6296040"/>
                <a:tab algn="l" pos="7345440"/>
                <a:tab algn="l" pos="8394840"/>
                <a:tab algn="l" pos="9443880"/>
                <a:tab algn="l" pos="1049328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3694" name="Рисунок 8" descr=""/>
          <p:cNvPicPr/>
          <p:nvPr/>
        </p:nvPicPr>
        <p:blipFill>
          <a:blip r:embed="rId1"/>
          <a:stretch/>
        </p:blipFill>
        <p:spPr>
          <a:xfrm>
            <a:off x="71280" y="746280"/>
            <a:ext cx="9072720" cy="4505040"/>
          </a:xfrm>
          <a:prstGeom prst="rect">
            <a:avLst/>
          </a:prstGeom>
          <a:ln w="0">
            <a:noFill/>
          </a:ln>
        </p:spPr>
      </p:pic>
      <p:sp>
        <p:nvSpPr>
          <p:cNvPr id="3695" name="Стрелка вправо 3"/>
          <p:cNvSpPr/>
          <p:nvPr/>
        </p:nvSpPr>
        <p:spPr>
          <a:xfrm>
            <a:off x="257040" y="3948120"/>
            <a:ext cx="1854360" cy="90000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ВЫБОР ИНТЕРЕСУЮЩЕЙ УСЛУГИ</a:t>
            </a:r>
            <a:endParaRPr b="1" lang="en-US" sz="9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3696" name="Рисунок 10" descr=""/>
          <p:cNvPicPr/>
          <p:nvPr/>
        </p:nvPicPr>
        <p:blipFill>
          <a:blip r:embed="rId2"/>
          <a:stretch/>
        </p:blipFill>
        <p:spPr>
          <a:xfrm>
            <a:off x="0" y="0"/>
            <a:ext cx="399960" cy="40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7" name="Text Box 12"/>
          <p:cNvSpPr/>
          <p:nvPr/>
        </p:nvSpPr>
        <p:spPr>
          <a:xfrm>
            <a:off x="0" y="-7920"/>
            <a:ext cx="9144000" cy="604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9400" rIns="149400" tIns="25560" bIns="25560" anchor="t">
            <a:noAutofit/>
          </a:bodyPr>
          <a:p>
            <a:pPr algn="ctr"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endParaRPr b="1" lang="en-US" sz="10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 ЗАЯВИТЕЛЯ ДЛЯ ПОДАЧИ ЗАЯВЛЕНИЙ В ЭЛЕКТРОННОМ ВИДЕ</a:t>
            </a: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98" name="Text Box 91"/>
          <p:cNvSpPr/>
          <p:nvPr/>
        </p:nvSpPr>
        <p:spPr>
          <a:xfrm rot="10800000">
            <a:off x="1490400" y="3771720"/>
            <a:ext cx="212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240" rIns="129240" tIns="64440" bIns="6444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49400"/>
                <a:tab algn="l" pos="2098800"/>
                <a:tab algn="l" pos="3147840"/>
                <a:tab algn="l" pos="4197240"/>
                <a:tab algn="l" pos="5246640"/>
                <a:tab algn="l" pos="6296040"/>
                <a:tab algn="l" pos="7345440"/>
                <a:tab algn="l" pos="8394840"/>
                <a:tab algn="l" pos="9443880"/>
                <a:tab algn="l" pos="1049328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99" name="Text Box 91"/>
          <p:cNvSpPr/>
          <p:nvPr/>
        </p:nvSpPr>
        <p:spPr>
          <a:xfrm rot="10800000">
            <a:off x="1490400" y="906120"/>
            <a:ext cx="212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240" rIns="129240" tIns="64440" bIns="6444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49400"/>
                <a:tab algn="l" pos="2098800"/>
                <a:tab algn="l" pos="3147840"/>
                <a:tab algn="l" pos="4197240"/>
                <a:tab algn="l" pos="5246640"/>
                <a:tab algn="l" pos="6296040"/>
                <a:tab algn="l" pos="7345440"/>
                <a:tab algn="l" pos="8394840"/>
                <a:tab algn="l" pos="9443880"/>
                <a:tab algn="l" pos="1049328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3700" name="Рисунок 7" descr=""/>
          <p:cNvPicPr/>
          <p:nvPr/>
        </p:nvPicPr>
        <p:blipFill>
          <a:blip r:embed="rId1"/>
          <a:stretch/>
        </p:blipFill>
        <p:spPr>
          <a:xfrm>
            <a:off x="96840" y="596880"/>
            <a:ext cx="8962920" cy="4506840"/>
          </a:xfrm>
          <a:prstGeom prst="rect">
            <a:avLst/>
          </a:prstGeom>
          <a:ln w="0">
            <a:noFill/>
          </a:ln>
        </p:spPr>
      </p:pic>
      <p:sp>
        <p:nvSpPr>
          <p:cNvPr id="3701" name="Стрелка влево 1"/>
          <p:cNvSpPr/>
          <p:nvPr/>
        </p:nvSpPr>
        <p:spPr>
          <a:xfrm>
            <a:off x="5319720" y="2949480"/>
            <a:ext cx="2246400" cy="920880"/>
          </a:xfrm>
          <a:prstGeom prst="leftArrow">
            <a:avLst>
              <a:gd name="adj1" fmla="val 50000"/>
              <a:gd name="adj2" fmla="val 49996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ВЫБОР УСЛУГИ СВЯЗАННОЙ С АТТЕСТАЦИЙ</a:t>
            </a:r>
            <a:endParaRPr b="1" lang="en-US" sz="9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3702" name="Рисунок 10" descr=""/>
          <p:cNvPicPr/>
          <p:nvPr/>
        </p:nvPicPr>
        <p:blipFill>
          <a:blip r:embed="rId2"/>
          <a:stretch/>
        </p:blipFill>
        <p:spPr>
          <a:xfrm>
            <a:off x="79200" y="30240"/>
            <a:ext cx="527400" cy="52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3" name="Text Box 12"/>
          <p:cNvSpPr/>
          <p:nvPr/>
        </p:nvSpPr>
        <p:spPr>
          <a:xfrm>
            <a:off x="0" y="-7920"/>
            <a:ext cx="9144000" cy="604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9400" rIns="149400" tIns="25560" bIns="25560" anchor="t">
            <a:noAutofit/>
          </a:bodyPr>
          <a:p>
            <a:pPr algn="ctr"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endParaRPr b="1" lang="en-US" sz="10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 ЗАЯВИТЕЛЯ ДЛЯ ПОДАЧИ ЗАЯВЛЕНИЙ В ЭЛЕКТРОННОМ ВИДЕ</a:t>
            </a: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04" name="Text Box 91"/>
          <p:cNvSpPr/>
          <p:nvPr/>
        </p:nvSpPr>
        <p:spPr>
          <a:xfrm rot="10800000">
            <a:off x="1490400" y="3771720"/>
            <a:ext cx="212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240" rIns="129240" tIns="64440" bIns="6444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49400"/>
                <a:tab algn="l" pos="2098800"/>
                <a:tab algn="l" pos="3147840"/>
                <a:tab algn="l" pos="4197240"/>
                <a:tab algn="l" pos="5246640"/>
                <a:tab algn="l" pos="6296040"/>
                <a:tab algn="l" pos="7345440"/>
                <a:tab algn="l" pos="8394840"/>
                <a:tab algn="l" pos="9443880"/>
                <a:tab algn="l" pos="1049328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05" name="Text Box 91"/>
          <p:cNvSpPr/>
          <p:nvPr/>
        </p:nvSpPr>
        <p:spPr>
          <a:xfrm rot="10800000">
            <a:off x="1490400" y="906120"/>
            <a:ext cx="212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240" rIns="129240" tIns="64440" bIns="6444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49400"/>
                <a:tab algn="l" pos="2098800"/>
                <a:tab algn="l" pos="3147840"/>
                <a:tab algn="l" pos="4197240"/>
                <a:tab algn="l" pos="5246640"/>
                <a:tab algn="l" pos="6296040"/>
                <a:tab algn="l" pos="7345440"/>
                <a:tab algn="l" pos="8394840"/>
                <a:tab algn="l" pos="9443880"/>
                <a:tab algn="l" pos="1049328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3706" name="Рисунок 6" descr=""/>
          <p:cNvPicPr/>
          <p:nvPr/>
        </p:nvPicPr>
        <p:blipFill>
          <a:blip r:embed="rId1"/>
          <a:stretch/>
        </p:blipFill>
        <p:spPr>
          <a:xfrm>
            <a:off x="65160" y="596880"/>
            <a:ext cx="8962920" cy="4508640"/>
          </a:xfrm>
          <a:prstGeom prst="rect">
            <a:avLst/>
          </a:prstGeom>
          <a:ln w="0">
            <a:noFill/>
          </a:ln>
        </p:spPr>
      </p:pic>
      <p:sp>
        <p:nvSpPr>
          <p:cNvPr id="3707" name="Стрелка влево 2"/>
          <p:cNvSpPr/>
          <p:nvPr/>
        </p:nvSpPr>
        <p:spPr>
          <a:xfrm>
            <a:off x="6350040" y="2781360"/>
            <a:ext cx="2189160" cy="990720"/>
          </a:xfrm>
          <a:prstGeom prst="leftArrow">
            <a:avLst>
              <a:gd name="adj1" fmla="val 50000"/>
              <a:gd name="adj2" fmla="val 49994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ВЫБОР УСЛУГИ СВЯЗАННОЙ С РЕГИСТРАЦИЕЙ МАЛОМЕРНЫХ СУДОВ</a:t>
            </a:r>
            <a:endParaRPr b="1" lang="en-US" sz="9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3708" name="Рисунок 8" descr=""/>
          <p:cNvPicPr/>
          <p:nvPr/>
        </p:nvPicPr>
        <p:blipFill>
          <a:blip r:embed="rId2"/>
          <a:stretch/>
        </p:blipFill>
        <p:spPr>
          <a:xfrm>
            <a:off x="79200" y="30240"/>
            <a:ext cx="527400" cy="52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9" name="Text Box 12"/>
          <p:cNvSpPr/>
          <p:nvPr/>
        </p:nvSpPr>
        <p:spPr>
          <a:xfrm>
            <a:off x="0" y="-7920"/>
            <a:ext cx="9144000" cy="604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9400" rIns="149400" tIns="25560" bIns="25560" anchor="t">
            <a:noAutofit/>
          </a:bodyPr>
          <a:p>
            <a:pPr algn="ctr"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endParaRPr b="1" lang="en-US" sz="10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 ЗАЯВИТЕЛЯ ДЛЯ ПОДАЧИ ЗАЯВЛЕНИЙ В ЭЛЕКТРОННОМ ВИДЕ</a:t>
            </a: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10" name="Text Box 91"/>
          <p:cNvSpPr/>
          <p:nvPr/>
        </p:nvSpPr>
        <p:spPr>
          <a:xfrm rot="10800000">
            <a:off x="1490400" y="3771720"/>
            <a:ext cx="212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240" rIns="129240" tIns="64440" bIns="6444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49400"/>
                <a:tab algn="l" pos="2098800"/>
                <a:tab algn="l" pos="3147840"/>
                <a:tab algn="l" pos="4197240"/>
                <a:tab algn="l" pos="5246640"/>
                <a:tab algn="l" pos="6296040"/>
                <a:tab algn="l" pos="7345440"/>
                <a:tab algn="l" pos="8394840"/>
                <a:tab algn="l" pos="9443880"/>
                <a:tab algn="l" pos="1049328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11" name="Text Box 91"/>
          <p:cNvSpPr/>
          <p:nvPr/>
        </p:nvSpPr>
        <p:spPr>
          <a:xfrm rot="10800000">
            <a:off x="1490400" y="906120"/>
            <a:ext cx="212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240" rIns="129240" tIns="64440" bIns="6444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49400"/>
                <a:tab algn="l" pos="2098800"/>
                <a:tab algn="l" pos="3147840"/>
                <a:tab algn="l" pos="4197240"/>
                <a:tab algn="l" pos="5246640"/>
                <a:tab algn="l" pos="6296040"/>
                <a:tab algn="l" pos="7345440"/>
                <a:tab algn="l" pos="8394840"/>
                <a:tab algn="l" pos="9443880"/>
                <a:tab algn="l" pos="1049328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3712" name="Рисунок 8" descr=""/>
          <p:cNvPicPr/>
          <p:nvPr/>
        </p:nvPicPr>
        <p:blipFill>
          <a:blip r:embed="rId1"/>
          <a:stretch/>
        </p:blipFill>
        <p:spPr>
          <a:xfrm>
            <a:off x="79200" y="30240"/>
            <a:ext cx="527400" cy="528480"/>
          </a:xfrm>
          <a:prstGeom prst="rect">
            <a:avLst/>
          </a:prstGeom>
          <a:ln w="0">
            <a:noFill/>
          </a:ln>
        </p:spPr>
      </p:pic>
      <p:pic>
        <p:nvPicPr>
          <p:cNvPr id="3713" name="Рисунок 1" descr=""/>
          <p:cNvPicPr/>
          <p:nvPr/>
        </p:nvPicPr>
        <p:blipFill>
          <a:blip r:embed="rId2"/>
          <a:stretch/>
        </p:blipFill>
        <p:spPr>
          <a:xfrm>
            <a:off x="187200" y="628560"/>
            <a:ext cx="8683920" cy="4515120"/>
          </a:xfrm>
          <a:prstGeom prst="rect">
            <a:avLst/>
          </a:prstGeom>
          <a:ln w="0">
            <a:noFill/>
          </a:ln>
        </p:spPr>
      </p:pic>
      <p:sp>
        <p:nvSpPr>
          <p:cNvPr id="3714" name="Стрелка вправо 1"/>
          <p:cNvSpPr/>
          <p:nvPr/>
        </p:nvSpPr>
        <p:spPr>
          <a:xfrm>
            <a:off x="4765680" y="2104920"/>
            <a:ext cx="1243080" cy="4572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5" name="Text Box 12"/>
          <p:cNvSpPr/>
          <p:nvPr/>
        </p:nvSpPr>
        <p:spPr>
          <a:xfrm>
            <a:off x="0" y="-7920"/>
            <a:ext cx="9144000" cy="696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9400" rIns="149400" tIns="25560" bIns="25560" anchor="t">
            <a:noAutofit/>
          </a:bodyPr>
          <a:p>
            <a:pPr algn="ctr"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endParaRPr b="1" lang="en-US" sz="10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 ЗАЯВИТЕЛЯ ДЛЯ ПОДАЧИ ЗАЯВЛЕНИЙ В ЭЛЕКТРОННОМ ВИДЕ </a:t>
            </a: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768320"/>
                <a:tab algn="l" pos="3537000"/>
                <a:tab algn="l" pos="5305320"/>
                <a:tab algn="l" pos="7074000"/>
                <a:tab algn="l" pos="8842320"/>
                <a:tab algn="l" pos="10611000"/>
              </a:tabLst>
            </a:pPr>
            <a:r>
              <a:rPr b="1" lang="ru-RU" sz="900" spc="-1" strike="noStrike">
                <a:solidFill>
                  <a:srgbClr val="ff0000"/>
                </a:solidFill>
                <a:latin typeface="Times New Roman"/>
                <a:ea typeface="Arial"/>
              </a:rPr>
              <a:t>Следуя размещенным там же пошаговым инструкциям, нужно выбрать необходимую вам государственную услугу. Затем отправить электронное заявление и необходимый перечень документов через портал государственных услуг. В дальнейшем Вы просто наблюдаете за ходом исполнения своего заявления</a:t>
            </a:r>
            <a:endParaRPr b="1" lang="en-US" sz="9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16" name="Text Box 91"/>
          <p:cNvSpPr/>
          <p:nvPr/>
        </p:nvSpPr>
        <p:spPr>
          <a:xfrm rot="10800000">
            <a:off x="1490400" y="3771720"/>
            <a:ext cx="212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240" rIns="129240" tIns="64440" bIns="6444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49400"/>
                <a:tab algn="l" pos="2098800"/>
                <a:tab algn="l" pos="3147840"/>
                <a:tab algn="l" pos="4197240"/>
                <a:tab algn="l" pos="5246640"/>
                <a:tab algn="l" pos="6296040"/>
                <a:tab algn="l" pos="7345440"/>
                <a:tab algn="l" pos="8394840"/>
                <a:tab algn="l" pos="9443880"/>
                <a:tab algn="l" pos="1049328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17" name="Text Box 91"/>
          <p:cNvSpPr/>
          <p:nvPr/>
        </p:nvSpPr>
        <p:spPr>
          <a:xfrm rot="10800000">
            <a:off x="1490400" y="906120"/>
            <a:ext cx="212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240" rIns="129240" tIns="64440" bIns="6444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49400"/>
                <a:tab algn="l" pos="2098800"/>
                <a:tab algn="l" pos="3147840"/>
                <a:tab algn="l" pos="4197240"/>
                <a:tab algn="l" pos="5246640"/>
                <a:tab algn="l" pos="6296040"/>
                <a:tab algn="l" pos="7345440"/>
                <a:tab algn="l" pos="8394840"/>
                <a:tab algn="l" pos="9443880"/>
                <a:tab algn="l" pos="10493280"/>
              </a:tabLst>
            </a:pPr>
            <a:endParaRPr b="1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3718" name="Рисунок 8" descr=""/>
          <p:cNvPicPr/>
          <p:nvPr/>
        </p:nvPicPr>
        <p:blipFill>
          <a:blip r:embed="rId1"/>
          <a:stretch/>
        </p:blipFill>
        <p:spPr>
          <a:xfrm>
            <a:off x="0" y="0"/>
            <a:ext cx="409680" cy="411120"/>
          </a:xfrm>
          <a:prstGeom prst="rect">
            <a:avLst/>
          </a:prstGeom>
          <a:ln w="0">
            <a:noFill/>
          </a:ln>
        </p:spPr>
      </p:pic>
      <p:pic>
        <p:nvPicPr>
          <p:cNvPr id="3719" name="Рисунок 2" descr=""/>
          <p:cNvPicPr/>
          <p:nvPr/>
        </p:nvPicPr>
        <p:blipFill>
          <a:blip r:embed="rId2"/>
          <a:stretch/>
        </p:blipFill>
        <p:spPr>
          <a:xfrm>
            <a:off x="0" y="696960"/>
            <a:ext cx="9007560" cy="4435560"/>
          </a:xfrm>
          <a:prstGeom prst="rect">
            <a:avLst/>
          </a:prstGeom>
          <a:ln w="0">
            <a:noFill/>
          </a:ln>
        </p:spPr>
      </p:pic>
      <p:sp>
        <p:nvSpPr>
          <p:cNvPr id="3720" name="Стрелка вправо 1"/>
          <p:cNvSpPr/>
          <p:nvPr/>
        </p:nvSpPr>
        <p:spPr>
          <a:xfrm>
            <a:off x="1757520" y="3238560"/>
            <a:ext cx="2981160" cy="74772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ПОСЛЕ ПРЕДСТАВЛЕНИЯ ВСЕХ УКАЗАННЫХ ДОКУМЕНТОВ ПОДАЕМ ЗАЯВЛЕНИЕ</a:t>
            </a:r>
            <a:endParaRPr b="1" lang="en-US" sz="9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1:41:39Z</dcterms:created>
  <dc:creator>16235</dc:creator>
  <dc:description/>
  <dc:language>en-US</dc:language>
  <cp:lastModifiedBy>Пк</cp:lastModifiedBy>
  <dcterms:modified xsi:type="dcterms:W3CDTF">2017-12-19T12:16:03Z</dcterms:modified>
  <cp:revision>5296</cp:revision>
  <dc:subject/>
  <dc:title>Слайд 1</dc:title>
</cp:coreProperties>
</file>