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</p:sldMasterIdLst>
  <p:notesMasterIdLst>
    <p:notesMasterId r:id="rId91"/>
  </p:notesMasterIdLst>
  <p:sldIdLst>
    <p:sldId id="256" r:id="rId92"/>
    <p:sldId id="257" r:id="rId93"/>
    <p:sldId id="258" r:id="rId94"/>
    <p:sldId id="259" r:id="rId95"/>
    <p:sldId id="260" r:id="rId96"/>
    <p:sldId id="261" r:id="rId97"/>
    <p:sldId id="262" r:id="rId98"/>
    <p:sldId id="263" r:id="rId99"/>
    <p:sldId id="264" r:id="rId100"/>
    <p:sldId id="265" r:id="rId101"/>
  </p:sldIdLst>
  <p:sldSz cx="9144000" cy="5145088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notesMaster" Target="notesMasters/notesMaster1.xml"/><Relationship Id="rId92" Type="http://schemas.openxmlformats.org/officeDocument/2006/relationships/slide" Target="slides/slide1.xml"/><Relationship Id="rId93" Type="http://schemas.openxmlformats.org/officeDocument/2006/relationships/slide" Target="slides/slide2.xml"/><Relationship Id="rId94" Type="http://schemas.openxmlformats.org/officeDocument/2006/relationships/slide" Target="slides/slide3.xml"/><Relationship Id="rId95" Type="http://schemas.openxmlformats.org/officeDocument/2006/relationships/slide" Target="slides/slide4.xml"/><Relationship Id="rId96" Type="http://schemas.openxmlformats.org/officeDocument/2006/relationships/slide" Target="slides/slide5.xml"/><Relationship Id="rId97" Type="http://schemas.openxmlformats.org/officeDocument/2006/relationships/slide" Target="slides/slide6.xml"/><Relationship Id="rId98" Type="http://schemas.openxmlformats.org/officeDocument/2006/relationships/slide" Target="slides/slide7.xml"/><Relationship Id="rId99" Type="http://schemas.openxmlformats.org/officeDocument/2006/relationships/slide" Target="slides/slide8.xml"/><Relationship Id="rId100" Type="http://schemas.openxmlformats.org/officeDocument/2006/relationships/slide" Target="slides/slide9.xml"/><Relationship Id="rId101" Type="http://schemas.openxmlformats.org/officeDocument/2006/relationships/slide" Target="slides/slide10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 type="dt" idx="265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 type="sldImg"/>
          </p:nvPr>
        </p:nvSpPr>
        <p:spPr>
          <a:xfrm>
            <a:off x="82440" y="744120"/>
            <a:ext cx="6616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 type="body"/>
          </p:nvPr>
        </p:nvSpPr>
        <p:spPr>
          <a:xfrm>
            <a:off x="677520" y="4714560"/>
            <a:ext cx="54277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5"/>
          <p:cNvSpPr>
            <a:spLocks noGrp="1"/>
          </p:cNvSpPr>
          <p:nvPr>
            <p:ph type="ftr" idx="266"/>
          </p:nvPr>
        </p:nvSpPr>
        <p:spPr>
          <a:xfrm>
            <a:off x="-36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6"/>
          <p:cNvSpPr>
            <a:spLocks noGrp="1"/>
          </p:cNvSpPr>
          <p:nvPr>
            <p:ph type="sldNum" idx="267"/>
          </p:nvPr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079B18-B001-4772-BC3C-13C614943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3E45-46AF-4F80-A00A-7E73CB2942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28" name="PlaceHolder 1"/>
          <p:cNvSpPr>
            <a:spLocks noGrp="1"/>
          </p:cNvSpPr>
          <p:nvPr>
            <p:ph type="sldImg"/>
          </p:nvPr>
        </p:nvSpPr>
        <p:spPr>
          <a:xfrm>
            <a:off x="84240" y="744480"/>
            <a:ext cx="6616440" cy="3722760"/>
          </a:xfrm>
          <a:prstGeom prst="rect">
            <a:avLst/>
          </a:prstGeom>
          <a:ln w="0">
            <a:noFill/>
          </a:ln>
        </p:spPr>
      </p:sp>
      <p:sp>
        <p:nvSpPr>
          <p:cNvPr id="3729" name="PlaceHolder 2"/>
          <p:cNvSpPr>
            <a:spLocks noGrp="1"/>
          </p:cNvSpPr>
          <p:nvPr>
            <p:ph type="body"/>
          </p:nvPr>
        </p:nvSpPr>
        <p:spPr>
          <a:xfrm>
            <a:off x="677520" y="4714560"/>
            <a:ext cx="542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7DDA814-01BA-4EBC-A084-831843506D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5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E0478B7-6AC5-4B0D-9367-D962E2384A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1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41B3E55-4E95-45FC-8B2F-C7D10AF348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4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C74ACF1-CC93-4CC4-89FA-1D77DF4BB6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7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3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67E2A05-F7D2-45A5-9D5E-8BC9C90581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0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5328C5-BA5C-4880-8CE2-C4B2706734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3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4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AD6D8B5-C1B6-42F9-9D81-F6F1BCF767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6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BEB637-31CD-4F5E-9EB1-82A67EA88B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9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C870E19-864E-4B3F-A2AF-FEECAB1CF0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D2B-A031-441D-9098-4B168D16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5DA-8E3D-4206-BD8C-9DC09C3E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F9B3B58-7283-42B2-9473-5C1210A0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C967C6C-A13D-4790-8278-A69F8BFD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131033C-0D80-4095-8930-053808EF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30A07EF-3A99-48CD-A02A-B6A560D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4BB5F2E-776D-4264-ACC4-B46C952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7DF4962-5743-43FE-9F38-33373599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F096DA9-720E-460F-9FCD-0C34E33A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5295000-A0DE-4032-8530-22D2913A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E54510F-9338-48E5-9CBF-320F1486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C01F3BC-F3B3-4B03-AA11-2632F533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4E65A6B-B1B3-4262-949F-A954D655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BE3C1E7-DA54-4CC8-8EFC-BAA39B75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E243CF3-1673-4C6F-B7E6-0D7B5FBB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5E58AC7-2ED5-4C1C-BC86-64BB7B5D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2060609-40D1-48E5-8F7B-EAFD5A87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517805D-674D-4A6B-8472-859B7407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C82C54C-913B-46EF-B604-300E37F3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2715F48-E8CF-44CE-8A94-C3F2781D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3EC55EB-21B1-4DAD-B0BD-45FFAE81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E2EC13C-33E3-42C0-8D0A-FE30F095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286DDAC-5C3A-4642-96F8-CE0FBC18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FE1DF67-1C54-4AB5-ABF6-9914FAF8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AFD3845-FE58-42E8-B724-D5D87B0B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C760968-E077-4D90-887F-0052E223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255AC4E-9CA8-46E3-A271-D471B41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8C25E8D-F9ED-488D-9D0E-7A0BF190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9E71B83-AE41-457C-965C-80F4EF9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9AAE915-E023-4FA7-8F35-562C4CB0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B749594-02D7-4927-BD76-306F7C5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CC92EF1-64ED-4B98-8D85-97FC703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702A146-E00E-4597-AB0D-47503B8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2A93F0E-4DD3-4BBC-8D1C-AB86ABA3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E014A61-80A1-4A68-B0C1-2450E62B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3554E3B-BC85-4A60-993F-05F3EA18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FAFE809-8A2D-4CBE-8559-5AF95989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02713BF-E390-4881-A4E3-75F9DA18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B0A5F1B-14C8-487A-BF47-836A5ED1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AD5D056-0008-47F3-9C4A-49DBD3D4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4DBCE87-8C54-4F1D-84E9-A3F1BFB6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AFB6F9F-A389-4885-92B3-EB18E02A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128F659-F87E-4693-ABED-0644C088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015F0DC-87D4-4C33-8AA8-3BB11333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5913AA2-4FE2-45E7-BB56-11A88AB6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787D316-FBDC-436C-8EA6-5FDBB3EB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9E1605C-59F7-437B-BF76-932B8106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7E19F5C-E95F-4FFA-821D-A0654E17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1BDFF0F-C328-49E6-B870-444C1A4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6CF1D71-988E-4123-984C-10C4DDC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506D3A1-7D05-4E88-97A3-EED8E3F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76E9509-5BC3-4685-8C50-BDE722CD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B7AE5DC-B9B5-4B64-8026-D1E6A83D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701CD29-F9CF-4417-97CE-48AF394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5EEEE28-878B-419E-B854-1C47A9CF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854647C-40DE-4D14-AADB-B96F67E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603D645-0275-4173-B9F0-3CDF689B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9C2221D-8B9D-4869-A05F-AF9963E8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21AA6D3-A031-4C6C-98DB-D0A6E2EB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1D6CB8B-333A-4FAB-BB5F-D8C7C830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7B64B2F-400F-47E3-ABCA-579DC2FB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B23BFFB-F010-47F5-AA6A-AF354FF8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F4F1630-2C9D-40BD-B559-91A79F20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7DC23B5-FF4A-4C81-8689-DDD67027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07D2C17-7833-435F-8DAD-DD5EC14D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156C327-E092-44CC-BD69-7E55182E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D8880C7-2988-4CE1-98CE-E577701A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77A58DD-E08B-48FD-A877-573EB036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578895D-6FF7-4496-BEAA-A88F522D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E26D41F-8BE9-429C-9535-6A9516DC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36AC9EC-F266-48C5-BBFE-9574BBD7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347B-46E6-4D3E-85F4-BC6AAC93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63B-08BB-4B37-B5D5-95D204E4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C7008-1BCE-4892-9C66-F7F9CCC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189B0-6B3D-4292-99A9-FCFEAC3E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01E62-7517-4A13-819F-EF1816C3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9B27D-64F5-4D4A-AFDA-2D87EC8B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C3005-F94A-440F-8BB0-3F8A8A5E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8AAD2-20D5-4B83-9F4D-2739E96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75762-AD33-417C-853C-8B90A9C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A3A11-588F-4173-B9D9-DB8FFE6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F6358-653B-407A-AC42-2F398977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22DED-A3D9-4672-8901-1292E887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058-8B44-4B10-A148-1A707134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5BD47-CE94-4A25-8D6F-19536708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D0B56-155F-4D31-A052-8066BD68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B766B-B1EF-4FE9-8534-F677A8E5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B5FDF-C5B8-4546-8D7C-D02A9BC9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EAFE3-173F-4525-B75B-939190B3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AB97D-7891-41D7-AB9D-78C428C3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4B42B-797F-4A20-8D56-150A4008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5655C-11B3-4C9F-8F3B-91F63A1E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5CCB1-A136-4728-A247-5164F91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E0B89-A56C-4DF8-9854-965BA61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A3DD-DE44-432E-AC66-D9871C29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85CF0-2F05-46F1-B090-41FA5D4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AAF9B-61BB-47BB-AB3C-F35191E5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43024-B68E-442A-8175-B2AC2026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3A3C0-BE83-4C92-A332-0E418C73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4DE41-8828-4CE9-A973-6646179D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4875D-95E9-48F1-8F31-28BFC550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06FC4-AB9A-4172-98DC-5C045BDE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88732-251A-400E-823E-B14B9DE8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16C3-DD63-4FD2-A2EB-6D8E229A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CDBEA-E6A7-4A54-B1E5-B0B71EB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9E1B-15AF-4AAD-82CC-0E6E0E51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2F468-1166-4B9B-B051-5474E04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A46D-0784-45BC-86E6-A30B438E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5D88D-3793-4398-B5D7-8DDDBF03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43F27-29B9-4E38-AF39-864B39E4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34B2F-3DD8-42C3-86E3-0D8E371E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99E1A-D8F4-4D1F-865D-3A5D6D69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8844C-216B-4F0E-B6A6-6718C7A9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DE748-592B-44B1-8AF6-D5DF388D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4C64C-2389-4C5A-8DC2-8C5808F4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9E9D8-3ABA-496F-9DDA-421D65E8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B566-1816-4157-A1E3-E004565A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29514-8648-4401-BD49-57233824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084BF-0B82-4DC8-93C3-EA3B20DC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6F8C3-EFB2-4C23-BF7F-52D62CA3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8D1EE-1760-40DE-9D3A-53EDC7B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EA3DA-F1DE-4751-A33A-C65D8FD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E2F2F-A3EA-4080-97F5-022DE6DD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F6D71-F0A8-41AC-AA6A-EB71F70B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E8B9D-011E-4AC3-8EE4-B930D375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3AA9B-29D4-4B8F-9DCF-1C675218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D0A76-2FB6-4831-8CF8-0654A072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8ED9-6865-438D-9291-1D4413AE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76C88-3F7D-458A-BB6A-6C47F09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A2F47-080E-4DB2-BE40-4E307C4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8D3B2-8D5F-47B1-9C5F-99D0A75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5F053-E6F1-43BA-9AAB-9090F1E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BBAB3-E384-477F-ABAD-2AD3FAE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FB062-42EF-4F9F-94F1-BA77D28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86918-6D6C-43B4-8B41-54BE65D0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312B7-6B9B-418D-BE8C-BF9D0255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EE855-D01A-4AC2-9524-A5346C5A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D74C9-A321-4AFD-84FF-9BD9CF7B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FB3A-3FE3-4A81-B75A-89DD4BB5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F3AE1-8A58-4763-A719-F854F9EB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D941E-46CC-449A-A1BE-1D9A4F51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3E940-5D68-4FB3-8DA0-AF97B3FB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63FD6-50DC-4B23-89A9-43A2EB4D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88D64-615A-4E83-8D4E-8F0A5683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AFC51-EE3F-41A5-97CF-EC57E408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976EC-659D-4310-B795-B3E16B90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EC7EB-6C7C-4E10-9DDA-71FF1EB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B2133-8D02-4386-A143-6A512B80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CAD2D-BA20-4976-B9CF-F7A41A86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1FB7-F31A-4970-8174-C1FC48B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B1FFB-D158-4C9F-BF8E-32114CBC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55C61-D809-43FA-8FEF-CA823722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6AF5F-6F0B-4688-8B94-1E4E9297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8A786-1891-4F69-A675-D8A7555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28FE3-2C01-4458-87D2-C4E3D038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98BCE-95AD-4A9D-89A9-129D1891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B0C69-5549-4AC1-A1B7-19CEC44D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09968-C94A-4341-BD66-765F47C6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EEBDD-4EF7-4ECC-A0D6-D3C8BC6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F5D1D-E079-4813-86EB-E05C3FC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DF21-C566-41DF-BED5-956CCD5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2415C-B545-46FA-B613-7B427843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BDAAB0-1B15-4D78-B148-5E24EE11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2CAF2-CFD2-4047-8CE5-8CB49E0A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67737-7654-4FFC-8855-1E9118B1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DFD13-B573-4814-A39A-73419D82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CB994-52AB-4EF9-ACE7-89FC5D1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8FE5C-0F1F-4EB3-930A-8813AE88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A0BD8-4932-425D-87E4-A3F7FA44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73E91-AC6E-4F7B-9E89-FB7C4C13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4FA56-1012-4EF8-B72B-3D42A1F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4E3-8237-42CB-9353-201845EA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2A93-E583-426D-9B6B-7E3877AD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E93C7-7CA2-4C76-BB70-DF363B95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546B1-0D70-4481-A4CC-E8FDA827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55FD1-C79B-418D-A7F2-8CE16118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49C67-C9DC-4089-916D-13F6D96B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BED7C-99A9-45B9-8474-CA85D12E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EBF75-1444-451B-AEC5-39292659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06667-23DF-47DF-A9D7-820B5786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A2AAD-6C82-4C15-B8AD-0BFC9CF7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5F8AA-1754-4EE2-A837-23E27E1C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F8E58-70A0-4107-B909-38CB2DB6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B11-790E-4C70-951A-3AB2B1B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7DC21-5CC7-4C2E-9559-2FB2BBDA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21B47-8056-4EF4-A6FE-29B43BE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54845-645D-42E5-8B87-3F9A8E1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AF536-9529-443F-A951-328A61DA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D9EED-A2A1-44F0-B0DC-136AECCA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FCBA1E-1731-424F-86B1-6B29B4AB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0C0D6-0318-4258-B8CA-49921B19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665C3-1607-42DA-A94E-80F5B9A4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40042-3CFB-4B1A-AD10-CB780232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66E6F-2049-4057-A765-26BC4BE5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587F-9D40-4913-A0EE-D35397B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448B2-DB85-4062-A330-BE0F93E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3E66F-D13A-484C-AA1E-5971C472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28450-F437-4CE2-88D7-A49D77D0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74ECA0-E950-42B9-97D0-962E422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1B7844-AF8A-4F99-BEF2-DFB0932B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6DA9E-662C-4B9D-9D82-DC97C1D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567DF-FF27-4F6E-BDD4-28CAD57F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13755-28C7-4AA9-80F3-5426F45D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E2F60-3DD1-498D-9935-DCC8FAFC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B0F6D-13D8-4787-9F3A-955A79E7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707-5821-4B9C-97BD-F23D0BC2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46F07-9B16-4906-906E-004D839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A2B93-7A42-49C7-9C36-64BF361D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2E662-628B-4424-86EE-9BE02611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0660F-DF44-4F4E-AC81-D2DCE6E7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EE613-BDDB-404C-8F89-96B2790D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67895-30F2-4A66-930F-FA0DF4C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833BD-67FD-40A3-9BDC-FFC877A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1432E-4C19-4964-A2D0-EAA076B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D6B71-9319-488D-BE35-BBC2AAE6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D9321E-A442-4E28-9A23-F6ADD6A8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EE52-67C8-4A2C-AA16-71635636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5B1E4-33AB-4BC4-93E7-544D1BFE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B3EB06-D0FC-46DB-BF59-81672729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751E25-646D-434F-A4EA-20A27D7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13123-3BDD-4543-8B1D-A5E07367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17E9A-F662-4D91-B154-6F7E893E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13E21D-2483-4B80-B33F-BC410479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8DA1D-7783-441D-9E83-A72292DB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CBA4FE-A461-44F3-9AA3-58C90A8E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87E11-A263-46FE-A0E5-D83B4DA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55A38-3848-4B5A-9D13-431DDDC6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CEB9-58EE-4548-9977-8FFF9CC6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F4FD8-4DB8-446B-83FE-EB3AD90E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4A99D-F78A-48D5-92E6-8094C879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91558-7B60-4206-A7EC-2BF7982B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B1CC7C-D77C-437B-BDF6-0ECF077E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EF372-3E95-491B-8034-DFE5913C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4D65C7-FE58-4A46-93C8-72EFF6B3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A84567-4607-4056-948E-BFADF2A3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83DC7-D0FC-42F6-B77F-444216BD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545D0-3FA4-426D-890E-7960F262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315598-C7FE-41A9-B394-92EFD30B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E3DD-36E6-4FF3-BA49-38C3DE8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978EB-F27A-4953-BA43-CC822569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4BB3E2-E4B7-4916-B90B-33731FF0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4B2AF2-A00E-48B7-9B3B-E5A6A901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D2317-ED9B-4CF2-9CC8-DBD24E21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E3C454-CB74-49CB-B57C-058A608B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CB3D04-1545-4DAF-A495-761FDB03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E6DCF9-B829-4792-914B-07C9A32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AE2D5B-8987-4B24-9126-94F962C3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F7480D-2BB3-4687-96D0-8C1C3E15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087357-E116-42A5-AE80-8A1B515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0CDE-88B3-4886-AFF4-E047E1A1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CEC476-29B2-4F63-96D3-E6DA926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E1EF54-E3A0-403B-94F6-8F9861A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696DF-3719-4CEA-B38A-F61F94E3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F0AAE-8685-4D46-AB65-E8E45B0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40FE1-5C0E-40DB-B6EB-08FE9342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6FA4B5-5175-4FA6-965F-7A8CCDA0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CB6EF3-DFAE-4331-B9EE-92C26681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44A2E5-EA5B-46A3-BCA3-B4731194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C6D13-159C-431B-967D-8AB85ED2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605984-A511-4AAE-9C4E-3F128EE5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F70D-7483-483A-B794-F586605D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D04274-69E2-41C1-BF3C-B50DD86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7B51AE-1E7C-4C03-8816-AE5FCCB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BF5663-7313-4301-AEDF-86D8FE6B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05433-430A-4A22-A1C7-51B53E8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D6B8FE-81D2-436E-9B53-0B1665E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C59411-D61D-482D-8C2C-A56DA39C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FA05B7-F795-4CC4-984C-2E5C8638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EA7B9-C3B7-4831-A40E-2A01DBC8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499643-2106-4224-8BAA-F2AAF1CE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4ACF7A-8957-4F4E-A576-726D106A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EA7E-7057-4C9B-988E-9042599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58E453-A452-40A5-A4DE-86905394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948E0A-446F-4C0A-B5D2-77C08C0F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6F541-422D-41C4-BBBF-BC2DA93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B8612E-8F32-406E-B7C2-BC1F40F4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409118-A7C1-4AE1-9413-4A063ED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F2F399-E483-4C20-B4A3-2841925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BC1FC5-BCC9-40D8-820A-7322BD4D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009EBD-372F-42B0-84C7-B6692AB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43B4FF-97EE-425D-B567-972D452C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944D52-62BC-444A-9610-0301EFC7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111-5A16-448A-A720-2E8F0D2C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6D77-1466-4D4D-9D1C-F4C32B4D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64636E-356C-4518-BAFA-2D5544F6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FF94CA-131A-433A-B687-71D71D86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B6EF76-0715-4B46-9707-C4622951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175A79-DDCB-4931-91C8-C6D93D25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F1873F-BAA2-462E-88B5-945B824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4F1B1C-73B4-4669-9AB7-012BA2A0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796633-6AFB-44E9-96E9-BE7510FE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4D7221-A1E3-4A0B-9922-A56E7A33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F1CB81-5B33-4E26-AFAC-0EEF108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A7C860-3A0C-449E-8E9F-A315B4A8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6B15-DDC7-44DD-9CBE-7B47775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921E7E-2A72-4EB3-9241-BDF823C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858ABB-BA2E-45C7-80F3-BB4F4DA0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C949E6-A0DD-4CF3-A6D2-AE2DA665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78A0C3-765C-4547-9454-D8B17BFE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826CA4-7309-42DE-A9BA-9B7D0E32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A2D32C-C274-4A10-A774-025C3182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B82A07-831F-46FE-8822-142A9DDD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EE7B3F-92C7-41AA-82E8-F66D4955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2A6068-379A-4881-8437-1BCBB8DC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740E1B-F556-46EE-8B00-024C973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5833F-3F89-4C99-AE56-7993269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FFE9FE-8E97-437A-BD4D-9D13530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FECA33-8CD1-49AE-BCD7-7240107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3029E0-502F-41F8-A312-065C012F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46913A-7C21-4741-BDE0-55A9DCBD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6003E8-CE6E-4E5B-99B2-034CD637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383E23-67E3-408C-83BD-799D7727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64EC62-7187-4131-B62D-892DB47F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714948-0287-4763-9C62-468F059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271CE9-3591-496B-92FB-02973318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9CE03A-1567-448C-A025-C67FCCB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3C62-630B-4614-91CB-19E67DC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640D9A-CF86-415D-8441-D003844A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EFD16C-0816-4863-A128-9F97F12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8BC25D-8689-4571-B28D-E76296D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C5FD9C-F526-44E4-84DA-B7838C89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7F0831-BEA6-4B26-B459-070C3A09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F13DDD-67B0-40FB-9CA3-AE679E67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73B7D4-0CAD-4577-A4E9-1D59C0B5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68C142-68A6-47A5-B807-2D174A10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D7126F-0BD7-4D9D-A0EC-804CCDC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CF0D0B-F010-423F-8B4E-988B58F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2895-95D8-4FAF-97E6-84AB95C2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F3B552-86E7-41F2-875A-4634D78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89A04E-4E7C-415B-B777-EB3AA32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60433A-A778-437A-9442-FC05FD42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1C588B-47C7-4D0D-BF83-547F5443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092A48-73B6-4DD2-98BA-238F4E8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254253-7253-473C-83AE-5B4F54E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239918-86BA-418B-9572-8E3932AE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F0207D-05EC-47AD-B1D0-276AC6C0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65959E-280B-4BC7-981F-CCE03552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08EF4E-5B32-4B48-B1AE-372323DD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BDB5-C45C-4680-9BC4-87B98C30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38F88C-E673-4924-A36E-CF51656B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B7CA07-E7D1-4900-A208-03C0084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085DBC-9BD0-472D-9560-1D7A2A3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4063B2-8EA9-4A58-BA92-795E831D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A5499C-031F-4A21-9CAE-BF3F622E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C20F39-C779-4DF8-B871-69F0FBE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E55813-C46B-4A3A-8FCD-B683129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384EBA-1790-48A0-9505-690514C1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4C51C3-62F4-4CAE-8E0D-22850F12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D2A5AB-4786-4A0E-ACC7-EB73AD48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6A17-6855-4811-BBB3-051E1154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1DB17C-48BD-484E-9531-D48B6B5D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1ACE17-89C6-4FF0-8BDB-21A00488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976E55-CF3F-4B8B-860A-20B009F7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737231-EDC1-4843-BE2D-2196AD05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7D899F-E610-4A85-ACB4-F7726E7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7C2D35-0769-4C81-994F-1C2527E4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A97397-E9A3-441C-B293-A8EAD757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D93C9E-1814-4C36-860C-0EB7604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726DAD-E723-4A14-AE45-AE98B6D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2568FA-B0AE-4229-9A61-1216E34C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FB62-4B40-49B3-B963-AF07F3CE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F83D2B-F919-4155-8D8F-A41B236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AD98B3-17A2-4E22-9695-8E6B2066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831465-23CB-42E2-813B-C4857FF0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7D8951-936E-4A4E-AB1C-C2CFF269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686CCA-387F-4CA4-A39B-C9C2EE71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1D24B4-E01C-4DEA-B664-54B7D18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9A1A8D-4C01-402F-9F90-02CF0E0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F1A2DE-7CB1-4A8E-9ABC-BE568FAA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BB27DD-BDE2-4B33-AB31-EBAC0CFE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0E84F2-FFC0-45B8-B510-C266679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1C38-BA82-4E54-882D-D979AD5D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0B58D3-ABBB-4876-936D-E33498F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DDFFC0-B32D-4332-BFC9-63F9B02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02BA42-BDC0-4482-8FB2-0F9F741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2ADE87-3AD5-4A9E-8DA8-3657D3DC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58A9F3-101D-4F9F-91A0-8CBC037A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F70126-29B7-4BD0-BC23-67039F47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28EB39-2B57-4308-97A8-0592BEB4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9378CB-16D0-4079-B3C3-F29316D8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54E281-BA87-4AC8-8EEF-8BA2184A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89BC14-2724-4F31-851C-17D3B9C5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33EA1-7D1B-4C57-8037-D502704D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6C4331-ED24-4DDE-BE68-966A8E22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50C31F-5248-452D-BCE6-120DE1D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C40E96-FC51-47B8-A02C-977899F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21F9C3-EC86-4367-B9CE-28D12E6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E14867-747D-4743-8A82-6E0E5BF1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856444-D0F9-4C8E-B65C-738B0FCF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5B3B57-1CE2-4DAF-A4B8-71CBF321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3C4462-5F6E-48F8-8855-5B604EAB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BB8CFC-CD57-4B32-896F-870AB949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6FCBE4-2A66-44ED-B516-52694C1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AB6-EFF3-4495-B53D-93077F81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33FA-5C7D-45E9-BBB6-A47D21CD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2AD822-3101-4E3C-AC65-4372AC5C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328060-1AD8-48E9-B9FD-0692D0FB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041281-4C32-4FE7-8AF7-A10E6EDD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96EA11-66A2-4652-981C-7E002EC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5EC8FB-8164-49FD-A69F-2A072CF6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B6395C-C00C-407A-87A3-1F57F9C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66C41D-3167-4689-887E-0ED06169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98543F-90F2-48ED-A1F6-EBB77B40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ED9B6E-0EEC-4FAB-AD75-383D6BED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6882FE-B0F5-4EEC-B461-21AFF3F5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89C8-E657-4709-B0CA-3FB69D79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21C563-3103-4E62-8B0B-A1F8824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33390B-86F2-4EED-919B-EDF5A957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BDD360-C9C3-400E-9BC7-7D71D7F9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55C8AB-4C25-4306-B118-08672DC4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F8896B-5464-4772-808E-A661784B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0330CB-99B1-495A-AA19-608145D7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CBD26D-A2EA-45CC-BE7C-612640A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11653A-4283-4175-AA5C-DC10427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EB4DCD-D7BA-426B-A6A1-AE10C7FA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48C38F-CCDF-4315-8B3E-A429882E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D9530-A15F-4B8D-A510-8AE55FCB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41B03E-7BB4-4F63-B91A-DE6A19DB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D2ED00-24F3-4CFC-8760-972CE6AE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B07DB3-079D-4511-813E-3C3E24A8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A38A2B-2A70-4E9B-BE34-27052E90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73E3A6-451D-4D04-92D5-CD033AC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F4304A-C394-4C3F-8FEF-B586A4E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BE8EE5-057C-4679-83CF-5CA98727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647089-D89E-4DB4-B277-2FB9247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5D2346-1E51-42EB-883A-C729D56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8FCC85-8796-4645-8FEC-39924653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7ECA-33BF-4271-B08F-D0BBD80D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AB704E-A6D6-47EE-B0B1-A1885108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75BED8-A020-455A-B76F-D7DA2DE3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B9FC02-EB10-4BA0-B82D-92F67447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280926-002D-4095-A5B7-21112B0C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E2D170-DA0F-41ED-A5FB-291F9F2D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E7EA2F-4C62-441D-9DBB-A50222EC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BBF78D-1286-417E-B469-5AB4A14A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D75154-5420-4E41-95F3-C1F2C841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062A04-B910-4E60-9067-001331BA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36A472-476E-4CF3-ACD5-48F698F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8F5E-3061-4283-9036-E3DDB541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1155FC-ABBE-4554-A4A3-A9CAC726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4512BC-91C8-4F66-8AE4-6D93BF3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26E815-DEFC-4B7E-A1F5-FB4C6D06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49600F-8CE4-4BBE-AC84-4E456576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A2AA9C-08D5-4403-9BE0-3DD76551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E1A690-1DCA-471E-8A95-EE62E509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D4E30E-ECBF-40D9-BD42-D0B5A2A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1A6782-8DEA-4787-87D3-2B2EF820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0078C9-9C6C-40EE-BAFD-C3789906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E65347-9000-4EEB-B6AB-B738F687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2375D-5D5B-4473-91AA-0468800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95ED29-1D58-44FF-A7E4-9B5DE8B5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587D5F-CE87-47FF-A396-A5266D6A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71E7C8-5315-4CD8-BFCE-9CD7228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DD4628-748E-493E-A7D8-3AB692D5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B460AA-491E-4BE4-8F36-837672E4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1F8298-CC27-4186-85BC-D5447044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141270-24FC-45EA-8C50-0BB5BC5B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3E2E290-2445-488A-A604-2CFF24EA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994AF9-B707-4A0F-BA2D-B534A10C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2E9A29-CB93-437C-808F-D2C9673D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FFA9-0564-492A-B0F3-5E2E6D6E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35020D-F1E3-4410-810B-9909230D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EE8750-F450-4B18-B937-19FAF9F9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25A4DB-5C23-4E00-B77F-4438273C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C76F4A-5808-477C-9AC9-D1EC040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D9066F-15EB-4140-82B1-77BC4CAA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6087BF-38DC-4530-8E41-71959C7F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5AE44D-4D81-4E28-AD0F-A5C4D5E6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91CD22-1C2D-4A48-96EB-8A38FA37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52FC03-B1EF-48C1-AD1D-C7E7526C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40C0862-B161-4054-868A-508B1BD4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E905-4346-4B3D-8F23-1EC6BC85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4AFCA8-9276-4AE4-AB63-70A6E51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6743C1-7C88-4233-9F8B-4FFA576B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FD97FF-854D-4D7C-9C6D-D242B11D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9640EE-5C3C-473D-9342-1B8B7812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DAA3D3-3BBA-4294-ADBD-D6746BC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1C1596-1B01-4F0D-B052-0D3E13A5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3C3B0F-4E29-4D34-AF6A-0D75A60E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EA6A50-5485-4BED-BB51-464216D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A6AD8F-994D-45C6-93CB-CD2020D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0B7545-A591-44CA-A9F8-CCE30040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B4FD-535F-4F40-AD7D-1BF67297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D6396B-B8FC-42B1-A738-9A20A5F0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48FDCE-8DFF-4EAB-A1EF-F73437BD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21FA8E-559A-48B6-B66A-A985DFF2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AEF5E4-ADD4-4A1F-B527-577A5F3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BFD136-5BEC-44E4-8DCA-57862497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625DE9-B9D7-41B3-BA13-F80201E8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3895A3-E21F-40E9-92C1-417E7E6D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41BE4D-35FE-4184-98A8-AC116D4B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A4AF21D-28A4-44F6-8DEF-77CFE88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979ADC-3C81-4C9D-AA3A-37F8212A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886A7-A760-40B4-AF07-2A274395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1D9B97-598D-4FBB-8E80-52F3CC25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DEE396-6181-479F-9F36-4F8C064E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A129E6-7ED5-41F0-B1D4-92944691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C56DA7-3132-432D-8AA2-D61E8022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B5EEE1-4DC8-436F-BAAD-CB47142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9122EB-B277-402C-8126-FE0A6BF3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D69FF6-433B-4843-86B1-4DD6EA74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B0B4AE-B109-4D65-B7F3-D841FBCE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18C7911-309F-446B-A8BD-C47CC62B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7E2874-1BF1-400A-A3B8-A716520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2A7-47E4-403F-9E45-D8184D96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A321E-B762-4314-AA2D-B4E8CA39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91ED85-621F-4104-82AA-51A8A86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384CD4-5424-49EE-81FD-4A2D77A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3C0EAE-ED45-46C1-98C2-467DE3EB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F40C2C-B27E-47AB-96CB-418B2DD8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B5AB0A-69F7-4118-A4CC-4279D70F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C1DC79-2673-4A81-BA64-EEAD9CC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C329BF-6AAE-4E68-88B7-A6E883AC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C5DA987-6B9C-4243-92C0-107E546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7F5B9A-2D0F-4C77-AC13-2A5C8B89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20C672-1F9D-4590-92F4-56C11DDD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7F67-1562-454B-879B-FC46838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0A9293-BFBE-4C90-B30E-CEC7BBB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53C7AB-6B10-4828-9C98-DF65425C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35B380-F0A5-4A31-93AA-B1FEEB23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17CDDD-0991-4AA0-B9C4-372EDCB7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F55077-E387-43C2-841A-5093C090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240D05-DFFB-488E-A0FE-B4B92CC1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D19ED7-BA34-4CEB-A749-54C1A119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3C8C1FC-CA0E-4E73-9438-1C5200FD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0E64BA-E94E-41E4-8717-472268A4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70CF69D-F51E-4D77-BC84-5675C60B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2B96-9581-409B-92E8-2D5CF364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F177AD-D4B0-471A-8DD4-2CBDC323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9C9C5B-D408-4905-ACB9-7351467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E84DAC-2493-435C-BBB7-F0126C5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F84FD5-D4DD-4BE1-8AA9-947187F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8B104E-2150-4741-A78C-20C7961B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70BFBA-7225-48C3-BCE8-563FF0F6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2F510D-9475-47DA-84BD-1E9312C5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C3F186-12CC-4DAB-B07B-BA858B38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795C43-CA5B-4962-B967-6BBFCB5D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94E560-23EB-4516-B52D-58356BB5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D689F-9540-431B-9716-5F4A9C25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73036C-ED58-49C9-BF1E-9F130040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7BDDB8-C2BD-4B10-AB74-870CD383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E17266-03CD-4856-AEA4-F65135B4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0A1D38-1FCF-4BBC-BD47-2E7A5307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2C5D1D-F9B2-40E3-B584-5843869A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D06DF0-8104-45A6-B458-9104807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8AFF74-0D1C-44DB-8FA5-522734C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C85F23-C4A9-4CE3-BB5A-6663B670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73EB52-B94F-430E-912E-1CF39537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72536E-C390-4CF0-96A6-CA0C8E2B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A559-FD6C-4A69-82AA-FBDA70B8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9B0D374-AC03-45F0-870A-54BC07B0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28D644C-9D05-442A-8065-BC2C8A8E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E5D4CED-E034-474D-BAC3-BA165013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8EAB81-1C42-41B4-AC7D-1BAE57D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BAAFD8-A80A-4854-830E-29811A17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D2AB7C-3F09-4A73-99EA-C8C14B67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1295AD-9059-4206-A7A0-7A4639A9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22BFA5D-7FD3-4CEA-86AA-133513B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FA59FC-0DB9-4FE0-8156-50B3CD3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121466-6247-4132-BAF9-17821D5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BCFF8-7741-4BBB-97AF-FCD03A4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FB5863-D9C0-4E7E-AD81-47FDA61B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F7FED2E-ED46-4AC4-A4A1-50DBEE91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8A4E13-0C1C-455B-9976-0354846A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B141B7-0DBF-4B29-8521-5BCCF793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9A6F8D-9910-45DC-9403-84531BD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DB43A9-B7EB-49B3-9DDB-67B6A5EB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9CCDD4-CD5A-4AA1-B62A-2BC36FF6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FB04B17-CAE5-4DDE-A01C-3B17B4CA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215118-B6CF-4D19-B1CA-10B8D3FB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49C2D7-64E8-45FC-BD56-D540BD9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120E-F841-44BC-B37F-8203CFE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160E7E-A8D2-4F9B-BB45-808C5A0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6F292E-5FDD-4BCE-9C20-12719690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4FAD79-CECF-4660-AFAD-B1DA6179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520EEE4-98A6-4B9C-B54C-3D1B8155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692099-E3A5-4160-8397-4C86522A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86CFC97-AE07-4D3F-A65C-71B5185E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6D01CF1-B6C0-4300-8279-AA9E9450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4EAA86B-BDAD-4001-92A7-84C4E71C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2E2ED99-D1FD-43CC-A317-43B7F59E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409575-9D54-43CF-BC82-C00CC1B9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B634D-F030-43FC-A492-2FC2699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EB8136-3D36-4E4A-A3EE-692256A7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74D1BE-8D6F-4BA3-AEF6-79D7E2AF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8D3F58-A899-4D25-9B18-65A2E473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2E69C3-3C6F-47D1-ADEC-343E2C9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C2CB7D-E661-4A31-A614-5F6E926E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6194FC-D990-406F-A38B-489C7848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3D159C6-BCE0-4DA3-A00D-FCA1C712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8CAF9F-7879-4B2A-B74B-FFED0438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622A3B-28B5-492D-A41B-BABCD842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47C48D5-0DC9-42A6-84EF-2DEF19D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D3C7-314C-41A1-96EA-3AF184DD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6F7B0F2-A96D-4A31-9A7A-AF7D1D97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D525CB-1C65-4ACB-8BF0-70F90606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634017D-9A86-43E3-92F3-2CA9460D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0A9AD8-BEAA-4A51-8674-DC05B5F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3C685A-831A-4E08-961C-6A5D52E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CB20AD-D5BF-49F0-9FB9-C392E96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69A6041-4D1E-4BB3-8CC2-D9133D11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1E88BC-5ED7-49F2-B51F-9ACE04B1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8AAE4E-F252-42B2-A3DB-45BA3128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F28C95-F42F-46EC-95C9-F18D932D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926D-949C-4356-84D6-DC66769B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FE29D85-3594-427F-A7FB-0F90D030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41409B-E4C1-442A-A103-0B5BEBD2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A878E2-ABFE-4CC9-A987-6E268650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93348B-E084-44FD-8016-DEE8AE18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497007-90B7-41BE-A552-BE58B108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DB4612-BDA9-4E73-AFC5-28CB6B5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25EA4B-4BE5-40AA-ACA5-CB7D221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2ED04E-959B-4C44-9102-8C8ADE93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812ADA9-8039-43E4-B31F-A88A42F2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5C92A5-4171-49FA-B011-C34F749A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DCD-5BFA-488D-9D21-9B19917F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D89FA-9875-41DB-B6BB-F069B005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8EDC7B8-881A-4FF3-BD1E-8EAD844C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64BE56-3C5C-4E7F-AEEA-BD059C2B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61E1EF-B5B3-4163-8FA3-ABB130A6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C84411-05A4-4574-9EA4-2E3C0028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7B1F956-59DC-4384-93FE-78B3BE69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31801A-8C0A-4EE2-B1DD-07B0393D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2DDC1C6-22AC-4E6D-B06D-B9E4E039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DBA4E4-7CD0-4211-B361-88031A9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871E814-E182-47A6-9CE8-3E221EA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AD2C24D-4050-4F35-8CFC-55E50272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64B5-FBEC-4F4C-B6D5-4D214039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027FEB-F304-4CFB-93FB-8D20D633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9DE007-1505-4381-BF70-BE23F937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1307427-C5C6-4D8F-BF78-1B486C2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03AB9A2-6E9F-4417-ABDF-BCD461CE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2DEFE1A-7F18-413C-8B1A-0A3D61D1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DC15267-C74C-446D-8A81-4F35E2E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191F267-D75E-4EF2-AB41-47358CB2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ACC4278-A309-431E-A61D-A1A987AD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1BE97ED-C481-4DE7-9E28-3F24A2B7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707C71E-F3F8-49E2-8F47-F5488847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3316C-0079-47E3-A4CB-959F642F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C86A6C4-021F-45D2-BC79-F99E469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FC7CFB4-DE56-4599-BACC-08CCD58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44ADB7-899B-49FF-8FFE-3D5D8EAD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EAE718A-4479-4EB4-B29D-AFF1A6F9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94485C7-292F-4358-A309-27A4E576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61EB6B-C47E-4041-85BF-791CEC68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DA19191-C706-4414-9D51-40F88F82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438A5ED-9FED-466C-B65B-21219B7A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634D391-EFCE-4469-A8A2-406E9CE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E4429C0-BACF-4271-9969-3AE1F2ED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8153C-BAFF-440A-B5BE-5849AF0A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46EE7E3-AACA-48A3-B0C5-17CED504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7A9681F-909B-49B9-911B-E0DDF44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784DD0-33DA-46F5-B99E-32F7D4FC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0A6278D-F3DD-422C-BBF4-7BD96DF8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AAD3919-8CC5-4D8C-9BA3-79E39EDC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EC5DCC-E062-4621-8752-F964BEA5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8A40CF4-0206-45E1-B5F0-7EB0C0E9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7A64D37-B6D8-4657-B9A8-4E707DF2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624379-80CE-4215-8162-C635DF4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87CD5DB-CDA7-495A-9BD5-7335AAE9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CED6A-BB8D-4FAB-80B1-E767D45C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5C4679B-F400-42CA-8540-88D58F95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4AD70BD-1CAA-422E-ACF0-6B942B5F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2A92A0-A604-4F06-9DAE-B46B3CD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C1DDA54-3B88-4389-AE30-89ACCB8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D9DBA1-2894-4360-9ED2-D3CB11F7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6FE031-9B7B-4AF0-A50C-96EB875B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DFDE86A-5FE9-477A-B56F-3E2A75AB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429BB18-5ACF-46F6-873F-258D2D80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D2D62BB-254B-461F-BA36-BFA79887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9C386E-0637-45FD-8AD4-9D9BC5F0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C868-7EA9-454D-B7EF-EE10DCDB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4197D6-F778-4AC0-8387-D2CE2163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A94E559-4411-46A5-AA33-BE9DBC8E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B1C043-6334-45BA-BFBB-4D5A33FD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5144CA8-8B30-49C4-9F7F-E922CE95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951F3A0-DA1D-43C1-B947-D136DB08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35E824-94F0-4BAD-86D8-5B31626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F8DEDA7-C9C1-438A-B16D-B8D72F0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C445BF-722D-4503-8A4A-B876CCE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26CD7A5-FBA6-41E1-88C3-B444B14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AC1D57-2E77-49A0-9FE6-B2B2BD43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6ED9-97C9-447C-81E8-06ABCAD0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6D3A0E-5DB8-4E4B-B64B-E0D7EB7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829A90-A331-42FF-8233-459246E6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EB4B47F-1216-4401-98CB-A11E9956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962B88-C779-4F99-95BB-2080CC77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56230C4-F865-4D72-8F91-04B253D0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BBC87D7-E006-40DB-9175-46F2649B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E4C5E7-E71C-4064-93AE-F41F151F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BDD3FE3-C5B5-4F63-9278-D6CDE14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95C5CA6-685C-4564-BA47-CD2FDDC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2C3252-5FCD-46F4-8E00-69D4815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68F5-C038-4F6B-8FEE-0DE57BB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B5E8189-BA03-4231-AEA0-A2F81832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066EACE-5BD7-42D8-8B68-10799C8B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1AF85A9-1871-4EE9-8316-C64A0B29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45CC83-B912-4CE6-919E-D9CE90D7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A035B1-E49F-4992-9F8D-31890DB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15E3AE0-252C-4359-A977-20F97D4A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46EC1CE-5F8E-470A-95DB-49D5477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C647095-FD64-4519-9670-D9CF67E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4CE99EC-12B7-484C-B068-CB88707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9E61B8-6AB4-40F5-A462-000F8110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FEEA-23FB-4203-BEA0-6161972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10F9943-8467-49DC-A357-F1BCC98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90DCE72-16FC-4447-8250-05414FD8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5C455C0-F9E6-4B07-807B-E4A9D613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E5BD77-A164-4A23-8FE8-1973FA0E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FD6373-F17C-4AF3-949B-90BFD0CD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8E84FE9-470C-4F40-98E7-B9965F1A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B33E5F6-ACF3-4AC7-A31F-0E0F140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B45E1D-9A7F-4949-B2D3-7E9906D1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FF3BB06-3103-4816-B20C-6887BDD0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7C919C5-6233-4BDF-9924-2A4722E9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66AAE-7EED-4868-AC44-234DF44C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C67F4EB-0485-4823-950B-DDD4BED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AE128D3-5A73-4411-B613-3AEA45A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4CAA0BA-1002-4F3F-BE6C-010BCA46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4B0B6DA-8DC2-4652-B5DD-F3C82C6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E3DAC56-EEB7-410D-B78A-BC52E05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73BCDD2-21EA-4196-81F3-405CE4C0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68B431F-768A-4154-9B06-10A6228B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BEAE270-BB24-47C3-A2C2-3CD75D4D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2697C5-15AE-46CE-AB20-A8082EA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180BA7C-539B-435B-8030-9691AB8D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3AD-6DBC-4456-92D7-C151127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7B375-54BD-4CA8-84EF-5066BD05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14E48D8-B8F2-48A7-8794-DC17C6FA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0CDA9D2-BA9A-43EC-8F57-E92D567B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42BD598-4578-4624-8205-FDD8F1BD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5107E56-503A-4BE9-9318-EFA7A4D7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3DC3553-8F26-42A3-B019-363E3AD1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0BDDFB8-8E3A-4FE5-9594-DF01927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CA50A3-A403-4A37-B2AE-98614B6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0CAA3C-00F3-41A6-B77C-A8BF5D15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9C1D565-1677-40C8-9D5A-E26CFCA1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EE1ED7F-A367-424D-BE7D-71374550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18F2-6122-4BAE-9C90-06F7B2B8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F68ACE9-E6DD-4E7D-ACFA-BE335E10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FF11512-8C3D-41CE-B2D2-1B2FAD22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3E42745-4C3A-4A45-8636-B921AC01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D08DC57-B70D-41F5-85F4-03748553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F080846-2977-4907-8762-36DF1BB2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08EAE95-C788-4189-B31C-923C989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D1E67F7-1DFA-4F59-A3BA-C9C49F1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856A094-D800-486E-A9FC-3E96A8E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8BBAC94-F7C3-4034-9233-D8AA32D7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08F5FCA-3200-4FCF-9625-2CE79CA1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CE9D-04B8-43EF-8DDB-789715DE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C737E9-5108-4747-8710-965B4B3F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6345E9-DD97-4DCE-BE8A-57BAA9E2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F5E35E5-EE1F-4B9A-A693-22F2A087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6994B1A-33B7-4F83-9E67-DEA64489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174F550-D280-4933-AA33-3D9D61CE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79EE847-454D-4A7C-8E51-9561051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F2A79F6-C702-4D6C-BFE4-2AE97CC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A12E9A3-5124-4928-92A3-C14E4CBB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F8A9F80-F198-4CC0-959F-A9112430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F8DCF93-9087-478A-8A3D-94EC0D8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8D6E9-1DF0-4D58-8231-0DC7B4C3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A0C7CDA-A99F-48F9-B9B1-2C4485D1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28FAE65-82FC-490D-9641-DB4E695E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A7DE2B1-4C4C-43E0-974C-55C71E30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C8F059C-FDB2-475A-9968-28039357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D84D22D-E214-46A8-82D9-F5F65A5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0513B2B-BDBE-40A0-90F1-7465834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8CF2E3D-C18E-420D-9ABB-B81905B9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2F415B1-3A48-40F3-8956-DA8BFF4A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46F82F2-6D7B-4AEB-81CB-EF26F56D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C56C43A-99E6-47D1-90C8-D4330718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7F98B-8205-466D-93E4-FEBCA00A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403CBDE-7132-499E-9EBA-7F997FE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A7F2A1F-2654-4923-9B6D-FF22485F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A0FFF0E-6DFD-426F-8F5D-738EB977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858CB0B-2BA6-40B0-90A1-36426CFF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8271B72-4BA2-4DFB-B59B-66AA04AB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2B5268F-8DBF-4B2D-A671-8A79D07E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29ABCD2-2D46-473C-963E-7A0D95E4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9882E8A-BB2A-4155-B77E-FDF46B8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73FFF16-45AF-4587-8401-3CBAB67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BDB2E6A-242B-48AF-A3AD-579D3A30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5C45-D1B1-42DF-BAEB-B56A2ACA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1A84C29-7108-4113-97CB-B673C3F9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E24A221-D31B-47BD-8665-31193C8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EC0CE6F-0DE1-4982-9C55-7532297F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77B0D0A-3B68-4A83-B0EF-DE432821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373B2C0-5F75-40CB-9208-FE61819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130AE6C-619E-42EA-8C58-B5DEAD35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214C855-EF36-4FED-8E39-02591329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BBCB956-6AAC-49D8-B43C-0C1AE89F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63C60E1-A691-4281-B467-8246BB70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68B795F-D18F-4987-9972-5B5C7EDD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DBBDB-106F-42FD-B166-A55BE6B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A7219B2-7DF7-419E-9FD6-9EE90B93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295D081-DE93-44AD-83C7-DE156E04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CDED68E-C60D-473C-BA76-CA041B41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EC9E274-FD65-4974-99BE-63E2351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4CB5577-B904-43B4-979F-EBF2BAB8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F9314A6-C215-4DB2-B591-A6DF1FC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1DE88F6-A8CD-4C79-A242-77583403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992BDA7-2F56-4E12-9910-09B40B64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1DEE00B-7090-439F-AB9B-E3BB8378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6CA287D-E931-4DB1-8D88-0353F6E9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91EB9-22E1-466E-B6A8-8B12F20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72B3679-6478-4EF1-9307-3FB03BB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152E2C6-70FC-49CF-B23E-CA6B0563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A615A59-A072-432E-B052-2791CB1F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B6D88AD-F724-4E63-A3BC-3DD50943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F3E2382-BEB0-4F14-91E0-C7DBD9A9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87B91C4-4F93-452C-B3B8-7654F76E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02644BB-D7A8-4EDC-B8A5-51709A92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2EFFCAF-1989-4C08-BA07-6534D97D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C6FC5FB-AACD-4200-9BDC-17B1C0D7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A86C089-03A2-4C20-AA8B-98226B8D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47458-4CA1-4C61-A050-055658BB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8ADA6F6-31FA-4513-91A3-F3D10F05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57B8633-601E-40B1-BD38-DD995ED1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752CCEE-1BE6-42A1-A1C6-92794E6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A68A14-A2EA-433F-B0D2-779992DF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0793336-41CA-48FA-9EF3-E3A54995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F0344BB-7368-4B49-8C1A-B5FD0CB8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C59AABC-6A41-41E5-ADC5-0A7B6C9C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EDA3DA8-12D9-423E-A302-52D8AE3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707061B-CF63-4E82-884F-72CF7ACF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430EAC4-0D43-49C9-AFAA-B4730A91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DA9E1-6F27-4EA9-A8CE-057EFEEC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B20713D-9426-4C14-A622-5A7DCB95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5D65938-33C1-42AF-BA68-65BAD838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401F877-A563-4EC3-8335-0F274E07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4230C9-8B38-4F22-BBCA-B0D0D697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63282D5-623F-47E7-8462-8C8AD087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7F06E3C-89C6-43AE-AECA-A2075208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AA5CF11-B694-476A-8758-34D905CC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B2D3B7C-ACD9-42CA-BF8D-C4B84CC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49E70AC-62A2-46A6-AD74-9E9BE894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3BDFCC5-AA28-4EDB-996D-28BEA11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CFC-33B0-4744-AE11-BBB87A80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2A38-BAF3-4400-9E1F-98A38BBD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C830406-E140-42B7-9530-64178B4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CC6FC88-8A88-444B-A1FD-E79D0097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2BFF648-3F35-4AEA-9220-68B805B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3165C69-C788-4B25-9887-744F34DF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48E2464-7F1A-4722-9C4B-92469A62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96B918C-55E8-41AB-BD7A-75B4B1A9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81DD50F-9106-4BBB-B89B-74255D95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538B636-CCC1-4473-AE3A-4A6BB3AB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F9943A9-003E-47CD-AEF1-E694179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C38E8D4-9956-41FB-8637-3ED77A75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42C2A-62D6-44F8-8153-3DCD181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5D25EB4-7AD7-4FF3-92C3-CB01EB6D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4985B56-4C32-4F88-ADD0-315036A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7127675-E378-4ED2-A382-596C745F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E58A7DA-C810-4896-A9B2-F1AD31D9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64A548A-B53A-4EBC-A853-D8092220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5CE5E19-2E22-4880-8317-12B816AE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96ED739-9B25-49C0-AC8C-EB323A4B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687EB5E-FB89-407D-92F8-1A223904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FE7A49B-C20C-40BA-9A93-288440B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B688417-5F84-4D45-851B-D02222D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39C13-218D-4C87-AD10-2E7D2F6F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5485518-0ECD-496D-8983-4A9977A4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9F1CB48-BE11-4B18-A439-858B49BD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99030D2-F06F-4ABF-BD63-8C1014D2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3151317-387E-4FED-AEC2-19E301C6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EDF53F4-B44C-463E-9CA6-E8A80123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F1650DC-4689-49D2-9D5D-FCC601F2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7FAA7F1-0312-4808-8A50-BE665CD1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1F7F5C4-BE74-4BDE-BA89-E408C867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01BA83A-6065-4F5A-A327-0BB72759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2B847CA-DC25-49BB-A8F9-384E8CE9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107F-098A-426F-BD4B-2B02AE1C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6C2045F-4B6F-4B79-A088-89DF8F49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BEDB6F4-27B7-4C18-8CEC-7C030781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B00F5E2-F219-4A03-8B9B-8B63AF95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B2BB2B-6670-435B-9EA1-E04B7A14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9CF6971-C90A-450E-B967-EA127707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6325412-DCB1-417F-9281-B76BF47B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70517E6-444F-4F32-953F-FDA2B94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29495CA-C360-4574-8A01-469767C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5B05F83-AA6D-498D-9715-7B23874B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F863E6E-3DA3-4C13-B374-A7523C78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63FE1-F116-4751-9ECC-D8DBE72D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9E6322F-E63C-4BB9-A8DB-8F227F33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C68D98C-794C-4648-B1EC-CE3AAA02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7457E70-386D-49DB-AC1A-417E129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02CAEE7-990F-4990-9CF8-528C6E35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120A6D5-18D9-484F-B67E-089C85E3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A0B6278-601E-4F84-B36D-53778688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FEEE7E1-29C2-437B-B4F0-2970F12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D9BFAE7-7016-4EAC-B24D-B5FAD444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5F6DC75-ABF7-40EF-8EBE-1F48C40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7747F01-BB67-47BC-AB2C-4388173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8ABC-5D00-4D84-905B-3D6BE5E0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E107DA6-056A-4E0E-89D7-8DC10CA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428316B-DE2F-4EF8-AFF8-B694A0FE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7C881D0-58A8-46B9-9990-69650834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B98592-234E-4997-9DE2-0B52E9FC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9B975C4-C828-4364-90B8-70497C5A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24BF69C-056A-4008-9D69-9C58CBE5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1EE2691-6CB0-4306-B149-6EDA1435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8D7AED1-51AB-43E9-B4F8-5E41858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21D1396-8C7F-4ACB-90ED-8D96A1E8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2ED80EF-7131-4C19-9D27-C4985DC0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AEC6-99F2-40FE-BA1F-69FCBEF9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7A6FAB5-AC97-4784-87EC-3450F7DE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CC99DF0-E16A-41F8-8DF2-9DCFA2EB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6065338-4B31-4292-AF79-4F8E5F77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3CCFE49-F743-4F76-A1C1-469411AE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457F69F-5A7E-4B9D-A893-44F6443B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53ED9EF-3783-4CC4-B0DE-98A3F31E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486F114-D8D9-45E9-9A60-BE6A95B9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37DF4FE-59AF-47F0-8BA6-088925B0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F04D33C-0F55-45AD-958D-A32FCA62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A8DE10D-CAD4-4B2F-8478-776F493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4E499-A9DA-4F25-A93D-AC129672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07114BB-7A50-4463-A994-B0EC16A6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2786969-F6A2-4667-BB4C-FD7CFFB2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8F4D08E-6967-4B35-9F00-3C030F6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4ADF9A5-C2FB-4418-8C7B-08E74D9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6F28AE9-D40F-4BA9-836D-62B82A9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C414758-0191-4EA5-A9B8-79D93932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B911A83-4775-48C8-96D4-0E6C933A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C80177C-EA16-4D58-94E2-67F003A2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DF95024-B1E5-4CA4-86A7-152997B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28EB4A7-1F2E-421C-BB86-3424F82B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FD846-B21D-4A6F-9B3E-7605333F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9821BDD-6AA7-44B5-898C-404A3A37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9C46802-1585-4AD1-A426-ED3FDF52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9D42C4C-001A-4CEB-8231-2E23636B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1C5EAAA-9CDC-4D2D-A291-1BD827B0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ACAF909-95F6-4F65-A5F2-F9DC2B5C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46BD54F-3400-4DB0-96A8-43479480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9BE0001-8AD0-4483-8C6A-AA3597D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CEA08DF-7172-4C46-B74C-D8FC3F87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86E2873-CCFA-4780-A27D-BD242963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5D90679-3025-4195-A169-BDC2AA93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C26D6-9F07-4C2C-8612-ACF1B661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6D2F10F-5CA1-4608-ADD8-8966F1F8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695E139-F70F-46DD-BE52-D0F86E35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E52FE56-011B-4A8E-944F-2A2F0470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9E39779-0EAE-49C0-8670-0FB96AD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17E0132-DAAB-43B9-A6BB-0207827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E412589-A8B1-44C1-B895-E8F28F37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593AAA3-50FB-4348-8010-8062E8A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441EA31-B33F-47C4-83C8-89A1ECB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3998AE7-4142-4781-B21A-870C85E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38AB4AD-8583-49A9-AC08-9D45BA4D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46C-4335-4B4D-9889-3B54367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A4950-39A6-4BDF-B82A-A14D492F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ACB4317-067A-41ED-97CC-D7944A04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EAE9C14-13EA-4FFB-8654-1D55DE4E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09DEC41-190D-4801-BD5A-97B1E5A6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44C971E-1D00-4AA4-9C93-DAD52070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2EFF313-989A-4BF0-9A0B-CE2EC004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0ED0032-F84A-4D82-B3C7-F6CE9605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EE69B49-66E9-41BE-8FC4-F8F83220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555B0A2-E803-4E4D-AEA8-8E67706D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73A0D7E-EB5D-400F-A0E9-648E23E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5C8076A-F956-4F1A-B5C9-9FA4B9F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BF73D-96E1-4E3F-97B9-DDD8228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13A9E2C-A110-4F77-BAB0-036C317C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F191BFA-9709-4CA5-B9CB-852FFD32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E3433F6-8603-4761-95F6-943B360E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EA596F3-1815-4284-8AB4-C7866B4D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629A609-FD22-4737-8A09-C61972D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30467BC-456C-46F5-BFC8-F6F972D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067F70E-5F20-44EE-8E96-79D012E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BB4DEE4-F7B5-456B-B991-271C66D3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B22E75E-E70D-4223-A850-7F256013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7A86940-4CFD-4B8F-9F97-217360F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F8B68-9501-466D-9986-EDA97FF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09D3FAA-9047-4B5C-AF75-43FADD1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8793333-F9AA-477E-9328-CDAF060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D3F785B-743B-46E2-8A1D-C1A0E846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BDBA2A0-18DB-468D-8003-A55F145A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8BBA27F-B512-4F03-996D-1041E67B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6ADE1C-30F3-4CFF-9B75-67D09735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3B7673B-655D-429F-80A2-2128C854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2115BCC-82A4-4360-B57F-5171380F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1B25179-918E-441A-A0B8-6A64F3F7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C7FA100-C4AC-417C-A28A-A975EFA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EA2A5-F956-44A7-B5E7-9087619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04BC7BD-B7AE-4CA7-AFF6-A00079C3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F7C17B0-C8E9-4359-9A01-4A6D94A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B521663-8FA3-47DB-8F1A-DE1F1967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EFC9128-015B-4957-BB14-1962ABD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318DF0D-1244-43EB-82F2-56329976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D712117-9708-451C-97E2-0F23B2C0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E0173D7-B3AA-4421-ADB8-EA406099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E8ED4E8-E7C0-4D30-BE14-C6EB0DBB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716EAAF-A9B6-41AD-BE6F-1D280B9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B945B5-BBDB-48B7-802C-ED5ED5E0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2371-94B2-4E9E-BBC4-0078B89A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E3279F3-6B99-46D5-9173-E6DC4516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26B80B3-4156-4704-971D-BF13C3EA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B50843A-55F5-4521-8431-774D995B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BCA9247-D40F-4914-9E85-A59B9E81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1F6B1F4-D231-41D2-BF1B-39B5258F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BE5091A-A8F5-475D-808F-C087409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6FF9CD4-B87B-4606-A29D-98AA2617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D2F3F44-75B6-4949-89E2-0DC24F98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E519A69-F115-469B-96D1-B3DE7EED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F0DFB28-643F-498A-8BBD-743A5948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D31B-9E66-4380-AE18-5FE70A48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4E3C5E3-E6E2-4E73-A296-69ACB3B8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A2330EB-610B-4A3D-B8CB-E22A12A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21949EC-4686-45BF-BA78-D05F9E9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877AF03-538F-47B0-A5ED-178F9D88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DFCF4B5-1CFA-4E56-9650-5C6C9E5A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6FAF2AA-DB41-418E-9DBC-80D1A55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07D413E-17C5-4E5A-B039-3E26C1F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C15980A-36D0-4C63-8F75-DC90C853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5907338-A61F-4D02-BEDB-28F7AB7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A082E32-BE1A-482C-8C1B-D5953BC8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1282A-2172-4B2E-BA6F-EE5404C6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87536C8-73CE-4CA8-BAE9-FA85AB5C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A563E38-B56E-4D41-811C-1F7B0754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33C32A4-0465-42AF-9510-AC81B4A3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88624D0-3F8C-4678-B534-B5EE7D9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9C237CA-442C-4283-930C-DAEC268C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474240C-B90F-4FD3-9598-357E8475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8EFFAF8-3B2F-4165-95E8-400EF489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396C5AA-23FD-4130-8AEA-9DB14DF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B17553A-2B47-494F-86EB-295B4871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372E57D-99BD-430B-AF1B-D17FA9C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98121C6-2030-41CA-B140-480CFF06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FDCC5DA-2EB5-435F-ACC0-FD710458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1418003-0853-41ED-9D9A-8376799D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28834FC-3346-4575-8F0F-23FB6ED9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4CC07DF-EC07-4F6D-A789-88E2A24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A6DB109-21E3-4C41-B18D-7A5FADFD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ED9FC6F-05A5-411C-94DD-A36EC66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3FC132A-26EB-4B81-B271-61E661D7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763323A-6127-4DB1-9E4E-91CC35A1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B8C18A4-2A28-436F-B3C3-1A85C223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975BEB2-C7B4-42B3-A2C0-EF07F595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30882EC-7AB8-42BE-B8AC-53A59CCA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3DD61B0-1BAC-4F4E-9C76-CE4D0A4B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EB90265-93DC-4995-A30D-98E35E7C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A056E21-A84D-4BF2-B8E8-E65C84E2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C79D719-732C-47A0-8992-15F6CA88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4B1CDF2-1229-4097-B618-DDF420A5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EDC24C5-84AC-468F-B2F6-387FF61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1E22FD0-6B03-4253-8D4C-7FAB603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92A47AD-E4BB-475D-97A3-B461D3EB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CEB947F-DB97-4976-8F0C-4B1AF492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D0D240B-6FC2-42EC-8185-AB5BD177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5C0861D-A814-4DB6-ACC1-5B1A66D8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47F332E-A2A6-48B2-BAE6-A4D5C9B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D8BED13-D59D-4129-B62C-C27425C6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5BAA9D2-BBD9-4FAA-8575-3F29888B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A97ECD7-FF7C-4927-B09E-2B0DCC30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13D7A93-043F-4B6B-A5F0-D14ED853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F4B749F-FB25-4E84-B4BD-E7D3C9A9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C182D11-ECD2-4323-B51B-5706A55C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F00D-FAF5-41D0-B7F4-90300FADD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F6C7-519C-4956-87AF-F675A3FEDF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132-AD08-45C4-97BC-7CF974918D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239B-DF99-4D5D-9AC1-B75D02FA71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C57-FE74-4158-BD29-785AFBCE13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734D-B46C-4615-8EE8-4CC6F0B1AA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9D76-763E-451E-BAA4-CBE158CCD7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314E-F65A-4D09-AD23-3197D3BE56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CC6-168E-442C-A7B1-38CD91D14B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40F4-16C2-4ACE-AB38-291CB55C90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EFF2-73FF-4CF3-8005-147E0B3877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C90-D644-42EA-935E-C4471BBA0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9C0E-CAC9-40B3-BEA0-4744C54AD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5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5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D715-92F1-4318-9AEC-15FA686DC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FD87-336A-479F-810F-6D9BBF4F2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612F-6593-4D78-BF2F-2D08535ED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6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6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6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02DE-85D5-44EA-9247-FB7E2AD50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41C1-776A-4F8F-8671-B39FF6B16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6AFF-D6D3-428D-99DE-F2AA6B209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7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7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B0CF-E04D-4651-94E3-32189D455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15EE-BEB1-4758-8A44-53BD048E8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8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8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8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4973-16F3-41F3-91F5-B3FAADB03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20CE-B54E-453F-AF39-D01E4A96CAB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320" rIns="5832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8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8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8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8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2B72-6997-4F19-ADAD-89DFACF3559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8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9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54AC-55FC-4BEE-88F3-4C1E9B29FA2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9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9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9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A0E6-DD8C-42C9-BC51-5A507B7D356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 type="dt" idx="9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 type="ftr" idx="9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 type="sldNum" idx="9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A7AC-DFDC-4121-B161-92B14F43069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9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9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82E7-E5E0-4A49-83E6-68826009E22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10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10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10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BAB8-300A-44D5-A956-CE1786F4F61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10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10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10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B727-78E3-4296-A78F-2E06D0C9357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10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10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10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3FE-2B5D-42CC-BB7E-0C804FFB2A3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10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11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FFE0-345D-40A2-B23E-2807851F55F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 type="dt" idx="11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 type="ftr" idx="11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 type="sldNum" idx="11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027A-D038-466F-A771-2C99BA496D2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3FA-A695-4E9A-8FBF-3B2FB0EDF3F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320" rIns="5832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1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 type="dt" idx="11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 type="ftr" idx="11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 type="sldNum" idx="11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B1CF-C94B-46D7-9860-9FC381250F2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11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11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12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B3CD-9C44-4517-8AAC-BEE97DC6377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12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12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12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2004-27DB-4FA0-A8BD-61702B7BABC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12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12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12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D1D2-7FCA-45BC-B358-DC04F6131A8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 type="dt" idx="12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 type="ftr" idx="12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 type="sldNum" idx="12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83F-26BC-42FD-AFDA-625194EDFA7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13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13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13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7D3-2A02-453C-B61A-AD3E4AB86F7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 type="dt" idx="13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 type="ftr" idx="13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 type="sldNum" idx="13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6C4C-1B07-4EA8-BACF-0234FB2C67F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dt" idx="13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ftr" idx="13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 type="sldNum" idx="13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B9E7-AFA3-4AB8-A155-5EFEA264CBF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 type="dt" idx="13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 type="ftr" idx="14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 type="sldNum" idx="14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396E-658F-4FBE-8480-E878C838966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 type="dt" idx="14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 type="ftr" idx="14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 type="sldNum" idx="14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E05F-2F75-4C1A-A63F-0AD7518F46E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FF98-F6CD-4E0D-8131-5D332F59CF6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4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 type="dt" idx="14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 type="ftr" idx="14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 type="sldNum" idx="14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C084-300C-4B06-82E9-B3A2A1EA9E8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 type="dt" idx="14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 type="ftr" idx="14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 type="sldNum" idx="15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6ADF-F57E-406D-9ABA-EBEF7809016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 type="dt" idx="15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 type="ftr" idx="15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 type="sldNum" idx="15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283E-FD9E-4A1A-86C7-73456C4245A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 type="dt" idx="15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 type="ftr" idx="15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 type="sldNum" idx="15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85A4-EA8F-4D55-B7AC-440D1659FD2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 type="dt" idx="15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 type="ftr" idx="15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 type="sldNum" idx="15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EB54-CE9B-49BC-9A5E-8D422ECB057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 type="dt" idx="16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 type="ftr" idx="16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 type="sldNum" idx="16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59A7-C284-47ED-B775-1D2C4918CAF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 type="dt" idx="16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 type="ftr" idx="16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 type="sldNum" idx="16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5DB-2903-47BF-A156-B0FBE62DE0C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 type="dt" idx="16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 type="ftr" idx="16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 type="sldNum" idx="16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93FD-D335-4FA5-AEA2-90B1A5D3F74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6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7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7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B423-F141-4F48-A92D-B59910F3B22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 type="dt" idx="17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 type="ftr" idx="17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 type="sldNum" idx="17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50E9-3969-4975-9027-90CEECA5EB5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FDD3-0672-477A-ADD7-C8B1C7344E0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7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 type="dt" idx="17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 type="ftr" idx="17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 type="sldNum" idx="17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8C0B-0328-468F-B67F-E8021B29986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 type="dt" idx="17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 type="ftr" idx="17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 type="sldNum" idx="18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B285-D518-4396-B8FC-7E054334C88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 type="dt" idx="18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 type="ftr" idx="18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 type="sldNum" idx="18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F538-DA58-47B8-A424-0805317FD79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 type="dt" idx="18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 type="ftr" idx="18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 type="sldNum" idx="18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DE4A-3E5A-4C9B-BDFE-9CD9CEF6901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dt" idx="18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 type="ftr" idx="18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99" name="PlaceHolder 5"/>
          <p:cNvSpPr>
            <a:spLocks noGrp="1"/>
          </p:cNvSpPr>
          <p:nvPr>
            <p:ph type="sldNum" idx="18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ABB2-043E-4C88-9057-922359107A3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 type="dt" idx="19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 type="ftr" idx="19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 type="sldNum" idx="19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7969-288C-43E2-8EF1-69E73CA203F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 type="dt" idx="19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 type="ftr" idx="19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 type="sldNum" idx="19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A7FD-A521-40E0-8EBA-E3683C6E780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 type="dt" idx="19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 type="ftr" idx="19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 type="sldNum" idx="19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174C-9BAB-4559-89E5-114C220561E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 type="dt" idx="19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 type="ftr" idx="20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 type="sldNum" idx="20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2546-2027-421A-AC4A-948C0CC239B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 type="dt" idx="20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 type="ftr" idx="20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 type="sldNum" idx="20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E944-5CC0-43E6-BC3B-09D4BA480A0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0BED-E79F-4A33-9C69-8A4400ED04B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0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 type="dt" idx="20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 type="ftr" idx="20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 type="sldNum" idx="20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2BD-0D8D-4B80-843E-96A78F9EC4F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 type="dt" idx="20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 type="ftr" idx="20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 type="sldNum" idx="21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FD4D-F2EF-44E1-8871-D2BC3E45777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 type="dt" idx="21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 type="ftr" idx="21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 type="sldNum" idx="21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D5DF-B626-423C-93EF-F255667CE8E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 type="dt" idx="21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 type="ftr" idx="21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 type="sldNum" idx="21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4BD9-8C75-4863-939A-5C11916725C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 type="dt" idx="21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 type="ftr" idx="21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09" name="PlaceHolder 5"/>
          <p:cNvSpPr>
            <a:spLocks noGrp="1"/>
          </p:cNvSpPr>
          <p:nvPr>
            <p:ph type="sldNum" idx="21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0C6D-4AEC-427C-A9AB-548CD4CC685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 type="dt" idx="22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 type="ftr" idx="22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 type="sldNum" idx="22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0E88-FA4A-4758-A339-7AF01ADA2D2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 type="dt" idx="22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 type="ftr" idx="22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91" name="PlaceHolder 5"/>
          <p:cNvSpPr>
            <a:spLocks noGrp="1"/>
          </p:cNvSpPr>
          <p:nvPr>
            <p:ph type="sldNum" idx="22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D1F-C1F4-4BEB-9E34-4C0EBD0BF54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 type="dt" idx="22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 type="ftr" idx="22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32" name="PlaceHolder 5"/>
          <p:cNvSpPr>
            <a:spLocks noGrp="1"/>
          </p:cNvSpPr>
          <p:nvPr>
            <p:ph type="sldNum" idx="22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CA71-0CA3-40F6-958B-248D40732BE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 type="dt" idx="22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 type="ftr" idx="23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73" name="PlaceHolder 5"/>
          <p:cNvSpPr>
            <a:spLocks noGrp="1"/>
          </p:cNvSpPr>
          <p:nvPr>
            <p:ph type="sldNum" idx="23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B845-8E50-41A2-9948-36906DDE2B3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 type="dt" idx="23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 type="ftr" idx="23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14" name="PlaceHolder 5"/>
          <p:cNvSpPr>
            <a:spLocks noGrp="1"/>
          </p:cNvSpPr>
          <p:nvPr>
            <p:ph type="sldNum" idx="23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F5E3-D3B6-4B1F-B867-17517B5602B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0000"/>
          </a:bodyPr>
          <a:p>
            <a:pPr marL="264240" indent="-2642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1852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07200" indent="-172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275840" indent="-1728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642680" indent="-1724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642680" indent="-1724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642680" indent="-1724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B13A-1BE5-4FA1-8D90-C96BB011D37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 type="dt" idx="23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 type="ftr" idx="23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 type="sldNum" idx="23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8D2-BBA1-459C-A837-E17374E3D93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 type="dt" idx="23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95" name="PlaceHolder 4"/>
          <p:cNvSpPr>
            <a:spLocks noGrp="1"/>
          </p:cNvSpPr>
          <p:nvPr>
            <p:ph type="ftr" idx="23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96" name="PlaceHolder 5"/>
          <p:cNvSpPr>
            <a:spLocks noGrp="1"/>
          </p:cNvSpPr>
          <p:nvPr>
            <p:ph type="sldNum" idx="24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92A1-E518-4857-AC8B-49BDC1819AA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 type="dt" idx="24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 type="ftr" idx="24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7" name="PlaceHolder 5"/>
          <p:cNvSpPr>
            <a:spLocks noGrp="1"/>
          </p:cNvSpPr>
          <p:nvPr>
            <p:ph type="sldNum" idx="24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7536-B7F0-4CD3-82F4-A5AEA90203B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 type="dt" idx="24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 type="ftr" idx="24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 type="sldNum" idx="24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1963-CB20-475C-84BB-AD80CB629D6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PlaceHolder 3"/>
          <p:cNvSpPr>
            <a:spLocks noGrp="1"/>
          </p:cNvSpPr>
          <p:nvPr>
            <p:ph type="dt" idx="24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18" name="PlaceHolder 4"/>
          <p:cNvSpPr>
            <a:spLocks noGrp="1"/>
          </p:cNvSpPr>
          <p:nvPr>
            <p:ph type="ftr" idx="24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19" name="PlaceHolder 5"/>
          <p:cNvSpPr>
            <a:spLocks noGrp="1"/>
          </p:cNvSpPr>
          <p:nvPr>
            <p:ph type="sldNum" idx="24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B44F-0277-454A-8F7D-7BC63362EA3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 type="dt" idx="25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 type="ftr" idx="25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0" name="PlaceHolder 5"/>
          <p:cNvSpPr>
            <a:spLocks noGrp="1"/>
          </p:cNvSpPr>
          <p:nvPr>
            <p:ph type="sldNum" idx="25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B195-2ED4-4512-AE8E-0C9DBE7B156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 type="dt" idx="25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 type="ftr" idx="25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01" name="PlaceHolder 5"/>
          <p:cNvSpPr>
            <a:spLocks noGrp="1"/>
          </p:cNvSpPr>
          <p:nvPr>
            <p:ph type="sldNum" idx="25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160F-26B7-41EA-90F2-B92420E7E74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3"/>
          <p:cNvSpPr>
            <a:spLocks noGrp="1"/>
          </p:cNvSpPr>
          <p:nvPr>
            <p:ph type="dt" idx="25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41" name="PlaceHolder 4"/>
          <p:cNvSpPr>
            <a:spLocks noGrp="1"/>
          </p:cNvSpPr>
          <p:nvPr>
            <p:ph type="ftr" idx="25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42" name="PlaceHolder 5"/>
          <p:cNvSpPr>
            <a:spLocks noGrp="1"/>
          </p:cNvSpPr>
          <p:nvPr>
            <p:ph type="sldNum" idx="25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3F56-043B-442F-87B6-134EF4DD41A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 type="dt" idx="25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82" name="PlaceHolder 4"/>
          <p:cNvSpPr>
            <a:spLocks noGrp="1"/>
          </p:cNvSpPr>
          <p:nvPr>
            <p:ph type="ftr" idx="26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83" name="PlaceHolder 5"/>
          <p:cNvSpPr>
            <a:spLocks noGrp="1"/>
          </p:cNvSpPr>
          <p:nvPr>
            <p:ph type="sldNum" idx="26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993D-E25A-4D23-BE3B-5FA3FF9BF47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 type="dt" idx="26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 type="ftr" idx="26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 type="sldNum" idx="26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AFB-5208-41C5-9BE8-BF64B3B6962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2268360" y="141120"/>
            <a:ext cx="4749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ГЛАВНОЕ УПРАВЛЕНИЕ МЧС РОССИИ ПО АМУРСКОЙ ОБЛАСТИ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239760" y="17640"/>
            <a:ext cx="814320" cy="69984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5"/>
          <p:cNvGrpSpPr/>
          <p:nvPr/>
        </p:nvGrpSpPr>
        <p:grpSpPr>
          <a:xfrm>
            <a:off x="0" y="736560"/>
            <a:ext cx="9144000" cy="50760"/>
            <a:chOff x="0" y="736560"/>
            <a:chExt cx="9144000" cy="50760"/>
          </a:xfrm>
        </p:grpSpPr>
        <p:sp>
          <p:nvSpPr>
            <p:cNvPr id="341" name="Line 10"/>
            <p:cNvSpPr/>
            <p:nvPr/>
          </p:nvSpPr>
          <p:spPr>
            <a:xfrm>
              <a:off x="0" y="736560"/>
              <a:ext cx="914400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2" name="Line 11"/>
            <p:cNvSpPr/>
            <p:nvPr/>
          </p:nvSpPr>
          <p:spPr>
            <a:xfrm>
              <a:off x="0" y="787320"/>
              <a:ext cx="914400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3" name="Line 12"/>
            <p:cNvSpPr/>
            <p:nvPr/>
          </p:nvSpPr>
          <p:spPr>
            <a:xfrm>
              <a:off x="0" y="762480"/>
              <a:ext cx="9144000" cy="0"/>
            </a:xfrm>
            <a:prstGeom prst="line">
              <a:avLst/>
            </a:prstGeom>
            <a:ln w="41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pic>
        <p:nvPicPr>
          <p:cNvPr id="344" name="Picture 10" descr="Заставка"/>
          <p:cNvPicPr/>
          <p:nvPr/>
        </p:nvPicPr>
        <p:blipFill>
          <a:blip r:embed="rId3"/>
          <a:stretch/>
        </p:blipFill>
        <p:spPr>
          <a:xfrm>
            <a:off x="8001000" y="-82440"/>
            <a:ext cx="104148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suslugi.ru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Rectangle 2"/>
          <p:cNvSpPr/>
          <p:nvPr/>
        </p:nvSpPr>
        <p:spPr>
          <a:xfrm>
            <a:off x="-182520" y="0"/>
            <a:ext cx="9326520" cy="5143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5280" bIns="35280" anchor="ctr">
            <a:noAutofit/>
          </a:bodyPr>
          <a:p>
            <a:pPr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9" name="Rectangle 3"/>
          <p:cNvSpPr/>
          <p:nvPr/>
        </p:nvSpPr>
        <p:spPr>
          <a:xfrm>
            <a:off x="4224240" y="4732200"/>
            <a:ext cx="25941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70" name="Picture 41" descr="флаг МЧС4"/>
          <p:cNvPicPr/>
          <p:nvPr/>
        </p:nvPicPr>
        <p:blipFill>
          <a:blip r:embed="rId1"/>
          <a:stretch/>
        </p:blipFill>
        <p:spPr>
          <a:xfrm>
            <a:off x="-357120" y="0"/>
            <a:ext cx="2571840" cy="1886040"/>
          </a:xfrm>
          <a:prstGeom prst="rect">
            <a:avLst/>
          </a:prstGeom>
          <a:ln w="0">
            <a:noFill/>
          </a:ln>
        </p:spPr>
      </p:pic>
      <p:sp>
        <p:nvSpPr>
          <p:cNvPr id="3671" name="Rectangle 40"/>
          <p:cNvSpPr/>
          <p:nvPr/>
        </p:nvSpPr>
        <p:spPr>
          <a:xfrm>
            <a:off x="-88920" y="2184480"/>
            <a:ext cx="91440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 ПОДАЧИ ЗАЯВЛЕНИЙ НА ПОРТАЛЕ ГОСУСЛУГ ДЛЯ ПОЛУЧЕНИЯ ГОСУДАРСТВЕННЫХ УСЛУГ ПРЕДСТАВЛЯЕМЫХ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ОЙ ИНСПЕКЦИЕЙ ПО МАЛОМЕРНЫМ СУДАМ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ЧС РОССИИ по РОСТОВСКОЙ ОБЛАСТИ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72" name="Рисунок 14" descr=""/>
          <p:cNvPicPr/>
          <p:nvPr/>
        </p:nvPicPr>
        <p:blipFill>
          <a:blip r:embed="rId2"/>
          <a:stretch/>
        </p:blipFill>
        <p:spPr>
          <a:xfrm>
            <a:off x="7496280" y="347760"/>
            <a:ext cx="1352520" cy="1195200"/>
          </a:xfrm>
          <a:prstGeom prst="rect">
            <a:avLst/>
          </a:prstGeom>
          <a:ln w="0">
            <a:noFill/>
          </a:ln>
        </p:spPr>
      </p:pic>
      <p:pic>
        <p:nvPicPr>
          <p:cNvPr id="3673" name="Рисунок 1" descr=""/>
          <p:cNvPicPr/>
          <p:nvPr/>
        </p:nvPicPr>
        <p:blipFill>
          <a:blip r:embed="rId3"/>
          <a:stretch/>
        </p:blipFill>
        <p:spPr>
          <a:xfrm>
            <a:off x="-88920" y="4438800"/>
            <a:ext cx="1060560" cy="58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Text Box 12"/>
          <p:cNvSpPr/>
          <p:nvPr/>
        </p:nvSpPr>
        <p:spPr>
          <a:xfrm>
            <a:off x="0" y="-7920"/>
            <a:ext cx="9144000" cy="696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 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22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23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2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409680" cy="411120"/>
          </a:xfrm>
          <a:prstGeom prst="rect">
            <a:avLst/>
          </a:prstGeom>
          <a:ln w="0">
            <a:noFill/>
          </a:ln>
        </p:spPr>
      </p:pic>
      <p:pic>
        <p:nvPicPr>
          <p:cNvPr id="3725" name="Рисунок 2" descr=""/>
          <p:cNvPicPr/>
          <p:nvPr/>
        </p:nvPicPr>
        <p:blipFill>
          <a:blip r:embed="rId2"/>
          <a:stretch/>
        </p:blipFill>
        <p:spPr>
          <a:xfrm>
            <a:off x="165240" y="739800"/>
            <a:ext cx="8813520" cy="4449600"/>
          </a:xfrm>
          <a:prstGeom prst="rect">
            <a:avLst/>
          </a:prstGeom>
          <a:ln w="0">
            <a:noFill/>
          </a:ln>
        </p:spPr>
      </p:pic>
      <p:sp>
        <p:nvSpPr>
          <p:cNvPr id="3726" name="Стрелка вправо 3"/>
          <p:cNvSpPr/>
          <p:nvPr/>
        </p:nvSpPr>
        <p:spPr>
          <a:xfrm>
            <a:off x="584280" y="3540240"/>
            <a:ext cx="1368360" cy="5652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Квитанция на оплату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Text Box 12"/>
          <p:cNvSpPr/>
          <p:nvPr/>
        </p:nvSpPr>
        <p:spPr>
          <a:xfrm>
            <a:off x="0" y="-7920"/>
            <a:ext cx="9144000" cy="6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 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Для получения государственной услуги в электронной форме необходимо зарегистрироваться в сети Интернет на Едином портале государственных и муниципальных услуг – </a:t>
            </a:r>
            <a:r>
              <a:rPr b="1" lang="ru-RU" sz="9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www.gosuslugi.ru</a:t>
            </a: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75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76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77" name="Рисунок 19" descr=""/>
          <p:cNvPicPr/>
          <p:nvPr/>
        </p:nvPicPr>
        <p:blipFill>
          <a:blip r:embed="rId2"/>
          <a:stretch/>
        </p:blipFill>
        <p:spPr>
          <a:xfrm>
            <a:off x="58680" y="662040"/>
            <a:ext cx="9007560" cy="4968720"/>
          </a:xfrm>
          <a:prstGeom prst="rect">
            <a:avLst/>
          </a:prstGeom>
          <a:ln w="0">
            <a:noFill/>
          </a:ln>
        </p:spPr>
      </p:pic>
      <p:pic>
        <p:nvPicPr>
          <p:cNvPr id="3678" name="Рисунок 1" descr=""/>
          <p:cNvPicPr/>
          <p:nvPr/>
        </p:nvPicPr>
        <p:blipFill>
          <a:blip r:embed="rId3"/>
          <a:stretch/>
        </p:blipFill>
        <p:spPr>
          <a:xfrm>
            <a:off x="0" y="12600"/>
            <a:ext cx="40968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Text Box 12"/>
          <p:cNvSpPr/>
          <p:nvPr/>
        </p:nvSpPr>
        <p:spPr>
          <a:xfrm>
            <a:off x="0" y="-7920"/>
            <a:ext cx="914400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0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1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82" name="Рисунок 5" descr=""/>
          <p:cNvPicPr/>
          <p:nvPr/>
        </p:nvPicPr>
        <p:blipFill>
          <a:blip r:embed="rId1"/>
          <a:stretch/>
        </p:blipFill>
        <p:spPr>
          <a:xfrm>
            <a:off x="79200" y="611280"/>
            <a:ext cx="8855280" cy="4532400"/>
          </a:xfrm>
          <a:prstGeom prst="rect">
            <a:avLst/>
          </a:prstGeom>
          <a:ln w="0">
            <a:noFill/>
          </a:ln>
        </p:spPr>
      </p:pic>
      <p:sp>
        <p:nvSpPr>
          <p:cNvPr id="3683" name="Стрелка влево 2"/>
          <p:cNvSpPr/>
          <p:nvPr/>
        </p:nvSpPr>
        <p:spPr>
          <a:xfrm>
            <a:off x="7083360" y="2401920"/>
            <a:ext cx="1397160" cy="52704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ВТОРИЗАЦИЯ НА ПОРТАЛЕ</a:t>
            </a:r>
            <a:endParaRPr b="1" lang="en-US" sz="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84" name="Рисунок 8" descr=""/>
          <p:cNvPicPr/>
          <p:nvPr/>
        </p:nvPicPr>
        <p:blipFill>
          <a:blip r:embed="rId2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Text Box 12"/>
          <p:cNvSpPr/>
          <p:nvPr/>
        </p:nvSpPr>
        <p:spPr>
          <a:xfrm>
            <a:off x="0" y="-7920"/>
            <a:ext cx="9144000" cy="72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услуги можно получить в электронном виде через единый портал государственных услуг по адресу: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https://www.gosuslugi.ru/structure/321889765</a:t>
            </a: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6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7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88" name="Рисунок 6" descr=""/>
          <p:cNvPicPr/>
          <p:nvPr/>
        </p:nvPicPr>
        <p:blipFill>
          <a:blip r:embed="rId1"/>
          <a:stretch/>
        </p:blipFill>
        <p:spPr>
          <a:xfrm>
            <a:off x="79200" y="725400"/>
            <a:ext cx="8967960" cy="4410000"/>
          </a:xfrm>
          <a:prstGeom prst="rect">
            <a:avLst/>
          </a:prstGeom>
          <a:ln w="0">
            <a:noFill/>
          </a:ln>
        </p:spPr>
      </p:pic>
      <p:sp>
        <p:nvSpPr>
          <p:cNvPr id="3689" name="Стрелка вправо 1"/>
          <p:cNvSpPr/>
          <p:nvPr/>
        </p:nvSpPr>
        <p:spPr>
          <a:xfrm>
            <a:off x="244440" y="1477800"/>
            <a:ext cx="1359000" cy="31932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90" name="Рисунок 7" descr=""/>
          <p:cNvPicPr/>
          <p:nvPr/>
        </p:nvPicPr>
        <p:blipFill>
          <a:blip r:embed="rId2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Text Box 12"/>
          <p:cNvSpPr/>
          <p:nvPr/>
        </p:nvSpPr>
        <p:spPr>
          <a:xfrm>
            <a:off x="0" y="-7920"/>
            <a:ext cx="9144000" cy="74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 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Здесь гражданин может подать заявку на получение необходимой услуги, выбрав для себя наиболее удобное время и дату, таким образом, значительно сокращается время, которое тратится на проведение проверки подлинности представленных сведений при непосредственном обращении в инспекторский участок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2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3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94" name="Рисунок 8" descr=""/>
          <p:cNvPicPr/>
          <p:nvPr/>
        </p:nvPicPr>
        <p:blipFill>
          <a:blip r:embed="rId1"/>
          <a:stretch/>
        </p:blipFill>
        <p:spPr>
          <a:xfrm>
            <a:off x="71280" y="746280"/>
            <a:ext cx="9072720" cy="4505040"/>
          </a:xfrm>
          <a:prstGeom prst="rect">
            <a:avLst/>
          </a:prstGeom>
          <a:ln w="0">
            <a:noFill/>
          </a:ln>
        </p:spPr>
      </p:pic>
      <p:sp>
        <p:nvSpPr>
          <p:cNvPr id="3695" name="Стрелка вправо 3"/>
          <p:cNvSpPr/>
          <p:nvPr/>
        </p:nvSpPr>
        <p:spPr>
          <a:xfrm>
            <a:off x="257040" y="3948120"/>
            <a:ext cx="1854360" cy="9000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ЫБОР ИНТЕРЕСУЮЩЕЙ УСЛУГИ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96" name="Рисунок 10" descr=""/>
          <p:cNvPicPr/>
          <p:nvPr/>
        </p:nvPicPr>
        <p:blipFill>
          <a:blip r:embed="rId2"/>
          <a:stretch/>
        </p:blipFill>
        <p:spPr>
          <a:xfrm>
            <a:off x="0" y="0"/>
            <a:ext cx="399960" cy="4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Text Box 12"/>
          <p:cNvSpPr/>
          <p:nvPr/>
        </p:nvSpPr>
        <p:spPr>
          <a:xfrm>
            <a:off x="0" y="-7920"/>
            <a:ext cx="914400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8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9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00" name="Рисунок 7" descr=""/>
          <p:cNvPicPr/>
          <p:nvPr/>
        </p:nvPicPr>
        <p:blipFill>
          <a:blip r:embed="rId1"/>
          <a:stretch/>
        </p:blipFill>
        <p:spPr>
          <a:xfrm>
            <a:off x="96840" y="596880"/>
            <a:ext cx="8962920" cy="4506840"/>
          </a:xfrm>
          <a:prstGeom prst="rect">
            <a:avLst/>
          </a:prstGeom>
          <a:ln w="0">
            <a:noFill/>
          </a:ln>
        </p:spPr>
      </p:pic>
      <p:sp>
        <p:nvSpPr>
          <p:cNvPr id="3701" name="Стрелка влево 1"/>
          <p:cNvSpPr/>
          <p:nvPr/>
        </p:nvSpPr>
        <p:spPr>
          <a:xfrm>
            <a:off x="5319720" y="2949480"/>
            <a:ext cx="2246400" cy="9208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ЫБОР УСЛУГИ СВЯЗАННОЙ С АТТЕСТАЦИЙ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02" name="Рисунок 10" descr=""/>
          <p:cNvPicPr/>
          <p:nvPr/>
        </p:nvPicPr>
        <p:blipFill>
          <a:blip r:embed="rId2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Text Box 12"/>
          <p:cNvSpPr/>
          <p:nvPr/>
        </p:nvSpPr>
        <p:spPr>
          <a:xfrm>
            <a:off x="0" y="-7920"/>
            <a:ext cx="914400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04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05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06" name="Рисунок 6" descr=""/>
          <p:cNvPicPr/>
          <p:nvPr/>
        </p:nvPicPr>
        <p:blipFill>
          <a:blip r:embed="rId1"/>
          <a:stretch/>
        </p:blipFill>
        <p:spPr>
          <a:xfrm>
            <a:off x="65160" y="596880"/>
            <a:ext cx="8962920" cy="4508640"/>
          </a:xfrm>
          <a:prstGeom prst="rect">
            <a:avLst/>
          </a:prstGeom>
          <a:ln w="0">
            <a:noFill/>
          </a:ln>
        </p:spPr>
      </p:pic>
      <p:sp>
        <p:nvSpPr>
          <p:cNvPr id="3707" name="Стрелка влево 2"/>
          <p:cNvSpPr/>
          <p:nvPr/>
        </p:nvSpPr>
        <p:spPr>
          <a:xfrm>
            <a:off x="6350040" y="2781360"/>
            <a:ext cx="2189160" cy="99072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ЫБОР УСЛУГИ СВЯЗАННОЙ С РЕГИСТРАЦИЕЙ МАЛОМЕРНЫХ СУДОВ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08" name="Рисунок 8" descr=""/>
          <p:cNvPicPr/>
          <p:nvPr/>
        </p:nvPicPr>
        <p:blipFill>
          <a:blip r:embed="rId2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Text Box 12"/>
          <p:cNvSpPr/>
          <p:nvPr/>
        </p:nvSpPr>
        <p:spPr>
          <a:xfrm>
            <a:off x="0" y="-7920"/>
            <a:ext cx="914400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0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1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12" name="Рисунок 8" descr=""/>
          <p:cNvPicPr/>
          <p:nvPr/>
        </p:nvPicPr>
        <p:blipFill>
          <a:blip r:embed="rId1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  <p:pic>
        <p:nvPicPr>
          <p:cNvPr id="3713" name="Рисунок 1" descr=""/>
          <p:cNvPicPr/>
          <p:nvPr/>
        </p:nvPicPr>
        <p:blipFill>
          <a:blip r:embed="rId2"/>
          <a:stretch/>
        </p:blipFill>
        <p:spPr>
          <a:xfrm>
            <a:off x="187200" y="628560"/>
            <a:ext cx="8683920" cy="4515120"/>
          </a:xfrm>
          <a:prstGeom prst="rect">
            <a:avLst/>
          </a:prstGeom>
          <a:ln w="0">
            <a:noFill/>
          </a:ln>
        </p:spPr>
      </p:pic>
      <p:sp>
        <p:nvSpPr>
          <p:cNvPr id="3714" name="Стрелка вправо 1"/>
          <p:cNvSpPr/>
          <p:nvPr/>
        </p:nvSpPr>
        <p:spPr>
          <a:xfrm>
            <a:off x="4765680" y="2104920"/>
            <a:ext cx="1243080" cy="457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Text Box 12"/>
          <p:cNvSpPr/>
          <p:nvPr/>
        </p:nvSpPr>
        <p:spPr>
          <a:xfrm>
            <a:off x="0" y="-7920"/>
            <a:ext cx="9144000" cy="696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 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Следуя размещенным там же пошаговым инструкциям, нужно выбрать необходимую вам государственную услугу. Затем отправить электронное заявление и необходимый перечень документов через портал государственных услуг. В дальнейшем Вы просто наблюдаете за ходом исполнения своего заявления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6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7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18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409680" cy="411120"/>
          </a:xfrm>
          <a:prstGeom prst="rect">
            <a:avLst/>
          </a:prstGeom>
          <a:ln w="0">
            <a:noFill/>
          </a:ln>
        </p:spPr>
      </p:pic>
      <p:pic>
        <p:nvPicPr>
          <p:cNvPr id="3719" name="Рисунок 2" descr=""/>
          <p:cNvPicPr/>
          <p:nvPr/>
        </p:nvPicPr>
        <p:blipFill>
          <a:blip r:embed="rId2"/>
          <a:stretch/>
        </p:blipFill>
        <p:spPr>
          <a:xfrm>
            <a:off x="0" y="696960"/>
            <a:ext cx="9007560" cy="4435560"/>
          </a:xfrm>
          <a:prstGeom prst="rect">
            <a:avLst/>
          </a:prstGeom>
          <a:ln w="0">
            <a:noFill/>
          </a:ln>
        </p:spPr>
      </p:pic>
      <p:sp>
        <p:nvSpPr>
          <p:cNvPr id="3720" name="Стрелка вправо 1"/>
          <p:cNvSpPr/>
          <p:nvPr/>
        </p:nvSpPr>
        <p:spPr>
          <a:xfrm>
            <a:off x="1757520" y="3238560"/>
            <a:ext cx="2981160" cy="747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ОСЛЕ ПРЕДСТАВЛЕНИЯ ВСЕХ УКАЗАННЫХ ДОКУМЕНТОВ ПОДАЕМ ЗАЯВЛЕНИЕ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41:39Z</dcterms:created>
  <dc:creator>16235</dc:creator>
  <dc:description/>
  <dc:language>en-US</dc:language>
  <cp:lastModifiedBy>Пк</cp:lastModifiedBy>
  <dcterms:modified xsi:type="dcterms:W3CDTF">2017-12-19T12:16:03Z</dcterms:modified>
  <cp:revision>5296</cp:revision>
  <dc:subject/>
  <dc:title>Слайд 1</dc:title>
</cp:coreProperties>
</file>