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2B33-E645-4025-B818-DA075E91C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F4C9-9F91-4506-AA2F-10898E118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954F-947D-4601-AC2A-89A0B346D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81E3-4D96-443D-920D-FA255FE9E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7CFA-60AC-4BEB-AE6C-D8204B8DDC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5DD3-8AC6-42CF-AC73-C6B0BA7DC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C081-24BA-44A8-BB11-9A7E9653B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7B53-0A4D-474A-A10E-287FA7F7F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813F-1176-47C2-BF0B-B9505CF7F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A1EF-25D3-42B2-B56E-B509FCBE2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AB87-F7B2-4B7F-94E2-C48FCA018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7C8B-76AE-48D3-9ECC-A4538F66E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6A6A-373A-40EA-AC1F-FD957992BB83}" type="slidenum"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8320" y="434880"/>
            <a:ext cx="623592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Процесс предоставления услуги</a:t>
            </a:r>
            <a:br>
              <a:rPr sz="2800"/>
            </a:br>
            <a:br>
              <a:rPr sz="2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 1.10.2011 г.</a:t>
            </a:r>
            <a:endParaRPr b="1" lang="en-US" sz="1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0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190D-752E-40E0-A978-AFCDCED84335}" type="slidenum"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2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1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F23B-2193-452B-B23B-E8BE5FC7DC7E}" type="slidenum"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200" spc="-1" strike="noStrike">
              <a:solidFill>
                <a:srgbClr val="605e5d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5052960" y="2701800"/>
            <a:ext cx="3467160" cy="240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243000" y="5072040"/>
            <a:ext cx="5829120" cy="1295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503280" y="1738440"/>
            <a:ext cx="4591080" cy="1133280"/>
          </a:xfrm>
          <a:prstGeom prst="rect">
            <a:avLst/>
          </a:prstGeom>
          <a:ln w="0">
            <a:noFill/>
          </a:ln>
        </p:spPr>
      </p:pic>
      <p:sp>
        <p:nvSpPr>
          <p:cNvPr id="45" name="Выгнутая влево стрелка 7"/>
          <p:cNvSpPr/>
          <p:nvPr/>
        </p:nvSpPr>
        <p:spPr>
          <a:xfrm rot="19927200">
            <a:off x="4186080" y="2720880"/>
            <a:ext cx="600120" cy="1470240"/>
          </a:xfrm>
          <a:custGeom>
            <a:avLst/>
            <a:gdLst>
              <a:gd name="textAreaLeft" fmla="*/ 80280 w 600120"/>
              <a:gd name="textAreaRight" fmla="*/ 519840 w 600120"/>
              <a:gd name="textAreaTop" fmla="*/ 309960 h 1470240"/>
              <a:gd name="textAreaBottom" fmla="*/ 1067760 h 147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08" stAng="-5400000" swAng="-5400000"/>
                <a:lnTo>
                  <a:pt x="0" y="11134"/>
                </a:lnTo>
                <a:arcTo wR="21600" hR="9108" stAng="10800000" swAng="-3062821"/>
                <a:lnTo>
                  <a:pt x="14631" y="21113"/>
                </a:lnTo>
                <a:lnTo>
                  <a:pt x="21600" y="19228"/>
                </a:lnTo>
                <a:lnTo>
                  <a:pt x="14631" y="16369"/>
                </a:lnTo>
                <a:lnTo>
                  <a:pt x="14631" y="17728"/>
                </a:lnTo>
                <a:arcTo wR="21600" hR="9108" stAng="7737179" swAng="2900710"/>
                <a:lnTo>
                  <a:pt x="134" y="10120"/>
                </a:lnTo>
                <a:arcTo wR="21600" hR="9108" stAng="-10637890" swAng="5237890"/>
                <a:close/>
              </a:path>
              <a:path fill="darkenLess" w="21600" h="21600">
                <a:moveTo>
                  <a:pt x="21600" y="0"/>
                </a:moveTo>
                <a:arcTo wR="21600" hR="9108" stAng="-5400000" swAng="-5400000"/>
                <a:lnTo>
                  <a:pt x="0" y="9108"/>
                </a:lnTo>
                <a:arcTo wR="21600" hR="9108" stAng="10800000" swAng="-162110"/>
                <a:lnTo>
                  <a:pt x="134" y="10120"/>
                </a:lnTo>
                <a:arcTo wR="21600" hR="9108" stAng="-10637890" swAng="5237890"/>
                <a:close/>
              </a:path>
            </a:pathLst>
          </a:cu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6" name="Выгнутая влево стрелка 8"/>
          <p:cNvSpPr/>
          <p:nvPr/>
        </p:nvSpPr>
        <p:spPr>
          <a:xfrm rot="20290800">
            <a:off x="4881240" y="4377960"/>
            <a:ext cx="563400" cy="1057320"/>
          </a:xfrm>
          <a:custGeom>
            <a:avLst/>
            <a:gdLst>
              <a:gd name="textAreaLeft" fmla="*/ 75240 w 563400"/>
              <a:gd name="textAreaRight" fmla="*/ 488160 w 563400"/>
              <a:gd name="textAreaTop" fmla="*/ 211320 h 1057320"/>
              <a:gd name="textAreaBottom" fmla="*/ 775440 h 10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2" stAng="-5400000" swAng="-5400000"/>
                <a:lnTo>
                  <a:pt x="0" y="11520"/>
                </a:lnTo>
                <a:arcTo wR="21600" hR="8642" stAng="10800000" swAng="-3429835"/>
                <a:lnTo>
                  <a:pt x="16200" y="21326"/>
                </a:lnTo>
                <a:lnTo>
                  <a:pt x="21600" y="18723"/>
                </a:lnTo>
                <a:lnTo>
                  <a:pt x="16200" y="15572"/>
                </a:lnTo>
                <a:lnTo>
                  <a:pt x="16200" y="17010"/>
                </a:lnTo>
                <a:arcTo wR="21600" hR="8642" stAng="7370165" swAng="3197921"/>
                <a:lnTo>
                  <a:pt x="302" y="10081"/>
                </a:lnTo>
                <a:arcTo wR="21600" hR="8642" stAng="-10568086" swAng="5168086"/>
                <a:close/>
              </a:path>
              <a:path fill="darkenLess" w="21600" h="21600">
                <a:moveTo>
                  <a:pt x="21600" y="0"/>
                </a:moveTo>
                <a:arcTo wR="21600" hR="8642" stAng="-5400000" swAng="-5400000"/>
                <a:lnTo>
                  <a:pt x="0" y="8642"/>
                </a:lnTo>
                <a:arcTo wR="21600" hR="8642" stAng="10800000" swAng="-231914"/>
                <a:lnTo>
                  <a:pt x="302" y="10081"/>
                </a:lnTo>
                <a:arcTo wR="21600" hR="8642" stAng="-10568086" swAng="5168086"/>
                <a:close/>
              </a:path>
            </a:pathLst>
          </a:cu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8320" y="44748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Процесс предоставления услуги</a:t>
            </a:r>
            <a:br>
              <a:rPr sz="2800"/>
            </a:br>
            <a:br>
              <a:rPr sz="2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1.10.2011 г.</a:t>
            </a:r>
            <a:endParaRPr b="1" lang="en-US" sz="1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7E5D-0B14-46C4-9402-26E500C1718C}" type="slidenum"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200" spc="-1" strike="noStrike">
              <a:solidFill>
                <a:srgbClr val="605e5d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352600" y="1031760"/>
            <a:ext cx="4124520" cy="214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703440" y="3475080"/>
            <a:ext cx="7683480" cy="3056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8"/>
          <p:cNvSpPr/>
          <p:nvPr/>
        </p:nvSpPr>
        <p:spPr>
          <a:xfrm>
            <a:off x="819000" y="3333600"/>
            <a:ext cx="7463160" cy="5040"/>
          </a:xfrm>
          <a:prstGeom prst="line">
            <a:avLst/>
          </a:prstGeom>
          <a:ln w="28440">
            <a:solidFill>
              <a:srgbClr val="f3811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3:43:38Z</dcterms:created>
  <dc:creator>Admin</dc:creator>
  <dc:description/>
  <dc:language>en-US</dc:language>
  <cp:lastModifiedBy>Admin</cp:lastModifiedBy>
  <dcterms:modified xsi:type="dcterms:W3CDTF">2012-02-16T13:43:56Z</dcterms:modified>
  <cp:revision>1</cp:revision>
  <dc:subject/>
  <dc:title>Процесс предоставления услуги  до 1.10.2011 г.</dc:title>
</cp:coreProperties>
</file>