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C582-040C-4B13-A7C7-BD2B9CBB2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39BD-9070-4415-8ECA-BDFD9CEDD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1D8E-38C4-4C5F-BB50-1F5885035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AE7F-8EA8-4842-B87B-1C6818888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42AA-19C9-4ACA-A0FD-349B7BFCC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6427-DC7D-4A7E-AA17-4E6E4C611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3CC6-E8EA-47A7-A720-57FC943ED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2255-8C50-4F80-91B2-696BA73B5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62D6-76EB-4CCD-ACE2-C3181E301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0C87-C120-44BD-81BC-4267017B1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3E9E-A732-4213-9A34-DE32E8CE1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CE68-6B25-4B9F-945C-DBE4B809C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6949-5A75-444E-9927-D9D7F6045E22}" type="slidenum"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8320" y="434880"/>
            <a:ext cx="62359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E5CA-8A0D-4379-97CE-87D1B362A1AC}" type="slidenum"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5638-231F-41B5-8ECF-CECB60E322FD}" type="slidenum"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605e5d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5052960" y="2701800"/>
            <a:ext cx="3467160" cy="240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43000" y="5072040"/>
            <a:ext cx="5829120" cy="129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503280" y="1738440"/>
            <a:ext cx="4591080" cy="1133280"/>
          </a:xfrm>
          <a:prstGeom prst="rect">
            <a:avLst/>
          </a:prstGeom>
          <a:ln w="0">
            <a:noFill/>
          </a:ln>
        </p:spPr>
      </p:pic>
      <p:sp>
        <p:nvSpPr>
          <p:cNvPr id="45" name="Выгнутая влево стрелка 7"/>
          <p:cNvSpPr/>
          <p:nvPr/>
        </p:nvSpPr>
        <p:spPr>
          <a:xfrm rot="19927200">
            <a:off x="4186080" y="2720880"/>
            <a:ext cx="600120" cy="1470240"/>
          </a:xfrm>
          <a:custGeom>
            <a:avLst/>
            <a:gdLst>
              <a:gd name="textAreaLeft" fmla="*/ 80280 w 600120"/>
              <a:gd name="textAreaRight" fmla="*/ 519840 w 600120"/>
              <a:gd name="textAreaTop" fmla="*/ 309960 h 1470240"/>
              <a:gd name="textAreaBottom" fmla="*/ 106776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08" stAng="-5400000" swAng="-5400000"/>
                <a:lnTo>
                  <a:pt x="0" y="11134"/>
                </a:lnTo>
                <a:arcTo wR="21600" hR="9108" stAng="10800000" swAng="-3062821"/>
                <a:lnTo>
                  <a:pt x="14631" y="21113"/>
                </a:lnTo>
                <a:lnTo>
                  <a:pt x="21600" y="19228"/>
                </a:lnTo>
                <a:lnTo>
                  <a:pt x="14631" y="16369"/>
                </a:lnTo>
                <a:lnTo>
                  <a:pt x="14631" y="17728"/>
                </a:lnTo>
                <a:arcTo wR="21600" hR="9108" stAng="7737179" swAng="2900710"/>
                <a:lnTo>
                  <a:pt x="134" y="10120"/>
                </a:lnTo>
                <a:arcTo wR="21600" hR="9108" stAng="-10637890" swAng="5237890"/>
                <a:close/>
              </a:path>
              <a:path fill="darkenLess" w="21600" h="21600">
                <a:moveTo>
                  <a:pt x="21600" y="0"/>
                </a:moveTo>
                <a:arcTo wR="21600" hR="9108" stAng="-5400000" swAng="-5400000"/>
                <a:lnTo>
                  <a:pt x="0" y="9108"/>
                </a:lnTo>
                <a:arcTo wR="21600" hR="9108" stAng="10800000" swAng="-162110"/>
                <a:lnTo>
                  <a:pt x="134" y="10120"/>
                </a:lnTo>
                <a:arcTo wR="21600" hR="9108" stAng="-10637890" swAng="5237890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" name="Выгнутая влево стрелка 8"/>
          <p:cNvSpPr/>
          <p:nvPr/>
        </p:nvSpPr>
        <p:spPr>
          <a:xfrm rot="20290800">
            <a:off x="4881240" y="4377960"/>
            <a:ext cx="563400" cy="1057320"/>
          </a:xfrm>
          <a:custGeom>
            <a:avLst/>
            <a:gdLst>
              <a:gd name="textAreaLeft" fmla="*/ 75240 w 563400"/>
              <a:gd name="textAreaRight" fmla="*/ 488160 w 563400"/>
              <a:gd name="textAreaTop" fmla="*/ 211320 h 1057320"/>
              <a:gd name="textAreaBottom" fmla="*/ 77544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2" stAng="-5400000" swAng="-5400000"/>
                <a:lnTo>
                  <a:pt x="0" y="11520"/>
                </a:lnTo>
                <a:arcTo wR="21600" hR="8642" stAng="10800000" swAng="-3429835"/>
                <a:lnTo>
                  <a:pt x="16200" y="21326"/>
                </a:lnTo>
                <a:lnTo>
                  <a:pt x="21600" y="18723"/>
                </a:lnTo>
                <a:lnTo>
                  <a:pt x="16200" y="15572"/>
                </a:lnTo>
                <a:lnTo>
                  <a:pt x="16200" y="17010"/>
                </a:lnTo>
                <a:arcTo wR="21600" hR="8642" stAng="7370165" swAng="3197921"/>
                <a:lnTo>
                  <a:pt x="302" y="10081"/>
                </a:lnTo>
                <a:arcTo wR="21600" hR="8642" stAng="-10568086" swAng="5168086"/>
                <a:close/>
              </a:path>
              <a:path fill="darkenLess" w="21600" h="21600">
                <a:moveTo>
                  <a:pt x="21600" y="0"/>
                </a:moveTo>
                <a:arcTo wR="21600" hR="8642" stAng="-5400000" swAng="-5400000"/>
                <a:lnTo>
                  <a:pt x="0" y="8642"/>
                </a:lnTo>
                <a:arcTo wR="21600" hR="8642" stAng="10800000" swAng="-231914"/>
                <a:lnTo>
                  <a:pt x="302" y="10081"/>
                </a:lnTo>
                <a:arcTo wR="21600" hR="8642" stAng="-10568086" swAng="5168086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8320" y="44748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341-92F6-4AF4-A72F-35CD1BD156BD}" type="slidenum"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200" spc="-1" strike="noStrike">
              <a:solidFill>
                <a:srgbClr val="605e5d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352600" y="1031760"/>
            <a:ext cx="4124520" cy="21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703440" y="3475080"/>
            <a:ext cx="7683480" cy="3056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8"/>
          <p:cNvSpPr/>
          <p:nvPr/>
        </p:nvSpPr>
        <p:spPr>
          <a:xfrm>
            <a:off x="819000" y="3333600"/>
            <a:ext cx="7463160" cy="5040"/>
          </a:xfrm>
          <a:prstGeom prst="line">
            <a:avLst/>
          </a:prstGeom>
          <a:ln w="28440">
            <a:solidFill>
              <a:srgbClr val="f381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43:38Z</dcterms:created>
  <dc:creator>Admin</dc:creator>
  <dc:description/>
  <dc:language>en-US</dc:language>
  <cp:lastModifiedBy>Admin</cp:lastModifiedBy>
  <dcterms:modified xsi:type="dcterms:W3CDTF">2012-02-16T13:43:56Z</dcterms:modified>
  <cp:revision>1</cp:revision>
  <dc:subject/>
  <dc:title>Процесс предоставления услуги  до 1.10.2011 г.</dc:title>
</cp:coreProperties>
</file>